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monstration of the frequency of dendro-dendritic and axo-dendritic contacts among CR-IR neurons at the light microscopic level. A, Low-power micrograph of a 250-μm-wide column of the CA1 region. CR-IR axons (arrowheads), dendrites, and somata can be found in all layers. The radially oriented processes often cross several laminar boundaries. Arrows with letters(B–G) identify those parts that are shown at higher magnification. B–G, High-power light micrographs of selected examples of dendro-dendritic (arrowheads) and axo-dendritic (arrows) contacts from the area shown inA. Note the dendro-dendritic contact in C where two dendrites run attached for more than 200 μm (contact continued in top of D). Scale bars: A, 50 μm;B–G, 1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ultiple contacts between CR-IR axons and dendrites. A, B, Two segments of a dendrite (cell 5 in Fig. 2 A) are shown at low power. The axon of cell 3 (of Fig. 2) climbs along the dendrite and establishes seven contacts (b 1–7 ) with it, via club-like (b 1–4 ) and “en passant” (b 5–7 ) terminals. C, Low-power electron micrograph of the dendritic segment shown in A, demonstrating the contacts formed by boutons b 1 and b 3 . D, The same dendritic segment from another section with bouton b 2 .E–H, Boutons 1, 2, and 4–7 are shown at higher magnification to form symmetrical synapses (arrows) on the same postsynaptic dendrite (cell 5). The synaptic cleft is not visible in the case of b 7 in this section but has been confirmed by goniometer. The accumulation of gold particles in the presynaptic axons and the postsynaptic dendrites clearly indicate their GABA immunoreactivity. However, because of the masking effect of the pre-embedding CR-immunoreaction endproduct, the GABA immunoreactivity is weaker in these elements than in unstained profiles (see Figs. 5,6). Scale bars: A, B, 10 μm; C,D, 1 μm; E, 0.5 μm; F,G, 0.25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56242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ypes of connections established by CR-IR cells.A, B, Camera lucida drawing of CR-containing inhibitory interneurons from the CA1 area (2–3 inA) and the dentate gyrus (1 in B). Cell bodies and dendrites are drawn in black; axons are drawn in red. The cells were reconstructed from six consecutive, 80-μm-thick sections. A characteristic property of these cells is that they often form dendro-dendritic and axo-dendritic contacts with each other. Contacting dendrites are shown in the drawings by dotted outlines. Multiple orsingle arrowheads indicate points where the dendrites ran parallel in close contact, or just touched each other once. An average cell forms dendro-dendritic contact with the dendritic tree of three to seven other CR-IR neurons. Axo-dendritic contacts on cells 1–4 are labeled with arrows. The number of contacts from different CR-IR axons varies between 2 and 10. In many cases, the same axon forms two or more contacts on the same dendrite. The axon of cell 3 formed multiple contacts (3 and 4, open arrows) on the CR-IR dendrite labeled 5. Note that the same two cells formed dendro-dendritic contacts as well. The axon of cell 2 formed a perisomatic basket around a CR-negative cell body in stratum radiatum (open arrows). Because of the limit of photographical reproduction, the axon had to be drawn thicker, and some boutons had to be omitted for the sake of clarity when preparing the illustration.C, Dendro-dendritic connections of a cluster of 15 CR-IR neurons. In the diagram, the cell bodies are represented bycircles at their appropriate location within the section. Only those dendritic branches are indicated (simple lines), which contacted other dendrites. Multiple or single dendro-dendritic contacts are indicated by parallel red lines or by red crosses, respectively. Dashed circles are attached to those dendrites that ran out of the series of sections. D, The same cluster represented in a graph form. Double andsingle lines indicate multiple and single contacts. Reconstruction of the cluster was started from cell 5. Neurons whose entire dendritic tree was checked for contacts are labeled bystars. Open circles indicate those cells in which some of the dendrites (or even the soma) were missing from the series of six sections. This means that the size of an intact cluster can be much larger than 15. E–G, CR-IR axons (black) innervate, via multiple contacts (arrowheads), calbindin D28k-containing interneurons (E, G), as well as VIP-immunoreactive basket cells (F). Scale bars:A, C, 200 μm; E–G, 1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ltrastructure of dendro-dendritic contacts between CR-IR dendrites. In A, C, and D, zonula adherentia (arrowheads) are formed between the contacting dendrites. In C and D, one of the CR-IR dendrites receives an additional axo-dendritic contact (white arrow, symmetrical synapse), next to the punctum adherens, from CR-IR axon terminals. The dendrites also receive asymmetrical synapses from unlabeled terminals (curved white and black arrowin A). The membrane segments labeled with double arrowheads in B appear to form a gap junction. However, because of the diamino-benzidine precipitate on the membranes, the type of the specialization is equivocal. Scale bars: A,B, 0.5 μm; C, D, 0.25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ABAergic dendrites are the postsynaptic targets of CR-IR axon terminals in the CA1 and CA3 subfield. A, Three boutons (b 1–3 ) of cell 2 (of Fig. 2) are shown in the light micrograph. B–D, Examination of the three boutons in the electron microscope revealed that they contact the same GABA-positive postsynaptic dendrite. As shown in the two consecutive sections of boutons 1 and 2 (B, C) and of bouton 3 (D), the CR-IR axon terminals formed symmetrical synapses (arrows) with the GABA-containing dendrite (d G ). E, F, GABA-positive axon terminal of cell 1 in Figure 2 B. The CR-containing axon is shown in two consecutive sections, forming a symmetrical synapse (arrow) on a GABA-positive dendrite (d G ) in stratum moleculare. Asterisksand a star mark GABA-negative and GABA-positive elements in the neuropil. Scale bars: A, 10 μm; B–F, 0.5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ght and electron microscopic demonstration of multiple contacts between CR-IR axons and a VIP-IR basket cell. Four of the numerous (n = 34) CR-IR axon terminals (b 1–4 in A and B, labeled by dense DAB/Ni precipitate) are shown to form symmetrical synapses in the perisomatic region of a VIP-IR basket cell (outlined by the weaker DAB precipitate). The cell was located at the stratum pyramidale/stratum oriens border (the same cell is shown in Fig.2 F in color). Invaginations on the nuclear membrane (arrows in B) are characteristic features of GABAergic interneurons. The high-power electron micrographs inC and D show two symmetrical synapses (arrows) formed by boutons b 1 andb 2 in nearby sections. Scale bars: A, 10 μm; B, 1 μm; C, D, 0.5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argets of unidentified CR-IR axons in stratum lacunosum-moleculare of the CA1 subfield. In this area, a majority of immunoreactive axonal profiles were either myelinated (curved arrows in E) or were preterminal axons (arrowheads in E), without terminal enlargement. When CR-IR axons formed synaptic varicosities (∼30% of the profiles), two types of terminals could be distinguished (∼15–15%). In half of the cases, GABA-positive presynaptic boutons formed symmetrical synapses (arrows in A andB) on GABA-positive dendrites (d G ). In the other half of the cases, GABA-negative CR-positive terminals formed characteristic asymmetrical synapses with pronounced postsynaptic densities (arrows in C andD) on GABA-negative pyramidal cell dendrites (d P ). The ultrastructure of these synapses was similar to those formed by the CR-containing terminals originating from the nucleus reuniens thalami. Scale bars: A–D, 0.5 μm;E, 1 μ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ppocampal microcircuits consist of three major components: (1) the principal cells (gray cells) account for the majority of cortical cells and form long-range as well as local, excitatory connections; (2) diverse groups of inhibitory cells (different hatching), which control the activity of principal cells by exerting inhibition on different somato-dendritic domains; and (3) “disinhibitory” neurons (open cells). The CR-IR “disinhibitory” neurons are massively interconnected by dendro-dendritic (parallel bars on their dendrites) and axo-dendritic contacts with each other. As a result of mutual synaptic interconnection and dendritic coupling, the activity of these neurons is likely to become rhythmic and synchronized. This oscillation is then conveyed to large populations of pyramidal cells via different inhibitory cell populations. Both dendritic (CB-IR cells) and perisomatic (VIP/CCK-IR cells) inhibition of principal cells may be synchronized in this manner. It is important to note here that, for the sake of clarity, several components of the hippocampal inhibitory circuitry have been ignored to obtain this diagram, which is intended to summarize the present findings. Other subsets of inhibitory cells (e.g., conventional basket cells) are also known to provide input to interneurons, although their major targets remain pyramidal cells.CR, Calretinin; CB, calbindin D28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terneurons Containing Calretinin Are Specialized to Control Other Interneurons in the Rat Hippocamp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ttila I. Gulyás, Norbert Hájos, and Tamás F. Freun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10):3397-341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199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monstration of the frequency of dendro-dendritic and axo-dendritic contacts among CR-IR neurons at the light microscopic level.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981160" y="1079640"/>
            <a:ext cx="4123080" cy="5394240"/>
          </a:xfrm>
          <a:prstGeom prst="rect">
            <a:avLst/>
          </a:prstGeom>
          <a:ln w="0">
            <a:noFill/>
          </a:ln>
        </p:spPr>
      </p:pic>
      <p:sp>
        <p:nvSpPr>
          <p:cNvPr id="49" name=""/>
          <p:cNvSpPr/>
          <p:nvPr/>
        </p:nvSpPr>
        <p:spPr>
          <a:xfrm>
            <a:off x="2981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ultiple contacts between CR-IR axons and dendrit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133800" y="1079640"/>
            <a:ext cx="3816360" cy="5394240"/>
          </a:xfrm>
          <a:prstGeom prst="rect">
            <a:avLst/>
          </a:prstGeom>
          <a:ln w="0">
            <a:noFill/>
          </a:ln>
        </p:spPr>
      </p:pic>
      <p:sp>
        <p:nvSpPr>
          <p:cNvPr id="54" name=""/>
          <p:cNvSpPr/>
          <p:nvPr/>
        </p:nvSpPr>
        <p:spPr>
          <a:xfrm>
            <a:off x="3133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ypes of connections established by CR-IR cells.A, B, Camera lucida drawing of CR-containing inhibitory interneurons from the CA1 area (2–3 inA) and the dentate gyrus (1 in B).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836800" y="1079640"/>
            <a:ext cx="4413240" cy="5394240"/>
          </a:xfrm>
          <a:prstGeom prst="rect">
            <a:avLst/>
          </a:prstGeom>
          <a:ln w="0">
            <a:noFill/>
          </a:ln>
        </p:spPr>
      </p:pic>
      <p:sp>
        <p:nvSpPr>
          <p:cNvPr id="59" name=""/>
          <p:cNvSpPr/>
          <p:nvPr/>
        </p:nvSpPr>
        <p:spPr>
          <a:xfrm>
            <a:off x="2836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ltrastructure of dendro-dendritic contacts between CR-IR dendrit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48120" y="1079640"/>
            <a:ext cx="3989160" cy="5394240"/>
          </a:xfrm>
          <a:prstGeom prst="rect">
            <a:avLst/>
          </a:prstGeom>
          <a:ln w="0">
            <a:noFill/>
          </a:ln>
        </p:spPr>
      </p:pic>
      <p:sp>
        <p:nvSpPr>
          <p:cNvPr id="64" name=""/>
          <p:cNvSpPr/>
          <p:nvPr/>
        </p:nvSpPr>
        <p:spPr>
          <a:xfrm>
            <a:off x="304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ABAergic dendrites are the postsynaptic targets of CR-IR axon terminals in the CA1 and CA3 subfield.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987640" y="1079640"/>
            <a:ext cx="4110120" cy="5394240"/>
          </a:xfrm>
          <a:prstGeom prst="rect">
            <a:avLst/>
          </a:prstGeom>
          <a:ln w="0">
            <a:noFill/>
          </a:ln>
        </p:spPr>
      </p:pic>
      <p:sp>
        <p:nvSpPr>
          <p:cNvPr id="69" name=""/>
          <p:cNvSpPr/>
          <p:nvPr/>
        </p:nvSpPr>
        <p:spPr>
          <a:xfrm>
            <a:off x="2987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ght and electron microscopic demonstration of multiple contacts between CR-IR axons and a VIP-IR basket cell.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067200" y="1079640"/>
            <a:ext cx="3951000" cy="5394240"/>
          </a:xfrm>
          <a:prstGeom prst="rect">
            <a:avLst/>
          </a:prstGeom>
          <a:ln w="0">
            <a:noFill/>
          </a:ln>
        </p:spPr>
      </p:pic>
      <p:sp>
        <p:nvSpPr>
          <p:cNvPr id="74" name=""/>
          <p:cNvSpPr/>
          <p:nvPr/>
        </p:nvSpPr>
        <p:spPr>
          <a:xfrm>
            <a:off x="3067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argets of unidentified CR-IR axons in stratum lacunosum-moleculare of the CA1 subfield.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054240" y="1079640"/>
            <a:ext cx="3975120" cy="5394240"/>
          </a:xfrm>
          <a:prstGeom prst="rect">
            <a:avLst/>
          </a:prstGeom>
          <a:ln w="0">
            <a:noFill/>
          </a:ln>
        </p:spPr>
      </p:pic>
      <p:sp>
        <p:nvSpPr>
          <p:cNvPr id="79" name=""/>
          <p:cNvSpPr/>
          <p:nvPr/>
        </p:nvSpPr>
        <p:spPr>
          <a:xfrm>
            <a:off x="3054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ppocampal microcircuits consist of three major components: (1) the principal cells (gray cells) account for the majority of cortical cells and form long-range as well as local, excitatory connections; (2) diverse groups of inhibitory cells (different hatc...</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1136520" y="1079640"/>
            <a:ext cx="7812360" cy="5394240"/>
          </a:xfrm>
          <a:prstGeom prst="rect">
            <a:avLst/>
          </a:prstGeom>
          <a:ln w="0">
            <a:noFill/>
          </a:ln>
        </p:spPr>
      </p:pic>
      <p:sp>
        <p:nvSpPr>
          <p:cNvPr id="84" name=""/>
          <p:cNvSpPr/>
          <p:nvPr/>
        </p:nvSpPr>
        <p:spPr>
          <a:xfrm>
            <a:off x="1136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ttila I. Gulyás et al. J. Neurosci. 1996;16:3397-341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