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nhanced paired-pulse inhibition in hippocampal slices from KA-treated rats 2 weeks after seizures.A, Field population spikes (PS) recorded in the stratum granulosum elicited by pairs of PP stimulation. The three ISIs shown demonstrate paired-pulse early inhibition (10 msec), intermediate facilitation (50 msec), and late inhibition (500 msec) in control slices. Enhanced inhibition after KA status is apparent as a marked decrease in amplitude of the second response (PS2), compared with the first (PS1), and a complete loss of paired-pulse facilitation. (Closed circles denote truncated stimulus artifacts.) B, Paired-pulse profile from control (open circles) and KA-treated rats 2 weeks after seizures (closed circles). The percent change in the second population spike (PS2) amplitude compared with the first (PS1) (mean ± SEM) is presented at each interstimulus interval tested. The dotted line marks no change in the amplitude of the second response compared with the first (PS2 = PS1). Points above the dotted line represent facilitation, whereas values below indicate inhibition. Control slices (n = 29) showed early (10–30 msec) and late (120–6000 msec) paired-pulse inhibition, separated by paired-pulse facilitation (30–120 msec). In contrast, hippocampal slices from KA-treated rats (n = 21) showed enhanced paired-pulse inhibition at intervals from 10 to 500 msec (asterisks, one-way ANOVA, p &lt; 0.05, compared with contro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current inhibition on granule cells was reduced by paired mossy fiber stimulation. Disinhibition of recurrent inhibition was measured as a reduction in the inhibitory effect on a PP-evoked population spike. A, Field potentials evoked by orthodromic stimulation of the PP (PP) alone and an identical PP stimulation preceded by a mossy fiber stimulus (MF) to illustrate mossy fiber-evoked inhibition of the population spike. The interval between the MF and PP stimuli was 5 msec, which produced a 50% reduction in the population spike amplitude. Stimulus artifacts have been truncated. B, Disinhibition of recurrent inhibition was produced with pairs of MF stimuli. Here, MF stimuli are separated by 200 msec, which reduces inhibition on the test population spike. Compare amplitude of the test PP-evoked population spike with that in the MF–PP pair inA. Stimulus artifacts have been truncated. C, The time course of disinhibition of recurrent inhibition in slices from controls (open circles, n = 17) versus KA-treated rats (closed circles, n = 20). Plot is of the mean ratios ± SEM of the amplitudes of the population spike in the MF–PP pair preceded by an initial MF stimulus (as in B) to the population spike in a MF–PP pair alone (as in A). Slices from KA-treated rats showed significantly reduced disinhibition at ISIs ranging from 30 to 120 msec (asterisks, p &lt; 0.05, one-way ANOVA, compared with control sli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ynaptic reorganization and cell loss 2 weeks after KA-induced status epilepticus (KA).A, B, Timm silver sulfide stain for mossy fiber axonal terminals. In controls (A), positive Timm staining (dark granular stain) demonstrates granule cell axonal termination in the hilus and proximal dendrites of CA3 pyramidal cells. Two weeks after KA-induced status epilepticus (B), aberrant Timm staining (arrows) is evident in supragranular layers throughout the dentate crests. C, D, Thionin staining shows cell bodies of dentate granule cells and pyramidal neurons of the hippocampus (C). KA-treated rats (D) have marked cell loss in area CA3 and the hilus 2 weeks after seizures (arrow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GABAA receptor antagonist bicuculline (10 μm) blocked early paired-pulse inhibition in both control slices (open circles, n = 20) and slices from KA-treated rats (closed circles, n = 30) (mean ± SEM PS2/PS1. The blockade of early inhibition unmasked equal paired-pulse facilitation in both groups, but late, GABAB receptor-mediated inhibition in slices from KA-treated rats still was enhanced significantly compared with controls (asterisks, p &lt; 0.05, one-way ANOVA; points with no error bars had SEMs smaller than symbol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GABAB receptor antagonist CGP 35348 acted as a blocker of presynaptic GABAB autoreceptors in control slices, but was largely ineffective in slices from KA-treated rats.A, CGP 35348 (400 μm) increased early and late paired-pulse inhibition significantly in control slices at ISIs of 30 msec to 1 sec. Open circles graph control paired-pulse profiles (n = 29), and closed circles are from control slices perfused with CGP 35348 (400 μm) (n = 26, asterisks, p &lt; 0.05, compared with untreated controls). B, In slices from KA-treated rats, CGP 35348 enhanced only early inhibition, ISIs of 20–30 msec (closed circles = CGP 35348 treated, n = 25; open circles = untreated, n = 21;asterisks, p &lt; 0.05, compared with controls). In contrast to control slices, CGP 35348 had no significant effect on late paired-pulse inhibition after KA-induced seizur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GABAB receptor antagonist CGP 35348 (400 μm) reduced an early component of disinhibition. A, Control recurrent disinhibition (open circles, n = 17) and disinhibition in slices perfused in CGP 35348 (closed circles, n = 12). An early component of disinhibition in control slices (30–120 msec) was blocked by CGP 35348 (asterisks, p &lt; 0.05). B, Disinhibition of recurrent inhibition in slices from KA-treated rats (open circles, n = 20) and disinhibition in slices from KA-treated rats in the presence of CGP 35348 (closed circles, n = 18). Slices from KA-treated rats also show a significant reduction in disinhibition at intervals of 30–120 msec (asterisks,p &lt; 0.05).</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ntracellular recordings of GABAA IPSPs from dentate granule cells.A, Intracellularly recorded monosynaptic IPSPs at different holding potentials induced by proximal stimulation of the stratum granulosum in the presence CNQX (10 μm) and D-APV (40 μm). The early component reversed at −75 mV and was blocked completely by bicuculline (10 μm). B, The amplitude of GABAA IPSPs at various holding potentials from two representative cells, control (open circles) and after KA-induced status epilepticus (closed circles). Although current clamp recording precluded direct comparison, IPSP amplitudes were consistently similar between group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sinhibition of monosynaptic IPSPs in dentate granule cells (holding potential = −100 mV). A, Overlaid traces from 17 paired-pulse trials with ISIs ranging from 50 to 900 msec. The amplitude of the second IPSP was depressed compared with the first at all ISIs in slices from control and KA-treated rats. Seven-point smoothing was done to limit noise for overlaying traces. B, Paired-pulse profile of suppression of monosynaptic IPSPs at ISIs ranging from 30 msec to 9 sec. There was no significant difference in the monosynaptic disinhibition between controls (open circles,n = 9) and slices from KA-treated rats (closed circles, n = 13).</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Kainic Acid-Induced Seizures Enhance Dentate Gyrus Inhibition by Downregulation of GABA</a:t>
            </a:r>
            <a:r>
              <a:rPr b="1" lang="en-GB" sz="2400" spc="-1" strike="noStrike" baseline="-33000">
                <a:solidFill>
                  <a:srgbClr val="000000"/>
                </a:solidFill>
                <a:latin typeface="Arial"/>
              </a:rPr>
              <a:t>B</a:t>
            </a:r>
            <a:r>
              <a:rPr b="1" lang="en-GB" sz="2400" spc="-1" strike="noStrike">
                <a:solidFill>
                  <a:srgbClr val="000000"/>
                </a:solidFill>
                <a:latin typeface="Arial"/>
              </a:rPr>
              <a:t> Receptor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Kurt Z. Haas, Ellen F. Sperber, Solomon L. Moshé, and Patric K. Stanto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6(13):4250-4260</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uly 1, 1996</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nhanced paired-pulse inhibition in hippocampal slices from KA-treated rats 2 weeks after seizures.A, Field population spikes (PS) recorded in the stratum granulosum elicited by pairs of PP stimulation.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3116160" y="1079640"/>
            <a:ext cx="3851280" cy="5394240"/>
          </a:xfrm>
          <a:prstGeom prst="rect">
            <a:avLst/>
          </a:prstGeom>
          <a:ln w="0">
            <a:noFill/>
          </a:ln>
        </p:spPr>
      </p:pic>
      <p:sp>
        <p:nvSpPr>
          <p:cNvPr id="49" name=""/>
          <p:cNvSpPr/>
          <p:nvPr/>
        </p:nvSpPr>
        <p:spPr>
          <a:xfrm>
            <a:off x="31161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urt Z. Haas et al. J. Neurosci. 1996;16:4250-4260</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current inhibition on granule cells was reduced by paired mossy fiber stimulation.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3060720" y="1079640"/>
            <a:ext cx="3965400" cy="5394240"/>
          </a:xfrm>
          <a:prstGeom prst="rect">
            <a:avLst/>
          </a:prstGeom>
          <a:ln w="0">
            <a:noFill/>
          </a:ln>
        </p:spPr>
      </p:pic>
      <p:sp>
        <p:nvSpPr>
          <p:cNvPr id="54" name=""/>
          <p:cNvSpPr/>
          <p:nvPr/>
        </p:nvSpPr>
        <p:spPr>
          <a:xfrm>
            <a:off x="30607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urt Z. Haas et al. J. Neurosci. 1996;16:4250-4260</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ynaptic reorganization and cell loss 2 weeks after KA-induced status epilepticus (KA).A, B, Timm silver sulfide stain for mossy fiber axonal terminal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1393920" y="1079640"/>
            <a:ext cx="7297560" cy="5394240"/>
          </a:xfrm>
          <a:prstGeom prst="rect">
            <a:avLst/>
          </a:prstGeom>
          <a:ln w="0">
            <a:noFill/>
          </a:ln>
        </p:spPr>
      </p:pic>
      <p:sp>
        <p:nvSpPr>
          <p:cNvPr id="59" name=""/>
          <p:cNvSpPr/>
          <p:nvPr/>
        </p:nvSpPr>
        <p:spPr>
          <a:xfrm>
            <a:off x="13939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urt Z. Haas et al. J. Neurosci. 1996;16:4250-4260</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GABAA receptor antagonist bicuculline (10 μm) blocked early paired-pulse inhibition in both control slices (open circles, n = 20) and slices from KA-treated rats (closed circles, n = 30) (mean ± SEM PS2/PS1.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1179360" y="1079640"/>
            <a:ext cx="7726680" cy="5394240"/>
          </a:xfrm>
          <a:prstGeom prst="rect">
            <a:avLst/>
          </a:prstGeom>
          <a:ln w="0">
            <a:noFill/>
          </a:ln>
        </p:spPr>
      </p:pic>
      <p:sp>
        <p:nvSpPr>
          <p:cNvPr id="64" name=""/>
          <p:cNvSpPr/>
          <p:nvPr/>
        </p:nvSpPr>
        <p:spPr>
          <a:xfrm>
            <a:off x="11793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urt Z. Haas et al. J. Neurosci. 1996;16:4250-4260</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GABAB receptor antagonist CGP 35348 acted as a blocker of presynaptic GABAB autoreceptors in control slices, but was largely ineffective in slices from KA-treated rats.A, CGP 35348 (400 μm) increased early and late paired-pulse inhibition significantly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3405240" y="1079640"/>
            <a:ext cx="3274920" cy="5394240"/>
          </a:xfrm>
          <a:prstGeom prst="rect">
            <a:avLst/>
          </a:prstGeom>
          <a:ln w="0">
            <a:noFill/>
          </a:ln>
        </p:spPr>
      </p:pic>
      <p:sp>
        <p:nvSpPr>
          <p:cNvPr id="69" name=""/>
          <p:cNvSpPr/>
          <p:nvPr/>
        </p:nvSpPr>
        <p:spPr>
          <a:xfrm>
            <a:off x="3405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urt Z. Haas et al. J. Neurosci. 1996;16:4250-4260</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GABAB receptor antagonist CGP 35348 (400 μm) reduced an early component of disinhibition.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3382920" y="1079640"/>
            <a:ext cx="3321000" cy="5394240"/>
          </a:xfrm>
          <a:prstGeom prst="rect">
            <a:avLst/>
          </a:prstGeom>
          <a:ln w="0">
            <a:noFill/>
          </a:ln>
        </p:spPr>
      </p:pic>
      <p:sp>
        <p:nvSpPr>
          <p:cNvPr id="74" name=""/>
          <p:cNvSpPr/>
          <p:nvPr/>
        </p:nvSpPr>
        <p:spPr>
          <a:xfrm>
            <a:off x="33829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urt Z. Haas et al. J. Neurosci. 1996;16:4250-4260</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tracellular recordings of GABAA IPSPs from dentate granule cells.A, Intracellularly recorded monosynaptic IPSPs at different holding potentials induced by proximal stimulation of the stratum granulosum in the presence CNQX (10 μm) and D-APV (40 μm).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739800" y="1650960"/>
            <a:ext cx="8604360" cy="4249800"/>
          </a:xfrm>
          <a:prstGeom prst="rect">
            <a:avLst/>
          </a:prstGeom>
          <a:ln w="0">
            <a:noFill/>
          </a:ln>
        </p:spPr>
      </p:pic>
      <p:sp>
        <p:nvSpPr>
          <p:cNvPr id="7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urt Z. Haas et al. J. Neurosci. 1996;16:4250-4260</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sinhibition of monosynaptic IPSPs in dentate granule cells (holding potential = −100 mV).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3706920" y="1079640"/>
            <a:ext cx="2673360" cy="5394240"/>
          </a:xfrm>
          <a:prstGeom prst="rect">
            <a:avLst/>
          </a:prstGeom>
          <a:ln w="0">
            <a:noFill/>
          </a:ln>
        </p:spPr>
      </p:pic>
      <p:sp>
        <p:nvSpPr>
          <p:cNvPr id="84" name=""/>
          <p:cNvSpPr/>
          <p:nvPr/>
        </p:nvSpPr>
        <p:spPr>
          <a:xfrm>
            <a:off x="37069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urt Z. Haas et al. J. Neurosci. 1996;16:4250-4260</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