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1/D5 agonist (+)bromo-APB facilitates early LTP of fEPSP in CA1 hippocampal region. This is an example of the general experimental design used in this paper. Both pathways are alternately stimulated at 0.1 Hz. First, LTP was evoked by a tetanus onPathway #1 in control ACSF [0.022% DMSO solution in ACSF was applied before this tetanus, because it served as a vehicle for a subsequent (+)bromo-APB application ((+)Br-APB)]. Thirty-five minutes later, the D1/D5 agonist (+)bromo-APB (5 μm) was perfused for 5 min, and a tetanus was then given on Pathway #2. The potentiation was larger than in control. Inserts compare fEPSPs before and 30 min after the tetanus in control (a, b) and after drug application (c, d). Application time is shown by filled vertical columns; tetani are indicated by thearrows. We randomly varied whether control or test substances were given first. The amplitude of the fiber volley (Fibre volley, lower traces in pairs), an indicator of the number of axons stimulated, was not affected by vehicle or dru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1/D5 dopamine agonist (+)bromo-APB increases early LTP, whereas inactive enantiomer (−)bromo-APB is ineffective. For graphic presentation, fEPSPs were collected in 1 min blocks; maximal slopes were calculated and then normalized relative to the baseline average 15 min before the tetanus. The time of drug application is marked by the horizontal bar, and the moment of tetanus is indicated by the small arrow. Only averaged data (mean ± SEM) are presented. A, Summary of five experiments comparing the magnitude of LTP on the same slices with vehicle (one pathway) and after the perfusion of active enantiomer of D1/D5 dopamine agonist (+)Bromo-APB (5 μm). B, Inactive enantiomer of D1/D5 dopamine agonist (−)Bromo-APB does not affect early LTP induction. Averaged data (n = 4).</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1/D5 dopamine antagonist (+)SCH 23390 decreases early LTP in control slices, whereas inactive enantiomer (−)SCH 23388 is ineffective. Calculation procedures and markings as in Figure 2.A, Summary of seven similar experiments comparing the magnitude of LTP on the same slices in control conditions and after the perfusion of an active enantiomer of the antagonist (+)SCH 23390 (5 μm). B, Inactive enantiomer of D1/D5 dopamine antagonist (−)SCH 23388does not affect early LTP (n = 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techolamine depletion decreases LTP. Forskolin application restores LTP to control level. Calculations and markings are as in Figure 2. Note that Depletion andDepletion + Forskolin experiments were performed on the same slice (n = 5), whereas Controlwas taken from nondepleted rats of the same age and carried out under the same conditions (n = 5). All experiments were performed within a 1.5 week period without interruption by other experiments. We did not note any differences in slice condition, fEPSP threshold or amplitude, or population spike threshold between control and depleted sl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 depleted slices, D1/D5 agonist 6-chloro-PB substantially increases early LTP. The D1/D5 antagonist (+)SCH 23390 blocks the agonist effect. Averaged data (mean ± SEM). Calculations and markings are as in Figure 2. A, The D1/D5 agonist 6-chloro-PB (6-Cl-PB), 10 μm, facilitates early LTP on depleted slices (n = 4). B, The D1/D5 antagonist (+)SCH 23390 (+SCH 23390), 5 μm(gray bar), blocks 6-chloro-PB-dependent increase in early LTP (n = 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ther D1/D5 agonists and the adenylyl cyclase stimulator forskolin also enhance early LTP. All drugs were applied for 5 min before the tetanus and washed out immediately after.Columns represent the results of post hocpaired t test after two-way ANOVA for repeated measurements (% of LTP after drug application minus % of LTP in control input on the same slice) for the baseline and four 5 min periods after the tetanus. The time of drug application is marked by the horizontal bar, and the moment of tetanus is indicated by the small arrow. F,p, and n values for each drug are listed in Results. Levels of significance:○ p &lt; 0.1; *p &lt; 0.05; **p &lt; 0.0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1/D5 antagonist is ineffective in depleted slices, whereas the LTP-facilitating effect of D1/D5 agonist is enhanced. Calculation procedures and markings as in Figure 3. All data points are shown. A, The active form of D1/D5 antagonist(+)SCH 23390 (5 μm; n= 7) significantly decreases early LTP in control slices but not in depleted slices (n = 4). B, D1/D5 agonist facilitates the induction of LTP. The effect is stronger in depleted slices (n = 4; df = 1;F = 56.815) than in control conditions (n = 4; df = 1; F = 12.33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1/D5 Dopamine Receptor Activation Increases the Magnitude of Early Long-Term Potentiation at CA1 Hippocampal Synaps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Nonna A. Otmakhova, and John E. Lisma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6(23):7478-748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 199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1/D5 agonist (+)bromo-APB facilitates early LTP of fEPSP in CA1 hippocampal reg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355760"/>
            <a:ext cx="8604360" cy="4842000"/>
          </a:xfrm>
          <a:prstGeom prst="rect">
            <a:avLst/>
          </a:prstGeom>
          <a:ln w="0">
            <a:noFill/>
          </a:ln>
        </p:spPr>
      </p:pic>
      <p:sp>
        <p:nvSpPr>
          <p:cNvPr id="4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6;16:7478-748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1/D5 dopamine agonist (+)bromo-APB increases early LTP, whereas inactive enantiomer (−)bromo-APB is ineffectiv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873520" y="1079640"/>
            <a:ext cx="4340160" cy="5394240"/>
          </a:xfrm>
          <a:prstGeom prst="rect">
            <a:avLst/>
          </a:prstGeom>
          <a:ln w="0">
            <a:noFill/>
          </a:ln>
        </p:spPr>
      </p:pic>
      <p:sp>
        <p:nvSpPr>
          <p:cNvPr id="54" name=""/>
          <p:cNvSpPr/>
          <p:nvPr/>
        </p:nvSpPr>
        <p:spPr>
          <a:xfrm>
            <a:off x="28735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6;16:7478-748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1/D5 dopamine antagonist (+)SCH 23390 decreases early LTP in control slices, whereas inactive enantiomer (−)SCH 23388 is ineffectiv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143160" y="1079640"/>
            <a:ext cx="3797280" cy="5394240"/>
          </a:xfrm>
          <a:prstGeom prst="rect">
            <a:avLst/>
          </a:prstGeom>
          <a:ln w="0">
            <a:noFill/>
          </a:ln>
        </p:spPr>
      </p:pic>
      <p:sp>
        <p:nvSpPr>
          <p:cNvPr id="59" name=""/>
          <p:cNvSpPr/>
          <p:nvPr/>
        </p:nvSpPr>
        <p:spPr>
          <a:xfrm>
            <a:off x="3143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6;16:7478-748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techolamine depletion decreases LTP. Forskolin application restores LTP to control level.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949320" y="1079640"/>
            <a:ext cx="8188200" cy="5394240"/>
          </a:xfrm>
          <a:prstGeom prst="rect">
            <a:avLst/>
          </a:prstGeom>
          <a:ln w="0">
            <a:noFill/>
          </a:ln>
        </p:spPr>
      </p:pic>
      <p:sp>
        <p:nvSpPr>
          <p:cNvPr id="64" name=""/>
          <p:cNvSpPr/>
          <p:nvPr/>
        </p:nvSpPr>
        <p:spPr>
          <a:xfrm>
            <a:off x="9493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6;16:7478-748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 depleted slices, D1/D5 agonist 6-chloro-PB substantially increases early LTP. The D1/D5 antagonist (+)SCH 23390 blocks the agonist effect.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830680" y="1079640"/>
            <a:ext cx="4424040" cy="5394240"/>
          </a:xfrm>
          <a:prstGeom prst="rect">
            <a:avLst/>
          </a:prstGeom>
          <a:ln w="0">
            <a:noFill/>
          </a:ln>
        </p:spPr>
      </p:pic>
      <p:sp>
        <p:nvSpPr>
          <p:cNvPr id="69" name=""/>
          <p:cNvSpPr/>
          <p:nvPr/>
        </p:nvSpPr>
        <p:spPr>
          <a:xfrm>
            <a:off x="283068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6;16:7478-748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ther D1/D5 agonists and the adenylyl cyclase stimulator forskolin also enhance early LTP. All drugs were applied for 5 min before the tetanus and washed out immediately after.Columns represent the results of post hocpaired t test after two-way ANOVA for re...</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1922400"/>
            <a:ext cx="8604360" cy="3708360"/>
          </a:xfrm>
          <a:prstGeom prst="rect">
            <a:avLst/>
          </a:prstGeom>
          <a:ln w="0">
            <a:noFill/>
          </a:ln>
        </p:spPr>
      </p:pic>
      <p:sp>
        <p:nvSpPr>
          <p:cNvPr id="7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6;16:7478-7486</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1/D5 antagonist is ineffective in depleted slices, whereas the LTP-facilitating effect of D1/D5 agonist is enhanced.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835360" y="1079640"/>
            <a:ext cx="4414680" cy="5394240"/>
          </a:xfrm>
          <a:prstGeom prst="rect">
            <a:avLst/>
          </a:prstGeom>
          <a:ln w="0">
            <a:noFill/>
          </a:ln>
        </p:spPr>
      </p:pic>
      <p:sp>
        <p:nvSpPr>
          <p:cNvPr id="79" name=""/>
          <p:cNvSpPr/>
          <p:nvPr/>
        </p:nvSpPr>
        <p:spPr>
          <a:xfrm>
            <a:off x="28353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onna A. Otmakhova, and John E. Lisman J. Neurosci. 1996;16:7478-7486</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6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