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agrammatic representation of coronal sections from 7.3 to 8.3 mm posterior to bregma (Paxinos and Watson, 1986) showing the target area (shaded) of the dorsal raphe nucleus. Placements falling outside the target areas are shown byfilled circles marking the site of the tip of the injection needle. L, Central gray lateral dorsal;V, central gray lateral ventral; T, tegmental area; xscp, decussation superior cerebellar pedun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time spent (mean ± SEM) on open arms by rats injected into the dorsal raphe nucleus with saline (V) or midazolam (0.5, 1, and 2 μg). Testing was for 5 min. **p &lt; 0.01 compared with vehicle contr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spent (mean ± SEM) in social interaction (s) by rats injected into the dorsal raphe nucleus in high light, unfamiliar conditions with saline (V) or midazolam (0.5, 1, and 2 μg). The scores are expressed as the cumulative time (sec) during 7.5 min of testing. *p &lt; 0.05 compared with vehicle control; **p &lt; 0.01 compared with vehicle contr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time spent (mean ± SEM) on open arms by rats injected into the dorsal raphe nucleus with saline (v), flumazenil (100–500 ng), midazolam (1 μg), or flumazenil (500 ng) + midazolam (1 μg). Testing was for 5 min for trials 1 and 2. *p &lt; 0.05; **p &lt; 0.01 compared with vehicle control. + p &lt; 0.05 compared with midazolam + flumazeni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spent (mean ± SEM) in social interaction (sec) by rats naive to or experienced with the plus-maze by rats injected into the dorsal raphe nucleus in high light, unfamiliar test conditions with saline (V), flumazenil (100–500 ng), midazolam (1 μg), or flumazenil (500 ng) + midazolam (1 μg). The scores are expressed as the cumulative time (in seconds) during 7.5 min of testing. *p &lt; 0.05 compared with vehicle contr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Five Minute Experience in the Elevated Plus-Maze Alters the State of the Benzodiazepine Receptor in the Dorsal Raphe Nucle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Luis E. Gonzalez, and Sandra E. Fil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4):1505-151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5,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agrammatic representation of coronal sections from 7.3 to 8.3 mm posterior to bregma (Paxinos and Watson, 1986) showing the target area (shaded) of the dorsal raphe nucleu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138480" y="1079640"/>
            <a:ext cx="3808440" cy="5394240"/>
          </a:xfrm>
          <a:prstGeom prst="rect">
            <a:avLst/>
          </a:prstGeom>
          <a:ln w="0">
            <a:noFill/>
          </a:ln>
        </p:spPr>
      </p:pic>
      <p:sp>
        <p:nvSpPr>
          <p:cNvPr id="49" name=""/>
          <p:cNvSpPr/>
          <p:nvPr/>
        </p:nvSpPr>
        <p:spPr>
          <a:xfrm>
            <a:off x="31384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E. Gonzalez, and Sandra E. File J. Neurosci. 1997;17:1505-151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time spent (mean ± SEM) on open arms by rats injected into the dorsal raphe nucleus with saline (V) or midazolam (0.5, 1, and 2 μg).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592280" y="1079640"/>
            <a:ext cx="6902280" cy="5394240"/>
          </a:xfrm>
          <a:prstGeom prst="rect">
            <a:avLst/>
          </a:prstGeom>
          <a:ln w="0">
            <a:noFill/>
          </a:ln>
        </p:spPr>
      </p:pic>
      <p:sp>
        <p:nvSpPr>
          <p:cNvPr id="54" name=""/>
          <p:cNvSpPr/>
          <p:nvPr/>
        </p:nvSpPr>
        <p:spPr>
          <a:xfrm>
            <a:off x="1592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E. Gonzalez, and Sandra E. File J. Neurosci. 1997;17:1505-151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spent (mean ± SEM) in social interaction (s) by rats injected into the dorsal raphe nucleus in high light, unfamiliar conditions with saline (V) or midazolam (0.5, 1, and 2 μg).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512720" y="1079640"/>
            <a:ext cx="7061400" cy="5394240"/>
          </a:xfrm>
          <a:prstGeom prst="rect">
            <a:avLst/>
          </a:prstGeom>
          <a:ln w="0">
            <a:noFill/>
          </a:ln>
        </p:spPr>
      </p:pic>
      <p:sp>
        <p:nvSpPr>
          <p:cNvPr id="59" name=""/>
          <p:cNvSpPr/>
          <p:nvPr/>
        </p:nvSpPr>
        <p:spPr>
          <a:xfrm>
            <a:off x="15127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E. Gonzalez, and Sandra E. File J. Neurosci. 1997;17:1505-151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time spent (mean ± SEM) on open arms by rats injected into the dorsal raphe nucleus with saline (v), flumazenil (100–500 ng), midazolam (1 μg), or flumazenil (500 ng) + midazolam (1 μg).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281240" y="1079640"/>
            <a:ext cx="7521480" cy="5394240"/>
          </a:xfrm>
          <a:prstGeom prst="rect">
            <a:avLst/>
          </a:prstGeom>
          <a:ln w="0">
            <a:noFill/>
          </a:ln>
        </p:spPr>
      </p:pic>
      <p:sp>
        <p:nvSpPr>
          <p:cNvPr id="64" name=""/>
          <p:cNvSpPr/>
          <p:nvPr/>
        </p:nvSpPr>
        <p:spPr>
          <a:xfrm>
            <a:off x="1281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E. Gonzalez, and Sandra E. File J. Neurosci. 1997;17:1505-151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spent (mean ± SEM) in social interaction (sec) by rats naive to or experienced with the plus-maze by rats injected into the dorsal raphe nucleus in high light, unfamiliar test conditions with saline (V), flumazenil (100–500 ng), midazolam (1 μg), or fl...</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305000" y="1079640"/>
            <a:ext cx="7475400" cy="5394240"/>
          </a:xfrm>
          <a:prstGeom prst="rect">
            <a:avLst/>
          </a:prstGeom>
          <a:ln w="0">
            <a:noFill/>
          </a:ln>
        </p:spPr>
      </p:pic>
      <p:sp>
        <p:nvSpPr>
          <p:cNvPr id="69" name=""/>
          <p:cNvSpPr/>
          <p:nvPr/>
        </p:nvSpPr>
        <p:spPr>
          <a:xfrm>
            <a:off x="1305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uis E. Gonzalez, and Sandra E. File J. Neurosci. 1997;17:1505-151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