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fication of axon bundles in each type of cortical explant culture. A, Mean number (±SEM) of axon bundles extended from the cortical explants (ctx) toward (▪) or away (░) from test explants. ic, Internal capsule; fp, floor plate; N1–293T, agar cubes of 293T cells transfected with Netrin-1 cDNA; cont 293T, agar cubes of 293T cells transfected with Netrin-1 cDNA in the antisense orientation. The perimeter surrounding each cortical explant was divided into four quadrants (see Fig. 7), and the total number of axon bundles &gt;150 μm in length, found in either the toward quadrant or the away quadrant, was counted. For cortical explants cultured alone (ctx alone), the toward quadrant was to the right and the away quadrant to theleft. B, Mean total number (±SEM) of axon bundles extended both toward and away from the test explants (i.e., sum of the data presented in A). The number of cases scored is the same as the total number of explants indicated in Table 1. These parametric data were statistically analyzed using Student’s t te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axons extended toward test explants arise from neurons distributed throughout the cortical explants. DiI injected into the collagen gel to the right side (i.e., toward side) of the cortical explants retrogradely labels neurons distributed across cortical explants cultured alone (A) or cocultured with floor plate (B).Arrowheads point to bundles of retrogradely labeled cortical axons extended into the collagen gel. Arrowsmark retrogradely labeled neurons at the edge of the side of the cortical explants opposite the injection site (i.e., the away side). InB, the injection was placed between the cortical explant and the floor plate. In each case, only a proportion of the axons extending into the collagen contact the DiI injection site. Scale bar, 200 μ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axons extend laterally and medially at E17. Pattern of labeling from a neocortical DiI injection in a rat brain fixed at E17. A–C are serial coronal sections progressing from rostral (R) to caudal (C); dorsal is to the top, lateral to theleft. One section is not shown between Cand D. Unlike at earlier ages, at E17, large numbers of retrogradely labeled cells are found both lateral and medial to the injection site (asterisk). Laterally placed cells extend axons medially along the callosal trajectory. CP, Cortical plate; SP, subplate; IZ, intermediate zone; NE, neuroepithelium;LV, lateral ventricle. Scale bar, 25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velopmental series of TuJ1-immunostained coronal sections from brains of rat embryos ages E14–E18. Scale bar, 250 μm. In each photomontage, medial is to the left, dorsal to the top. Stars mark the expected crossing point of the corpus callosum. PP, Preplate. Other abbreviations as in Figure 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arliest cortical axon growth is predominantly directed laterally. A, Whole mount of an E12 rat cortical hemisphere immunostained with the neuron-specific marker TuJ1. Rostral is to the left, lateral is down. The asterisk marks the location from whichB and C are taken. B, C, Higher magnification images of lateral regions of the brain shown inA. Some immunostained cells whose axons are visible are indicated with arrows. Most axons extend laterally toward the internal capsule. Scale bars: A, 250 μm;B, C (shown in C), 5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dorsal see-through view of a cortical hemisphere summarizing the predominant pattern of cortical axon extension at E14, E15, and E16. Medial is to the left, rostral is to thetop. The approximate locations of the internal capsule and lateral ventricle underlying the cortical mantle are indicated. Although the most medial axons must take somewhat indirect trajectories, most axon extension at these ages is directed toward the ventrolaterally located internal caps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I injections into neocortex at E14 through E16 reveal that axon extension is predominantly directed laterally toward the internal capsule. Coronal sections: dorsal to thetop, lateral to the left. A, B, Adjacent sections through an E14 fixed brain showing the pattern of labeling from a single DiI injection (asterisks). Virtually all retrogradely labeled cells are found medial to the injection site (arrow), and anterogradely labeled axons are found lateral to it (arrowheads). This labeling pattern indicates that most cells extend axons laterally at this stage. The efferent axons extend within the intermediate zone (IZ), deep to the preplate (PP). The superficial-most labeling both medial and lateral to the DiI injection site is nonspecific labeling of the pia attributable to DiI diffusion. B′, Higher power view of the cortical wall medial to the injection site in B. Thearrowhead marks nonspecific DiI labeling in the pia. A row of retrogradely labeled cortical cells is marked by thearrow. C, Low magnification image showing the pattern of labeling from an injection (asterisk) at E16. Most retrogradely labeled cells were medial to the injection (arrow). D, E, Higher magnification images of cells (arrows) retrogradely labeled by such an injection. F, Retrogradely labeled cells from a more ventrolaterally placed injection. At this level, both subplate (SP) and cortical plate (CP) cells are clearly distinguishable. Both populations extend axons laterally; very few cells of either population extend axons medially at this age. Abbreviations as in Figure 1. Scale bars: A, B (shown inA), 250 μm; B′, 100 μm;C, 250 μm; D–F (shown inD), 50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I injections in frontal and frontomedial cortex in E16 brains. Coronal sections: dorsal to the top, lateral to the left. A, A′, An injection (asterisk) into frontal cortex retrogradely labeled cells at more medial positions as far as 600 μm caudal in presumptive retrosplenial cortex. B, An injection (asterisk) of DiI into medial cortex retrogradely labeled cells (B′) several hundred micrometers caudal in presumptive cingulate cortex. The midline is marked by anarrowhead. LV, Lateral ventricle. Scale bar, 150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representation of coculture experiments. A, Dorsal view of an E15 rat brain showing where cortical explants were derived from within the dorsal telencephalon (i.e., neocortex). B, Coronal section through an E15 rat forebrain showing the locations from which explants of the intermediate target explants of cortical axons, the nascent internal capsule and the MDT, were dissected.C, Netrin-1-secreting explants were the floor plate, taken from an E13 rat spinal cord shown in transverse section, and agar-embedded HEK 293T cells transfected with Netrin-1 cDNA in the sense orientation. Agar-embedded HEK 293T cells transfected with Netrin-1 cDNA in the antisense orientation were used as a control.D, Cortical explants were cultured in collagen gels either alone or with test explants of either internal capsule, MDT, floor plate, or small agar cubes containing transfected 293T cells. For analysis of axon outgrowth, cortical explants were divided into four quadrants as shown by the dotted lines. The axon outgrowth from the sides of the cortical explant toward (t) and away (a) from the test explants was analyz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internal capsule releases a chemoattractant activity for early cortical axons that can be mimicked by a soluble activity released by floor plate and by Netrin-1-transfected 293T cells. Cortical explants (ctx) were cultured in collagen gels either alone (A) or with test explants of MDT (B; MDT), nascent internal capsule (C; ic), floor plate (D;fp), or 293T cells transfected with Netrin-1 cDNA (E; Netrin-1 293T), or 293T cells transfected with a control construct (F; cont. 293T). The cortical explants were placed with their pial surface up, and either their medial or lateral side facing the test explant. A, E15 rat cortical explants cultured alone extended axons in a nondirected manner. B, Similarly, cortical explants cocultured with explants of E15 rat MDT extended axons in a nondirected manner. C, In contrast, cortical explants cocultured with explants of E15 rat internal capsule (ic) showed robust axon outgrowth directed toward the internal capsule explant. D–F, The effect of the internal capsule could be mimicked by coculturing the cortical explants with either floor plate explants (D) or agar cubes containing 293T cells transfected with Netrin-1 (E). In these cocultures, growth toward the floor plate or Netrin-1-transfected 293T cells was robust. In contrast, cortical explants cocultured with agar cubes containing control-transfected 293T cells extended axons in a nondirected manner (F). Scale bar, 200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rected Growth of Early Cortical Axons Is Influenced by a Chemoattractant Released from an Intermediate Targe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inda J. Richards, Susan E. Koester, Rebecca Tuttle, and Dennis D. M. O’Leary</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7):2445-245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fication of axon bundles in each type of cortical explant culture.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3110040" y="1079640"/>
            <a:ext cx="3867120" cy="5394240"/>
          </a:xfrm>
          <a:prstGeom prst="rect">
            <a:avLst/>
          </a:prstGeom>
          <a:ln w="0">
            <a:noFill/>
          </a:ln>
        </p:spPr>
      </p:pic>
      <p:sp>
        <p:nvSpPr>
          <p:cNvPr id="89" name=""/>
          <p:cNvSpPr/>
          <p:nvPr/>
        </p:nvSpPr>
        <p:spPr>
          <a:xfrm>
            <a:off x="3110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axons extended toward test explants arise from neurons distributed throughout the cortical explant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3030480" y="1079640"/>
            <a:ext cx="4025880" cy="5394240"/>
          </a:xfrm>
          <a:prstGeom prst="rect">
            <a:avLst/>
          </a:prstGeom>
          <a:ln w="0">
            <a:noFill/>
          </a:ln>
        </p:spPr>
      </p:pic>
      <p:sp>
        <p:nvSpPr>
          <p:cNvPr id="94" name=""/>
          <p:cNvSpPr/>
          <p:nvPr/>
        </p:nvSpPr>
        <p:spPr>
          <a:xfrm>
            <a:off x="303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axons extend laterally and medially at E17.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336840" y="1079640"/>
            <a:ext cx="3409920" cy="5394240"/>
          </a:xfrm>
          <a:prstGeom prst="rect">
            <a:avLst/>
          </a:prstGeom>
          <a:ln w="0">
            <a:noFill/>
          </a:ln>
        </p:spPr>
      </p:pic>
      <p:sp>
        <p:nvSpPr>
          <p:cNvPr id="49" name=""/>
          <p:cNvSpPr/>
          <p:nvPr/>
        </p:nvSpPr>
        <p:spPr>
          <a:xfrm>
            <a:off x="3336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velopmental series of TuJ1-immunostained coronal sections from brains of rat embryos ages E14–E18.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556000" y="1079640"/>
            <a:ext cx="4973400" cy="5394240"/>
          </a:xfrm>
          <a:prstGeom prst="rect">
            <a:avLst/>
          </a:prstGeom>
          <a:ln w="0">
            <a:noFill/>
          </a:ln>
        </p:spPr>
      </p:pic>
      <p:sp>
        <p:nvSpPr>
          <p:cNvPr id="54" name=""/>
          <p:cNvSpPr/>
          <p:nvPr/>
        </p:nvSpPr>
        <p:spPr>
          <a:xfrm>
            <a:off x="255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arliest cortical axon growth is predominantly directed laterally.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173400" y="1079640"/>
            <a:ext cx="3740040" cy="5394240"/>
          </a:xfrm>
          <a:prstGeom prst="rect">
            <a:avLst/>
          </a:prstGeom>
          <a:ln w="0">
            <a:noFill/>
          </a:ln>
        </p:spPr>
      </p:pic>
      <p:sp>
        <p:nvSpPr>
          <p:cNvPr id="59" name=""/>
          <p:cNvSpPr/>
          <p:nvPr/>
        </p:nvSpPr>
        <p:spPr>
          <a:xfrm>
            <a:off x="317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dorsal see-through view of a cortical hemisphere summarizing the predominant pattern of cortical axon extension at E14, E15, and E16.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771640" y="1079640"/>
            <a:ext cx="4543560" cy="5394240"/>
          </a:xfrm>
          <a:prstGeom prst="rect">
            <a:avLst/>
          </a:prstGeom>
          <a:ln w="0">
            <a:noFill/>
          </a:ln>
        </p:spPr>
      </p:pic>
      <p:sp>
        <p:nvSpPr>
          <p:cNvPr id="64" name=""/>
          <p:cNvSpPr/>
          <p:nvPr/>
        </p:nvSpPr>
        <p:spPr>
          <a:xfrm>
            <a:off x="2771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I injections into neocortex at E14 through E16 reveal that axon extension is predominantly directed laterally toward the internal capsul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890800" y="1079640"/>
            <a:ext cx="4303800" cy="5394240"/>
          </a:xfrm>
          <a:prstGeom prst="rect">
            <a:avLst/>
          </a:prstGeom>
          <a:ln w="0">
            <a:noFill/>
          </a:ln>
        </p:spPr>
      </p:pic>
      <p:sp>
        <p:nvSpPr>
          <p:cNvPr id="69" name=""/>
          <p:cNvSpPr/>
          <p:nvPr/>
        </p:nvSpPr>
        <p:spPr>
          <a:xfrm>
            <a:off x="2890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I injections in frontal and frontomedial cortex in E16 brai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068640" y="1079640"/>
            <a:ext cx="3946680" cy="5394240"/>
          </a:xfrm>
          <a:prstGeom prst="rect">
            <a:avLst/>
          </a:prstGeom>
          <a:ln w="0">
            <a:noFill/>
          </a:ln>
        </p:spPr>
      </p:pic>
      <p:sp>
        <p:nvSpPr>
          <p:cNvPr id="74" name=""/>
          <p:cNvSpPr/>
          <p:nvPr/>
        </p:nvSpPr>
        <p:spPr>
          <a:xfrm>
            <a:off x="3068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representation of coculture experiment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989000" y="1079640"/>
            <a:ext cx="6107400" cy="5394240"/>
          </a:xfrm>
          <a:prstGeom prst="rect">
            <a:avLst/>
          </a:prstGeom>
          <a:ln w="0">
            <a:noFill/>
          </a:ln>
        </p:spPr>
      </p:pic>
      <p:sp>
        <p:nvSpPr>
          <p:cNvPr id="79" name=""/>
          <p:cNvSpPr/>
          <p:nvPr/>
        </p:nvSpPr>
        <p:spPr>
          <a:xfrm>
            <a:off x="1989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internal capsule releases a chemoattractant activity for early cortical axons that can be mimicked by a soluble activity released by floor plate and by Netrin-1-transfected 293T cell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313000" y="1079640"/>
            <a:ext cx="5459400" cy="5394240"/>
          </a:xfrm>
          <a:prstGeom prst="rect">
            <a:avLst/>
          </a:prstGeom>
          <a:ln w="0">
            <a:noFill/>
          </a:ln>
        </p:spPr>
      </p:pic>
      <p:sp>
        <p:nvSpPr>
          <p:cNvPr id="84" name=""/>
          <p:cNvSpPr/>
          <p:nvPr/>
        </p:nvSpPr>
        <p:spPr>
          <a:xfrm>
            <a:off x="2313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inda J. Richards et al. J. Neurosci. 1997;17:2445-245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