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A, Low-power camera lucida tracing from a sagittal section showing an electrode track and lesion site in PPT localized in a zone of neurons (filled triangles) staining positively for NADPH-diaphorase (NADPH+), a cholinergic marker (Luebke et al., 1992).B, Higher-power camera lucida drawing of recording track and diaphorase-positive neurons whose soma (open triangles) were in the plane of this section or in that of the two NADPH diaphorase-stained sections to either side. C, Photomicrograph of track and lesion site (same angle as inA, B) and NADPH+ neurons (dark somata). IC, Inferior collicul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Average ± SEM of 10 digitized wave forms from each of two representative REM-on units. In the REM-on population most units (7 of 9) showed a long-duration action potential like that shown in the left contrasted with a short-duration action potential (2 of 9) shown in the right. Note different time axes and voltage calibrations (noise background was ∼10 μV for each unit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Digitized inkwriter record of REM-on unit discharge in the different behavioral states and during perfusion of 8-OH-DPAT. The first panel is active wakefulness, with activity in both EOG and EMG (indicating somatomotor activity). Note the low level of unit activity, which continues in non-REM sleep but increases more than twofold in REM sleep. 8-OH-DPAT dramatically suppressed unit activity in the same REM period. Voltage gain for active-wake EMG is 200 μ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Digitized inkwriter record of Wake/REM-on unit discharge in the different behavioral states and during perfusion of 8-OH-DPAT. The unit shows a high level of activity in both active wakefulness and REM sleep relative to non-REM sleep. Note that 8-OH-DPAT does not suppress unit discharge in REM slee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A, REM-on units (n = 9). Grand mean ± SEM of discharge rate in each behavioral state before (solid line,ACSF) and after (dotted line) 10 μm 8-OH-DPAT was added to the perfusate. Note 8-OH-DPAT suppression of activity (highly statistically significant; see text and Table 1). B, Wake/REM-on units (n = 25). Grand mean ± SEM of discharge rate before (solid line, ACSF) and after (dotted line) 10 μm 8-OH-DPAT was added to the perfusate. Note minimal effect of 8-OH-DPAT (not statistically significant; see text and Table 1). SWS, non-REM slee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Scattergram showing the mean percentage change (across all behavioral states) in the discharge rate during 8-OH-DPAT perfusion for each Wake/REM-on unit and each REM-on unit. Note that the distributions do not overlap and that most of the Wake/REM-on unit values are clustered around zero. See Results for further discus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980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ehavioral State Control through Differential Serotonergic Inhibition in the Mesopontine Cholinergic Nuclei: A Simultaneous Unit Recording and Microdialysis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800" y="2259000"/>
            <a:ext cx="860436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y Mahesh M. Thakkar, Robert E. Strecker, and Robert W. McCarl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8360" y="5641920"/>
            <a:ext cx="860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J. Neurosc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olume 18(14):5490-54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July 15, 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1998 by Society for Neurosci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8000" y="6912000"/>
            <a:ext cx="1879560" cy="34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58920" y="420840"/>
            <a:ext cx="93628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, Low-power camera lucida tracing from a sagittal section showing an electrode track and lesion site in PPT localized in a zone of neurons (filled triangles) staining positively for NADPH-diaphorase (NADPH+), a cholinergic marker (Luebke et al., 1992).B, H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8000" y="6912000"/>
            <a:ext cx="1879560" cy="341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43120" y="1079640"/>
            <a:ext cx="8399160" cy="5394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43120" y="6583320"/>
            <a:ext cx="43192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ahesh M. Thakkar et al. J. Neurosci. 1998;18:5490-54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1998 by Society for Neurosci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verage ± SEM of 10 digitized wave forms from each of two representative REM-on unit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8000" y="6912000"/>
            <a:ext cx="1879560" cy="341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39800" y="1384200"/>
            <a:ext cx="8604360" cy="4784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3980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ahesh M. Thakkar et al. J. Neurosci. 1998;18:5490-54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1998 by Society for Neurosci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igitized inkwriter record of REM-on unit discharge in the different behavioral states and during perfusion of 8-OH-DPA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08000" y="6912000"/>
            <a:ext cx="1879560" cy="341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39800" y="1422360"/>
            <a:ext cx="8604360" cy="4708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3980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ahesh M. Thakkar et al. J. Neurosci. 1998;18:5490-54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1998 by Society for Neurosci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igitized inkwriter record of Wake/REM-on unit discharge in the different behavioral states and during perfusion of 8-OH-DPA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08000" y="6912000"/>
            <a:ext cx="1879560" cy="341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39800" y="1317600"/>
            <a:ext cx="8604360" cy="4917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3980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ahesh M. Thakkar et al. J. Neurosci. 1998;18:5490-54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1998 by Society for Neurosci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, REM-on units (n = 9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08000" y="6912000"/>
            <a:ext cx="1879560" cy="341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249720" y="1079640"/>
            <a:ext cx="3587760" cy="5394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24972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ahesh M. Thakkar et al. J. Neurosci. 1998;18:5490-54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1998 by Society for Neurosci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cattergram showing the mean percentage change (across all behavioral states) in the discharge rate during 8-OH-DPAT perfusion for each Wake/REM-on unit and each REM-on uni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08000" y="6912000"/>
            <a:ext cx="1879560" cy="341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914400" y="1079640"/>
            <a:ext cx="8258040" cy="53942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91440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ahesh M. Thakkar et al. J. Neurosci. 1998;18:5490-54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1998 by Society for Neurosci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