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perties of depotentiation and LTP.A, The magnitude of depotentiation depends on the time after the tetanus and the type of low-frequency stimulation (LFS). The average LTP (n = 39) induced by a tetanus is shown as a reference. Depotentiation was strong when LFS (3 Hz/3 min) was applied shortly (0.5 min) after the tetanus (n = 4). If LFS started 5 min after the tetanus, depotentiation with this LFS was weak (n = 21). Stronger depotentiation was produced by 2 Hz/10 min LFS (n = 15) than by the 3 Hz/3 min protocol (n = 21). The tetanus is marked by an upward arrow; bars mark LFS.B, The residual LTP 40 min after LFS was proportional to initial LTP magnitude (measured 5 min after the tetanus). For the scatter diagram and regression line, A = 51.4%,B = 0.45; n = 55; correlation coefficient r = 0.62; p &lt; 0.0001. C, Between slice variability of initial LTP values is much higher than within slice variability for different pathways. For the scatter diagram and regression line,A = 4.8%, B = 0.98;n = 13; correlation coefficientr = 0.87; p &lt; 0.0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receptor activation inhibits depotentiation acting via adenylyl cyclase. Averaged data and traces of individual experiments (insets) were taken in the baseline (a, dotted line), 2 min after the tetanus (b, thick line), and 20 min after LFS (c, thin line). A, D1/D5 dopaminergic agonist 6-Chloro-PB (10 μm) inhibits depotentiation. Field EPSP slopes (solid triangles) 40 min after LFS in the presence of agonist do not differ from average LTP values (taken from Fig. 1 A and marked by ahorizontal arrow). B, Agonist action is inhibited by a D1/D5 antagonist (+)SCH 23390, 5 μm.C, Agonist action is blocked by the inhibitor of adenylyl cyclase, SQ 22536 (100 μm). D, Agonist action is blocked by the pretreatment of the slice with cAMP-dependent protein kinase inhibitor H-89 (20 μm, 2–3 hr). Tetanus is marked by an upward arrow, LFS is represented by a downward arrow, and agonist application time is shown by a dark gray rectangle. SCH 23390 and SQ 22536 perfusions started earlier and are depicted by alight gray rectangle. H-89 was introduced by long preincubation but was not present in the perfusion medi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agonist-dependent inhibition of depotentiation depends on the timing of agonist application. Columns represent mean ± SEM for the drug–control differences of the normalized fEPSP slopes in each slice (percentage). Theupward direction of columns means an inhibition of depotentiation by the drug. A, Inhibition of depotentiation was strong when agonist (6-Chloro-PB, 10 μm) was applied starting 5 min before the tetanus and left until the end of LFS (3 Hz/3 min). B, When D1/D5 agonist was applied only before and during the induction of LTP, but was absent during LFS, depotentiation was not affected.C, Depotentiation was strongly inhibited by D1/D5 agonist applied after the tetanus and during LFS. The time of drug application is marked by the horizontal bar; the moment of tetanus is indicated by the upward arrow; LFS is shown by a small downward arrow. Levels of significance in the post hoc paired t test: °p &lt; 0.1; *p &lt; 0.05; **p &lt; 0.01; ***p &lt; 0.001.F, p, and n values for two-way ANOVA are listed in Resul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adenylyl cyclase activity can affect synaptic plasticity. A, Adenylyl cyclase inhibitor SQ 22536 (100 μm) did not affect early LTP.B, SQ 22536 (100 μm) increased depotentiation. C, Adenylyl cyclase activator forskolin (10 μm) increased early LTP. D, Forskolin (10 μm) completely blocked depotentiation. Tetanus is marked by an upward arrow, LFS (3 Hz/3 min) is represented by a downward arrow, and drug application time is shown by a gray rectangle. E, Forskolin increased early LTP, whereas the adenylyl cyclase inhibitor SQ 22536 did not have any effect. F, SQ 22536 increased depotentiation; forskolin completely blocked it. E andF represent a drug–control difference, by percentage. Calculations and markings are as on Figure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ity-independent effect of long (20 min) applications of forskolin (10 μm) cannot fully account for forskolin-dependent inhibition of depotentiation. The dynamics of fEPSP during LFS did not depend on the presence of forskolin. Data on LTP (n = 39) and on baseline without tetanus or LFS data (n = 4) were obtained from different slices. Data with and without forskolin were obtained from the same slices (n = 4). The tetanus is marked by an upward arrow, LFS (2 Hz/10 min) is represented by the space between the downward arrows, and forskolin application is shown by a gray b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pendence of forskolin and isoproterenol effects on the timing of application (drug–control difference, by percentage).A, When applied after the induction of LTP, forskolin did not affect the depotentiation induced by short LFS (3 Hz/3 min). With increased application time during a longer LFS (2 Hz/10 min), the inhibitory effect of forskolin on depotentiation became significant.B, With applications after the tetanus there was no decrease of depotentiation by isoproterenol with short LFS (3 Hz/3 min), but longer applications (2 Hz/10 min) significantly decreased depotentiation. Calculations and markings are as on Figure 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dopaminergic, β-adrenergic agonists, and forskolin effects on synaptic plasticity are not additive (drug–control difference, by percentage). A,Upward bars show an increase of LTP. Isoproterenol (5 μm) increased LTP the most, but the effect was not reliable. The D1/D5 agonist 6-Chloro-PB (10 μm) strongly and reliably increased early LTP. The effect of coapplication is similar to the D1/D5 agonist effect. The forskolin effect on LTP was the weakest. B, Upward bars show a decrease of depotentiation; β-agonist isoproterenol (5 μm) applied during both tetanus and LFS produced only weak inhibition of LFS. The dopamine D1/D5 effect was strong and reliable. The largest inhibition of depotentiation was observed either with forskolin application or with coapplication of D1/D5 and β-agonist. Experimental protocols, calculation procedures, and markings are as in Figure 3. To simplify perception, we have not shown all 5 min time intervals in A and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representation of the role of dopamine in the selection of information for long-term storage. Information input (analog of tetanus) is marked by an upward arrow; the reinforcing dopamine signal is shown by a rectangle.A, Dopamine increases LTP, although it arrives after the tetanus. B, Information is maintained initially in a first network and then transferred to the second network, where the activity-dependent storage depends on dopamine. C, All information is stored initially for a short time but is subject to erasure (analog of depotentiation, denoted by a gray arrow) in the next few minutes. In the presence of dopamine, erasure is bloc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1/D5 Dopamine Receptors Inhibit Depotentiation at CA1 Synapses via cAMP-Dependent Mechanism</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onna A. Otmakhova, and John E. Lism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8(4):1270-127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5, 199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perties of depotentiation and LTP.A, The magnitude of depotentiation depends on the time after the tetanus and the type of low-frequency stimulation (LF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797280" y="1079640"/>
            <a:ext cx="2490840" cy="5394240"/>
          </a:xfrm>
          <a:prstGeom prst="rect">
            <a:avLst/>
          </a:prstGeom>
          <a:ln w="0">
            <a:noFill/>
          </a:ln>
        </p:spPr>
      </p:pic>
      <p:sp>
        <p:nvSpPr>
          <p:cNvPr id="49" name=""/>
          <p:cNvSpPr/>
          <p:nvPr/>
        </p:nvSpPr>
        <p:spPr>
          <a:xfrm>
            <a:off x="3797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receptor activation inhibits depotentiation acting via adenylyl cycla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813120" y="1079640"/>
            <a:ext cx="2457360" cy="5394240"/>
          </a:xfrm>
          <a:prstGeom prst="rect">
            <a:avLst/>
          </a:prstGeom>
          <a:ln w="0">
            <a:noFill/>
          </a:ln>
        </p:spPr>
      </p:pic>
      <p:sp>
        <p:nvSpPr>
          <p:cNvPr id="54" name=""/>
          <p:cNvSpPr/>
          <p:nvPr/>
        </p:nvSpPr>
        <p:spPr>
          <a:xfrm>
            <a:off x="38131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agonist-dependent inhibition of depotentiation depends on the timing of agonist applic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033720" y="1079640"/>
            <a:ext cx="4019400" cy="5394240"/>
          </a:xfrm>
          <a:prstGeom prst="rect">
            <a:avLst/>
          </a:prstGeom>
          <a:ln w="0">
            <a:noFill/>
          </a:ln>
        </p:spPr>
      </p:pic>
      <p:sp>
        <p:nvSpPr>
          <p:cNvPr id="59" name=""/>
          <p:cNvSpPr/>
          <p:nvPr/>
        </p:nvSpPr>
        <p:spPr>
          <a:xfrm>
            <a:off x="3033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adenylyl cyclase activity can affect synaptic plastic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351160" y="1079640"/>
            <a:ext cx="5384880" cy="5394240"/>
          </a:xfrm>
          <a:prstGeom prst="rect">
            <a:avLst/>
          </a:prstGeom>
          <a:ln w="0">
            <a:noFill/>
          </a:ln>
        </p:spPr>
      </p:pic>
      <p:sp>
        <p:nvSpPr>
          <p:cNvPr id="64" name=""/>
          <p:cNvSpPr/>
          <p:nvPr/>
        </p:nvSpPr>
        <p:spPr>
          <a:xfrm>
            <a:off x="235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ity-independent effect of long (20 min) applications of forskolin (10 μm) cannot fully account for forskolin-dependent inhibition of depotenti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652760" y="1079640"/>
            <a:ext cx="6781680" cy="5394240"/>
          </a:xfrm>
          <a:prstGeom prst="rect">
            <a:avLst/>
          </a:prstGeom>
          <a:ln w="0">
            <a:noFill/>
          </a:ln>
        </p:spPr>
      </p:pic>
      <p:sp>
        <p:nvSpPr>
          <p:cNvPr id="69" name=""/>
          <p:cNvSpPr/>
          <p:nvPr/>
        </p:nvSpPr>
        <p:spPr>
          <a:xfrm>
            <a:off x="16527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pendence of forskolin and isoproterenol effects on the timing of application (drug–control difference, by percentage).A, When applied after the induction of LTP, forskolin did not affect the depotentiation induced by short LFS (3 Hz/3 mi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692440" y="1079640"/>
            <a:ext cx="4700520" cy="5394240"/>
          </a:xfrm>
          <a:prstGeom prst="rect">
            <a:avLst/>
          </a:prstGeom>
          <a:ln w="0">
            <a:noFill/>
          </a:ln>
        </p:spPr>
      </p:pic>
      <p:sp>
        <p:nvSpPr>
          <p:cNvPr id="74" name=""/>
          <p:cNvSpPr/>
          <p:nvPr/>
        </p:nvSpPr>
        <p:spPr>
          <a:xfrm>
            <a:off x="2692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dopaminergic, β-adrenergic agonists, and forskolin effects on synaptic plasticity are not additive (drug–control difference, by percentag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604960" y="1079640"/>
            <a:ext cx="4875480" cy="5394240"/>
          </a:xfrm>
          <a:prstGeom prst="rect">
            <a:avLst/>
          </a:prstGeom>
          <a:ln w="0">
            <a:noFill/>
          </a:ln>
        </p:spPr>
      </p:pic>
      <p:sp>
        <p:nvSpPr>
          <p:cNvPr id="79" name=""/>
          <p:cNvSpPr/>
          <p:nvPr/>
        </p:nvSpPr>
        <p:spPr>
          <a:xfrm>
            <a:off x="2604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representation of the role of dopamine in the selection of information for long-term storag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511440" y="1079640"/>
            <a:ext cx="3062520" cy="5394240"/>
          </a:xfrm>
          <a:prstGeom prst="rect">
            <a:avLst/>
          </a:prstGeom>
          <a:ln w="0">
            <a:noFill/>
          </a:ln>
        </p:spPr>
      </p:pic>
      <p:sp>
        <p:nvSpPr>
          <p:cNvPr id="84" name=""/>
          <p:cNvSpPr/>
          <p:nvPr/>
        </p:nvSpPr>
        <p:spPr>
          <a:xfrm>
            <a:off x="35114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8;18:1270-1279</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