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Long and short repeating spike sequences are associated with θ and ripple field activity, respectively. The power spectra of background field activity, associated with short and long sequences, were compared. The first spike of the same long (termination &gt; 100 msec; n = 47) or short (termination &lt; 50 msec; n = 78) spike sequences was regarded as the reference event for extracting field EEG information. a, EEG power in the low-frequency band surrounding long (solid line) and short (interrupted line) repeating spike sequences. Note the increased θ power during long sequences.b, EEG power in the ripple frequency band (100–200 Hz) surrounding long and short repeating spike sequences. Note the large power peak at 160 Hz during short sequences. Insets,Long (in a) and short (in b) sequences of the same neurons. Note the difference in timescale; short sequences are shown at an enhanced timescal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pike sequence extraction methods.Panel a, Unit activity was recorded simultaneously from multiple tetrodes. Filtered recordings from a single tetrode are shown (Ch1–Ch4).Panel c, Spike sorting resulted in 4–8 neurons/tetrode. Panel b, Superimposed waveforms of a single cell are shown. Panel d, The parallel spike train (vertical tics; cells 0–4) was analyzed by a sequence-search algorithm for repeating spike sequences. All possible sequences were considered as a template. The duration of the template window (w) was typically 200 msec. The tolerance of spike match (spike window; dt) was 10 or 20 msec. Neur, Neuron. Panel e, Spike sequences of neurons a–d are represented as spatiotemporal vectors. For graphical illustrations, repeating sequences are superimposed in subsequent figures. Panel f, The significance of sequence repetition was tested by Monte Carlo statistics. Panel g, Spike triplets were also detected by the JPM method. The distribution of spike triplets (a, b,c; Δt ab , Δt ac ) within thew time window was investigated by constructing a joint peri-event time histogram. A difference map (D ij ) was created by subtracting chance combinations, as predicted by the corresponding spike doublets, from the joint peri-event time histogram. The pixels of the difference map (JPM) represent the probability of observing a given triple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pike-shuffling methods. Panel a, Original parallel spike train. Three repetitions of the same spike sequence (0, 1, 2, 3) are shown. Panel b, Elimination of temporal correlation between the spikes by shuffling the interspike intervals (ISI) within each spike train.Gray tics indicate the original spikes.Panel c, Spike displacement. Spikes of the original spike train (gray tics) are randomly shifted in time by 0–50 msec (Δt;black tics). Although the interspike intervals may change somewhat by this method, the field modulation of the neurons is better preserved. Panel d,Shuffling of spikes across spike trains. This method preserves population modulation of spike timing but may reduce firing-rate differences between the original spike trains. A fourth method (phase-invariant spike shuffling) is illustrated below (see Fig.5).</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lationship between the firing rate during θ behavior and the probability of spike participation in SPW.A, Probability of discharge of single pyramidal neurons in SPW events. Note that the majority of pyramidal neurons discharge &lt;15% of all recorded SPWs. B, Relationship between the firing rate during θ and the probability of discharge during SPW events. Note that increased discharge rate during θ predicts a higher incidence of participation in SPW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xamples of the spike sequences during sleep (a) and running (b) sessions, detected by the template-matching method. Only spike sequences of neurons, recorded by a single tetrode, are shown. The sleep session preceded the run session. The sequence initiator neuron is indicated by arrows. Recordings during sleep and running sessions were obtained from a single rat. The spike window (dt) was set to 10 msec in these searches. Different colors indicate different patterns. Thegray lines in b, top,indicate all nonrepeating (single) sequences for comparison.Cell numbers refer to the same cells within the same behavioral category. m, Number of different sequences; r, number of repetitions of a given sequence. Also see: FTP://speedy2.md.huji.ac.il/pub/neuron.mi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omparison of repeating spike sequences in a parallel spike train, recorded during wheel running, with its shuffled surrogates. a, Peaks of θ oscillation were taken as a reference point, and the spike timing was converted to phase values within the θ cycle. During shuffling, sets of spikes within a given θ cycle were transposed randomly (arrows).b, Phase-normalized spike density histograms during the θ cycle are shown. c, Cross-correlogram between the negative peaks of local θ and unit discharges is shown.d, Spike autocorrelograms of units are shown. Note the similar spike dynamics in the original and shuffled spike trains.e, Repetition curves of spike sequences in the original spike train and in its shuffled surrogates are show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omparison of repeating spike sequences in real spike trains (original) and their shuffled surrogates.a–e, Data from five different rats. They-axis indicates the number of different sequences (m), and the x-axis indicates the average number of repeating sequences (r); e.g, 50 different sequences were repeated 16 times on average in rat k12-30 (panel c). Note that the repetition rate in the original spike train is higher than that in any of the 100 shuffled surrogates (p &lt; = 0.01). In these comparisons, shuffling was done across spike trains. Rats are identified in each top right corn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pike triplets detected by the JPM method.a, The JPTH of a spike triplet (3, 2, 0). Summed pixels in the x- and y-axes are also shown.b, “Expected” JPTH, constructed on the assumption that triplets are random coincidences of spike doublets (see Materials and Methods). c, The excess number of triplets expressed as the difference between the observed and expected JPTHs. Significant pixels (Fisher's exact probability test) are framed inboxes. d, Vector representation of 3, 2, 0 sequences extracted by the template-matching method. Note that the latencies of the triplets match the significant pixels in the JPM.e, JPM maps constructed using three different pixel sizes (5, 6.7, and 10 msec) from the original and 100 shuffled surrogates (same original data sets shown in Fig. 6). The number of significant pixels in the surrogate JPMs is expressed as a percentage of the significant pixels in the original JPM. Color bars, Number of even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pike sequences during sleep are influenced by previous wheel-running behavior. Histograms of significant triplets common to Sleep1 and Run sessions (a), to Run and Sleep2 sessions (b), and to Sleep1 and Sleep2 sessions (c). A sequence was considered to be “common” if it was significant by the JPM method (Fig. 7) in both behavior sessions regardless of the interspike intervals (e.g., 4-1-2 at 50 and 80 msec and at 5 and 8 msec). Individual triplets are listed on the x-axis. Theupward and downward barsat any given location on the x-axis indicate the number of significant pixels of the JPM of a common triplet in the two sessions, respectively. Note that there were almost twice as many triplets common to Run and Sleep2 sessions than to Sleep1 and Run sessions. The r values (Pearson's product moment correlation coefficient) indicate the correlation of the number of common triplets between the respective two sess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Replay and Time Compression of Recurring Spike Sequences in the Hippocampu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Zoltán Nádasdy, Hajime Hirase, András Czurkó, Jozsef Csicsvari, and György Buzsáki</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19(21):9497-9507</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November 1, 1999</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9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Long and short repeating spike sequences are associated with θ and ripple field activity, respectively. </a:t>
            </a:r>
            <a:endParaRPr b="0" lang="en-US" sz="1600" spc="-1" strike="noStrike">
              <a:solidFill>
                <a:srgbClr val="000000"/>
              </a:solidFill>
              <a:latin typeface="Times New Roman"/>
            </a:endParaRPr>
          </a:p>
        </p:txBody>
      </p:sp>
      <p:pic>
        <p:nvPicPr>
          <p:cNvPr id="87" name="" descr=""/>
          <p:cNvPicPr/>
          <p:nvPr/>
        </p:nvPicPr>
        <p:blipFill>
          <a:blip r:embed="rId1"/>
          <a:stretch/>
        </p:blipFill>
        <p:spPr>
          <a:xfrm>
            <a:off x="108000" y="6912000"/>
            <a:ext cx="1879560" cy="341280"/>
          </a:xfrm>
          <a:prstGeom prst="rect">
            <a:avLst/>
          </a:prstGeom>
          <a:ln w="0">
            <a:noFill/>
          </a:ln>
        </p:spPr>
      </p:pic>
      <p:pic>
        <p:nvPicPr>
          <p:cNvPr id="88" name="" descr=""/>
          <p:cNvPicPr/>
          <p:nvPr/>
        </p:nvPicPr>
        <p:blipFill>
          <a:blip r:embed="rId2"/>
          <a:stretch/>
        </p:blipFill>
        <p:spPr>
          <a:xfrm>
            <a:off x="3398760" y="1079640"/>
            <a:ext cx="3287880" cy="5394240"/>
          </a:xfrm>
          <a:prstGeom prst="rect">
            <a:avLst/>
          </a:prstGeom>
          <a:ln w="0">
            <a:noFill/>
          </a:ln>
        </p:spPr>
      </p:pic>
      <p:sp>
        <p:nvSpPr>
          <p:cNvPr id="89" name=""/>
          <p:cNvSpPr/>
          <p:nvPr/>
        </p:nvSpPr>
        <p:spPr>
          <a:xfrm>
            <a:off x="33987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Zoltán Nádasdy et al. J. Neurosci. 1999;19:9497-9507</a:t>
            </a:r>
            <a:endParaRPr b="0" lang="en-US" sz="1200" spc="-1" strike="noStrike">
              <a:solidFill>
                <a:srgbClr val="000000"/>
              </a:solidFill>
              <a:latin typeface="Times New Roman"/>
            </a:endParaRPr>
          </a:p>
        </p:txBody>
      </p:sp>
      <p:sp>
        <p:nvSpPr>
          <p:cNvPr id="9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9 by Society for Neuroscience</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pike sequence extraction methods.Panel a, Unit activity was recorded simultaneously from multiple tetrode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938160" y="1079640"/>
            <a:ext cx="8209080" cy="5394240"/>
          </a:xfrm>
          <a:prstGeom prst="rect">
            <a:avLst/>
          </a:prstGeom>
          <a:ln w="0">
            <a:noFill/>
          </a:ln>
        </p:spPr>
      </p:pic>
      <p:sp>
        <p:nvSpPr>
          <p:cNvPr id="49" name=""/>
          <p:cNvSpPr/>
          <p:nvPr/>
        </p:nvSpPr>
        <p:spPr>
          <a:xfrm>
            <a:off x="9381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Zoltán Nádasdy et al. J. Neurosci. 1999;19:9497-9507</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9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pike-shuffling method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1527120" y="1079640"/>
            <a:ext cx="7032600" cy="5394240"/>
          </a:xfrm>
          <a:prstGeom prst="rect">
            <a:avLst/>
          </a:prstGeom>
          <a:ln w="0">
            <a:noFill/>
          </a:ln>
        </p:spPr>
      </p:pic>
      <p:sp>
        <p:nvSpPr>
          <p:cNvPr id="54" name=""/>
          <p:cNvSpPr/>
          <p:nvPr/>
        </p:nvSpPr>
        <p:spPr>
          <a:xfrm>
            <a:off x="15271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Zoltán Nádasdy et al. J. Neurosci. 1999;19:9497-9507</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9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lationship between the firing rate during θ behavior and the probability of spike participation in SPW.A, Probability of discharge of single pyramidal neurons in SPW event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3681360" y="1079640"/>
            <a:ext cx="2720880" cy="5394240"/>
          </a:xfrm>
          <a:prstGeom prst="rect">
            <a:avLst/>
          </a:prstGeom>
          <a:ln w="0">
            <a:noFill/>
          </a:ln>
        </p:spPr>
      </p:pic>
      <p:sp>
        <p:nvSpPr>
          <p:cNvPr id="59" name=""/>
          <p:cNvSpPr/>
          <p:nvPr/>
        </p:nvSpPr>
        <p:spPr>
          <a:xfrm>
            <a:off x="36813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Zoltán Nádasdy et al. J. Neurosci. 1999;19:9497-9507</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9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xamples of the spike sequences during sleep (a) and running (b) sessions, detected by the template-matching method.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3262320" y="1079640"/>
            <a:ext cx="3560760" cy="5394240"/>
          </a:xfrm>
          <a:prstGeom prst="rect">
            <a:avLst/>
          </a:prstGeom>
          <a:ln w="0">
            <a:noFill/>
          </a:ln>
        </p:spPr>
      </p:pic>
      <p:sp>
        <p:nvSpPr>
          <p:cNvPr id="64" name=""/>
          <p:cNvSpPr/>
          <p:nvPr/>
        </p:nvSpPr>
        <p:spPr>
          <a:xfrm>
            <a:off x="32623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Zoltán Nádasdy et al. J. Neurosci. 1999;19:9497-9507</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9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omparison of repeating spike sequences in a parallel spike train, recorded during wheel running, with its shuffled surrogates. a, Peaks of θ oscillation were taken as a reference point, and the spike timing was converted to phase values within the θ cycle.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2886120" y="1079640"/>
            <a:ext cx="4311720" cy="5394240"/>
          </a:xfrm>
          <a:prstGeom prst="rect">
            <a:avLst/>
          </a:prstGeom>
          <a:ln w="0">
            <a:noFill/>
          </a:ln>
        </p:spPr>
      </p:pic>
      <p:sp>
        <p:nvSpPr>
          <p:cNvPr id="69" name=""/>
          <p:cNvSpPr/>
          <p:nvPr/>
        </p:nvSpPr>
        <p:spPr>
          <a:xfrm>
            <a:off x="28861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Zoltán Nádasdy et al. J. Neurosci. 1999;19:9497-9507</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9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omparison of repeating spike sequences in real spike trains (original) and their shuffled surrogates.a–e, Data from five different rats.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3541680" y="1079640"/>
            <a:ext cx="3003480" cy="5394240"/>
          </a:xfrm>
          <a:prstGeom prst="rect">
            <a:avLst/>
          </a:prstGeom>
          <a:ln w="0">
            <a:noFill/>
          </a:ln>
        </p:spPr>
      </p:pic>
      <p:sp>
        <p:nvSpPr>
          <p:cNvPr id="74" name=""/>
          <p:cNvSpPr/>
          <p:nvPr/>
        </p:nvSpPr>
        <p:spPr>
          <a:xfrm>
            <a:off x="35416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Zoltán Nádasdy et al. J. Neurosci. 1999;19:9497-9507</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9 by Society for Neuroscienc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pike triplets detected by the JPM method.a, The JPTH of a spike triplet (3, 2, 0).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108000" y="6912000"/>
            <a:ext cx="1879560" cy="341280"/>
          </a:xfrm>
          <a:prstGeom prst="rect">
            <a:avLst/>
          </a:prstGeom>
          <a:ln w="0">
            <a:noFill/>
          </a:ln>
        </p:spPr>
      </p:pic>
      <p:pic>
        <p:nvPicPr>
          <p:cNvPr id="78" name="" descr=""/>
          <p:cNvPicPr/>
          <p:nvPr/>
        </p:nvPicPr>
        <p:blipFill>
          <a:blip r:embed="rId2"/>
          <a:stretch/>
        </p:blipFill>
        <p:spPr>
          <a:xfrm>
            <a:off x="2646360" y="1079640"/>
            <a:ext cx="4794120" cy="5394240"/>
          </a:xfrm>
          <a:prstGeom prst="rect">
            <a:avLst/>
          </a:prstGeom>
          <a:ln w="0">
            <a:noFill/>
          </a:ln>
        </p:spPr>
      </p:pic>
      <p:sp>
        <p:nvSpPr>
          <p:cNvPr id="79" name=""/>
          <p:cNvSpPr/>
          <p:nvPr/>
        </p:nvSpPr>
        <p:spPr>
          <a:xfrm>
            <a:off x="26463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Zoltán Nádasdy et al. J. Neurosci. 1999;19:9497-9507</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9 by Society for Neuroscience</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pike sequences during sleep are influenced by previous wheel-running behavior.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108000" y="6912000"/>
            <a:ext cx="1879560" cy="341280"/>
          </a:xfrm>
          <a:prstGeom prst="rect">
            <a:avLst/>
          </a:prstGeom>
          <a:ln w="0">
            <a:noFill/>
          </a:ln>
        </p:spPr>
      </p:pic>
      <p:pic>
        <p:nvPicPr>
          <p:cNvPr id="83" name="" descr=""/>
          <p:cNvPicPr/>
          <p:nvPr/>
        </p:nvPicPr>
        <p:blipFill>
          <a:blip r:embed="rId2"/>
          <a:stretch/>
        </p:blipFill>
        <p:spPr>
          <a:xfrm>
            <a:off x="2994120" y="1079640"/>
            <a:ext cx="4097160" cy="5394240"/>
          </a:xfrm>
          <a:prstGeom prst="rect">
            <a:avLst/>
          </a:prstGeom>
          <a:ln w="0">
            <a:noFill/>
          </a:ln>
        </p:spPr>
      </p:pic>
      <p:sp>
        <p:nvSpPr>
          <p:cNvPr id="84" name=""/>
          <p:cNvSpPr/>
          <p:nvPr/>
        </p:nvSpPr>
        <p:spPr>
          <a:xfrm>
            <a:off x="29941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Zoltán Nádasdy et al. J. Neurosci. 1999;19:9497-9507</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9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