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xtension of TTX inactivation of PC, BLA, DH, and AT, estimated on the basis of injection sites (▾, end of needle tracks) and on known characteristics of TTX diffusion (see Materials and Methods). Plates adapted from the atlas of Paxinos and Watson (19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otomicrographs of operated brains. Thearrows indicate the end of the needle tr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S and context freezing in unoperated control (shocked and nonshocked) rat groups. Mean ± SEM freezing as percentage of total time during retention testing in the conditioning apparatus without acoustic stimulation (context) and in the other apparatus with acoustic stimulation (CS). *p &lt; 0.05, significant statistical differences between the conditioned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auditory thalamus bilateral TTX inactivation at increasing post-acquisition delays (0.25, 1.5, and 6 hr). Black columns, TTX-injected groups. White columns, Saline-injected groups. Mean ± SEM context and CS total freezing duration during retention testing. For explanation, see Figure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dorsal hippocampus bilateral TTX inactivation at increasing post-acquisition delays (0.25, 1.5, 6, and 24 hr). *p &lt; 0.05, significant statistical differences between treated and respective control groups. For explanation, see Figur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basolateral amygdala bilateral TTX inactivation at increasing post-acquisition delays (0.25, 1.5, 6, 24, 48, and 96 hr). *p &lt; 0.05, significant statistical differences between treated and respective control groups. For explanation, see Figur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s of perirhinal cortex bilateral TTX inactivation at increasing post-acquisition delays (0.25, 1.5,.6, 14, 48, 96, 192, and 348 hr). *p &lt; 0.05, **p &lt; 0.01, significant statistical differences between treated and respective control groups. For explanation, see Figur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ory Thalamus, Dorsal Hippocampus, Basolateral Amygdala, and Perirhinal Cortex Role in the Consolidation of Conditioned Freezing to Context and to Acoustic Conditioned Stimulus in the 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Benedetto Sacchetti, Carlo Ambrogi Lorenzini, Elisabetta Baldi, Giovanna Tassoni, and Corrado Bucher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(21):9570-95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1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tension of TTX inactivation of PC, BLA, DH, and AT, estimated on the basis of injection sites (▾, end of needle tracks) and on known characteristics of TTX diffusion (see Materials and Method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54400" y="1079640"/>
            <a:ext cx="35766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54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tomicrographs of operated brai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57440" y="1079640"/>
            <a:ext cx="31705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574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S and context freezing in unoperated control (shocked and nonshocked) rat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63720" y="1079640"/>
            <a:ext cx="45594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63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auditory thalamus bilateral TTX inactivation at increasing post-acquisition delays (0.25, 1.5, and 6 h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89320" y="1079640"/>
            <a:ext cx="35067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89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dorsal hippocampus bilateral TTX inactivation at increasing post-acquisition delays (0.25, 1.5, 6, and 24 hr). *p &lt; 0.05, significant statistical differences between treated and respective control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84600" y="1079640"/>
            <a:ext cx="451620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846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basolateral amygdala bilateral TTX inactivation at increasing post-acquisition delays (0.25, 1.5, 6, 24, 48, and 96 hr). *p &lt; 0.05, significant statistical differences between treated and respective control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80960" y="1079640"/>
            <a:ext cx="732348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809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s of perirhinal cortex bilateral TTX inactivation at increasing post-acquisition delays (0.25, 1.5,.6, 14, 48, 96, 192, and 348 hr). *p &lt; 0.05, **p &lt; 0.01, significant statistical differences between treated and respective control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34920" y="1079640"/>
            <a:ext cx="821556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349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nedetto Sacchetti et al. J. Neurosci. 1999;19:9570-9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9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