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s of protein kinase activators on GluR1 phosphorylation in neostriatal slices. Neostriatal slices were prepared from normal C57BL/6 mice and incubated for 5 min in the absence (Control) or presence of the adenylyl cyclase activator forskolin (A) or the PKC activator PDBu (B). Levels of phospho-Ser845(A) or phospho-Ser831(B) were determined by SDS-PAGE and immunoblotting. Phospho-GluR1 levels were detected, quantitated by densitometry, and expressed as percentage of the level detected in control slices. Arrows (top panels) indicate the position of the phospho-GluR1 bands in representative autoradiograms. Data (bottom panels) are expressed as means ± SEM for three experiments (*p &lt; 0.05 compared with control, Mann–WhitneyU tes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 of activation of D1-type or D2-type dopamine receptors on neostriatal GluR1 phosphorylation. Neostriatal slices were prepared from normal C57BL/6 mice. A, At time 0 slices were incubated in the absence or presence of the D1 receptor antagonist SCH23390 (1 μm; D1 Antag) or the D2 receptor antagonist sulpiride (1 μm; D2 Antag), as indicated. At 10 min slices were incubated in normal buffer alone (Control), with dopamine (DA) (100 μm) plus the dopamine uptake inhibitor nomifensine (10 μm), SKF81297 (1 μm) (D1) or quinpirole (1 μm) (D2), with or without SCH23390 or sulpiride for an additional 5 min. B, Slices were incubated with either normal buffer (Control) or with SKF81297 (1 μm) or quinpirole (1 μm) for 5 min. Thesolid arrows indicate the position of phospho-Ser845 GluR1 (A) or phospho-Ser831 GluR1 (B). Theopen arrows indicate cross-reactive bands detected by the phosphorylation state-specific antibody. The intensity of these bands did not change as a function of dopamine agonist or antagonist treatment. Phospho-Ser845 GluR1 (A) or phospho-Ser831 GluR1 (B) was detected in the samples, quantitated by densitometry, and expressed as percentage of the level in control slices. Data are presented as means ± SEM for three experiments (*p &lt; 0.05 compared with control, Mann–Whitney U tes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s of protein phosphatase inhibitors on the phosphorylation state of neostriatal GluR1 at Ser845and Ser831. Mouse neostriatal slices were incubated for 60 min in the absence (Control) or presence of either okadaic acid (1 μm) (OKA) or calyculin A (0.5 μm) (Cal A), inhibitors of PP1/PP2A, or cyclosporin A (5 μm) (Cyc A), an inhibitor of PP2B. Ser845phospho-GluR1 (A) and Ser831phospho-GluR1 (B) were detected, quantitated by densitometry, and expressed as percentage of the level in control slices. Data are expressed as means ± SEM for three experiments (*p &lt; 0.05 compared with control, Mann–Whitney U tes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ole of DARPP-32 in the dopamine-induced phosphorylation of neostriatal GluR1 on Ser845.A, Mouse neostriatal slices prepared from wild-type mice (left) or DARPP-32 knock-out mice (right) were incubated in the absence or presence of dopamine (100 μm) plus nomifensine (10 μm) for the indicated times. Samples were immunoblotted for Ser845-phosphorylated GluR1. The level of phospho-GluR1 was quantitated by densitometry, and the data were expressed as percentage of either the wild-type or knock-out control level. The results are expressed as means ± SEM for five experiments (*p &lt; 0.05 compared with 0 time, Mann–Whitney U test). B, Slices from wild-type or knock-out mice were incubated with a maximally effective concentration of the PP1/2A inhibitor, okadaic acid (OKA; 1 μm) for 60 min. The level of phospho-Ser845 GluR1 was quantitated by densitometry, and the data were expressed as percentage of the wild-type control level. Results are expressed as means± SEM for three experiments (*p &lt; 0.05 compared with control, Mann–Whitney U t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 of acute cocaine on neostriatal GluR1 phosphorylation at Ser845 and Ser831 in vivo. Normal C57Bl/6 mice were injected (intraperitoneally) with vehicle alone (Saline) or with vehicle containing cocaine (20 mg/kg) and killed by focused microwave irradiation at 15, 30, or 60 min after injection. Neostriatum was dissected from each brain and analyzed for phospho-Ser845 and phospho-Ser831 GluR1. The arrowsindicate the position of GluR1, as verified by immunoblotting with an antibody against a C-terminal sequence of GluR1. A,Representative experiment showing immunoblots of phospho-Ser845 GluR1 from three individual animals for each treatment condition. B, Quantitation of phospho-Ser845 and phospho-Ser831in three experiments, each analyzed in triplicate (*p &lt; 0.05, compared with saline; Mann–WhitneyU tes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 of acute cocaine on in vivophosphorylation of GluR1 at Ser845: comparison of wild-type and DARPP-32 knock-out mice. Wild-type or DARPP-32 knock-out mice were injected (intraperitoneally) with saline vehicle (Sal) or with (10 mg/kg) (A) or (20 mg/kg) (B) cocaine (Coc) and killed by focused microwave irradiation 30 min later. The levels of phospho-Ser845 GluR1 and phospho-Thr34 DARPP-32 were detected in neostriatum by immunoblotting, and the data were quantitated by densitometry.Arrows indicate the position of phospho-GluR1 and phospho-DARPP-32 bands. A, Top, An autoradiogram of a representative experiment shows the level of phospho-GluR1 in saline-injected or cocaine-injected wild-type and DARPP-32 knock-out mice. The bar graph summarizes phospho-Ser845 GluR1 levels in the neostriatum of the wild-type and knock-out mice. Data are expressed as means ± SEM for eight mice per group (*p &lt; 0.01 compared with saline-injected mice; Student's t test).A, Bottom, A typical autoradiogram shows the level of phospho-DARPP-32 in a saline-injected and a cocaine-injected wild-type mouse neostriatum. The bar graph shows phospho-Thr34DARPP-32 levels in the neostriata of mice. Data are expressed as means± SEM for four mice per group (*p&lt; 0.05 compared with saline-injected mice; Mann–WhitneyU test). B, Data are expressed as means± SEM for 3–5 mice per group (*p&lt; 0.05 compared with respective saline-injected controls; Mann–Whitney U tes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 of acute methamphetamine administration onin vivo phosphorylation of GluR1 at Ser845 and Ser831 in wild-type and DARPP-32 knock-out mice. Wild-type (A–E) or DARPP-32 knock-out (B, C) mice were injected with vehicle or methamphetamine (Meth) 20 mg/kg (subcutaneously) (B, D, E) or 30 mg/kg (A, C) and killed by focused microwave irradiation 30 min later. Neostriatal phospho-Ser845GluR1 (A–C) and phospho-Ser831 GluR1 (A, D) and phospho-Thr34 DARPP-32 (E) were detected by immunoblotting and quantitated by densitometry. Data are expressed as percentage of values for saline-injected wild-type mice and represent means ± SEM for nine (B, C), three (D), or eight animals (E) per group (*p &lt; 0.05 compared with saline-injected mice; †p &lt; 0.05, compared with wild-type Meth alone; Students' ttes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Regulation of Phosphorylation of the GluR1 AMPA Receptor in the Neostriatum by Dopamine and Psychostimulants In Vivo </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Gretchen L. Snyder, Patrick B. Allen, Allen A. Fienberg, Carmina G. Valle, Richard L. Huganir, Angus C. Nairn, and Paul Greengard</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0(12):4480-4488</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une 15, 2000</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s of protein kinase activators on GluR1 phosphorylation in neostriatal slice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2065320" y="1079640"/>
            <a:ext cx="5954760" cy="5394240"/>
          </a:xfrm>
          <a:prstGeom prst="rect">
            <a:avLst/>
          </a:prstGeom>
          <a:ln w="0">
            <a:noFill/>
          </a:ln>
        </p:spPr>
      </p:pic>
      <p:sp>
        <p:nvSpPr>
          <p:cNvPr id="49" name=""/>
          <p:cNvSpPr/>
          <p:nvPr/>
        </p:nvSpPr>
        <p:spPr>
          <a:xfrm>
            <a:off x="20653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retchen L. Snyder et al. J. Neurosci. 2000;20:4480-4488</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 of activation of D1-type or D2-type dopamine receptors on neostriatal GluR1 phosphorylation.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4073400" y="1079640"/>
            <a:ext cx="1938600" cy="5394240"/>
          </a:xfrm>
          <a:prstGeom prst="rect">
            <a:avLst/>
          </a:prstGeom>
          <a:ln w="0">
            <a:noFill/>
          </a:ln>
        </p:spPr>
      </p:pic>
      <p:sp>
        <p:nvSpPr>
          <p:cNvPr id="54" name=""/>
          <p:cNvSpPr/>
          <p:nvPr/>
        </p:nvSpPr>
        <p:spPr>
          <a:xfrm>
            <a:off x="40734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retchen L. Snyder et al. J. Neurosci. 2000;20:4480-4488</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s of protein phosphatase inhibitors on the phosphorylation state of neostriatal GluR1 at Ser845and Ser831.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3922560" y="1079640"/>
            <a:ext cx="2238480" cy="5394240"/>
          </a:xfrm>
          <a:prstGeom prst="rect">
            <a:avLst/>
          </a:prstGeom>
          <a:ln w="0">
            <a:noFill/>
          </a:ln>
        </p:spPr>
      </p:pic>
      <p:sp>
        <p:nvSpPr>
          <p:cNvPr id="59" name=""/>
          <p:cNvSpPr/>
          <p:nvPr/>
        </p:nvSpPr>
        <p:spPr>
          <a:xfrm>
            <a:off x="39225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retchen L. Snyder et al. J. Neurosci. 2000;20:4480-4488</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ole of DARPP-32 in the dopamine-induced phosphorylation of neostriatal GluR1 on Ser845.A, Mouse neostriatal slices prepared from wild-type mice (left) or DARPP-32 knock-out mice (right) were incubated in the absence or presence of dopamine (100 μm) plus no...</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3579840" y="1079640"/>
            <a:ext cx="2925720" cy="5394240"/>
          </a:xfrm>
          <a:prstGeom prst="rect">
            <a:avLst/>
          </a:prstGeom>
          <a:ln w="0">
            <a:noFill/>
          </a:ln>
        </p:spPr>
      </p:pic>
      <p:sp>
        <p:nvSpPr>
          <p:cNvPr id="64" name=""/>
          <p:cNvSpPr/>
          <p:nvPr/>
        </p:nvSpPr>
        <p:spPr>
          <a:xfrm>
            <a:off x="35798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retchen L. Snyder et al. J. Neurosci. 2000;20:4480-4488</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 of acute cocaine on neostriatal GluR1 phosphorylation at Ser845 and Ser831 in vivo.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739800" y="1390680"/>
            <a:ext cx="8604360" cy="4770360"/>
          </a:xfrm>
          <a:prstGeom prst="rect">
            <a:avLst/>
          </a:prstGeom>
          <a:ln w="0">
            <a:noFill/>
          </a:ln>
        </p:spPr>
      </p:pic>
      <p:sp>
        <p:nvSpPr>
          <p:cNvPr id="6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retchen L. Snyder et al. J. Neurosci. 2000;20:4480-4488</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 of acute cocaine on in vivophosphorylation of GluR1 at Ser845: comparison of wild-type and DARPP-32 knock-out mice.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4227480" y="1079640"/>
            <a:ext cx="1630440" cy="5394240"/>
          </a:xfrm>
          <a:prstGeom prst="rect">
            <a:avLst/>
          </a:prstGeom>
          <a:ln w="0">
            <a:noFill/>
          </a:ln>
        </p:spPr>
      </p:pic>
      <p:sp>
        <p:nvSpPr>
          <p:cNvPr id="74" name=""/>
          <p:cNvSpPr/>
          <p:nvPr/>
        </p:nvSpPr>
        <p:spPr>
          <a:xfrm>
            <a:off x="42274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retchen L. Snyder et al. J. Neurosci. 2000;20:4480-4488</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 of acute methamphetamine administration onin vivo phosphorylation of GluR1 at Ser845 and Ser831 in wild-type and DARPP-32 knock-out mice.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1158840" y="1079640"/>
            <a:ext cx="7769160" cy="5394240"/>
          </a:xfrm>
          <a:prstGeom prst="rect">
            <a:avLst/>
          </a:prstGeom>
          <a:ln w="0">
            <a:noFill/>
          </a:ln>
        </p:spPr>
      </p:pic>
      <p:sp>
        <p:nvSpPr>
          <p:cNvPr id="79" name=""/>
          <p:cNvSpPr/>
          <p:nvPr/>
        </p:nvSpPr>
        <p:spPr>
          <a:xfrm>
            <a:off x="11588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retchen L. Snyder et al. J. Neurosci. 2000;20:4480-4488</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