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st-treatment with the SOD mimetic MnTBP rescues hippocampal neurons from excitotoxic cell death. Cultured rat hippocampal neurons were exposed for 5 or 30 min to NMDA (300 μm) or Mg2+-free HBS (Sham), washed, and returned to the original culture medium. Two hours after the exposure, cultures received 100 μm MnTBP (MnT) or vehicle (Veh). After 22 hr, cell death was quantified by trypan-blue exclusion. Data are means ± SEM fromn = 8–12 cultures in two to three separate experiments per treatment. Different from respective 5 min NMDA-exposed controls: *p &lt; 0.05. n.s., Not statistically significa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europrotection by the SOD mimetic MnTBP. Cultured rat hippocampal neurons were exposed to 300 μm NMDA in Mg2+-free HBS for either 5 or 30 min, washed, and returned to the original culture medium. Sham-washed cultures were exposed for 30 min to Mg2+-free HBS devoid of NMDA. Cultures were pretreated for 60 min with 100 μm MnTBP (MnT) or vehicle (Veh). Treatments were continued during and after the NMDA exposure. Cell death was quantified by trypan-blue uptake after 24 hr. Data are means ± SEM from n = 8–16 cultures in two to four experiments per treatment. Different from 5 min NMDA-exposed controls: *p &lt; 0.05; different from 30 min NMDA-exposed controls: # p &lt; 0.05.</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peroxide production during and after exposure to NMDA. Cultures were incubated with HBS supplemented with 2 μg/ml HEt. The rate of HEt oxidation was determined in 5 min intervals using digital video microscopy. Extracellular solution was exchanged every 5 min by a fresh solution. a, Superoxide production increases during exposure to NMDA. Cultures were exposed for 5 min to Mg2+-free HBS (H) to record baseline superoxide production and were then exposed to NMDA (300 μm). b, Recovery of intracellular superoxide production after a brief glutamate receptor overactivation. Cultured rat hippocampal neurons were exposed to Mg2+-free HBS (H) for 5 min to record baseline superoxide production, and were then exposed to 300 μm NMDA for 5 min (N). Afterward, extracellular solution was exchanged for HBS supplemented with 1 μm of the NMDA antagonist dizocilpine. Data are means ± SEM from n = 27 and 65 neurons in four and nine experiments per treatment, respectively. Different from baseline superoxide production (HBS): *p &lt; 0.05.A.U., Arbitrary fluorescence un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itochondrial potential changes during and after brief NMDA exposure. Live confocal microscopy imaging of R-123 uptake was performed in hippocampal neurons after a 5 min exposure to NMDA (300 μm) or Mg2+-free HBS (Sham), as well as 2 or 6 hr after the respective exposure. a, Histograms showing the average R-123 fluorescence ratio between the soma and the nucleus. Note that 6 hr after exposure to NMDA, neurons had a significantly lower ratio then in all other experimental configurations. Data are means ± SEM fromn = 25–136 neurons and n = 3 separate experiments per treatment. Difference between respective NMDA- and sham-exposed cells: *p &lt; 0.05.n.s., Not statistically significant. b,Top row, Confocal R-123 fluorescence images;bottom row, bright-field (BF) images. Images demonstrate different hippocampal neurons after sham exposure, 2 hr after, or 6 hr after a 5 min NMDA exposure. The sham and the 2 hr NMDA experiment show neurons with a clear fluorescence signal in the soma and almost none in the nucleus region; however, the 6 hr NMDA experiment shows a decrease in the cytoplasmic R-123 fluorescence, as well as an increased fluorescence in the nuclei, leading to an almost equally distributed R-123 dye. Scale bar, 1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ss of mitochondrial cytochrome cafter glutamate receptor overactivation.a–c, Control culture 8 hr after sham exposure showing a punctate or rod-like cytochrome cimmunofluorescence pattern that overlaps with Mitotracker Green FM fluorescence. d–f, Hippocampal neurons 2 hr after NMDA exposure (300 μm, 5 min). Note that cytochrome c immunofluorescence was largely intact and colocalized with Mitotracker Green. g–i, Eight hours after the NMDA exposure, hippocampal neurons lost their cytochrome c immunofluorescence, whereas Mitotracker Green FM fluorescence was largely preserved.j–l, Control culture 8 hr after sham exposure showing overlap of cytochrome c and SOD-2 immunofluorescence. m–o, Culture exposed to 300 μm NMDA for 5 min and fixed after 8 hr. Note a decreased and diffuse cytochrome c staining pattern, whereas SOD-2 immunofluorescence remained intense and punctate. Scale bar, 25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layed superoxide production in excitotoxic neuron death. Cultured rat hippocampal neurons were exposed to 300 μm NMDA for either 5 min (a) or 30 min (b). Sham-washed cultures were exposed to Mg2+-free HBS. At the indicated time points after the exposure, cultures were treated with HEt (10 μg/ml) for 30 min at 37°C. Afterward, cells were homogenized with lysis buffer, and Et fluorescence of cellular extracts was quantified using a fluorescence microplate reader. Et fluorescence data are normalized for protein content. Data are means ± SEM from n = 6–8 cultures. Different from sham-exposed controls: *p&lt; 0.05. The experiment was performed in triplicate (a) or duplicate (b) and yielded comparable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chemical detection of superoxide production in cultured rat hippocampal neurons after glutamate receptor overactivation. Cultured rat hippocampal neurons were exposed for 5 min to NMDA (300 μm) or Mg2+-free HBS (Sham), washed, and returned to the original culture medium. After 6 hr, the culture medium was replaced by HBS supplemented with 2.5 mm DAB, 0.5 mmMnCl2, 1 mm NaN3, 1 μm of the NMDA antagonist dizocilpine and mitochondrial respiratory chain inhibitors rotenone (2 μm) plus oligomycin (2 μm) (R/O), antimycin A (10 μm) (AA), or vehicle (Veh). As a negative control, the reaction was performed in the absence of MnCl2 (−Mn). Cultures were incubated for 60 min at 37°C, fixed, and analyzed for positive staining.a–d, Bright-field images of hippocampal neuron cultures 6 hr after sham exposure or NMDA exposure and treatment with or without antimycin A. Arrows indicate neurons with cytoplasmic precipitates. Scale bar, 50 μm. e, Quantification of Mn/DAB staining. Data are means ± SEM from six cultures in two separate experiments. *p &lt; 0.05: difference between sham- and NMDA-exposed cultures;# p &lt; 0.05: different from sham-exposed cultures. † p &lt; 0.05: different from NMDA-exposed cultures (ANOVA and Tukey's test;p &lt; 0.0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timycin A- and paraquat-induced superoxide production after exposure to NMDA. Cultured rat hippocampal neurons were exposed to 300 μm NMDA or Mg2+-free HBS (Sham) for 5 min, washed, and returned to the original culture medium. After 8 hr, cultures were incubated at 37°C in HBS supplemented with 2 μg/ml HEt plus 1 μm dizocilpine, and 10 μmantimycin A (a), 100 μm paraquat (b), or vehicle. Et production of individual hippocampal neurons was quantified by fluorescence microscopy. Data are means ± SEM from n = 174–373 neurons in two separate experiments per treatment. *p &lt; 0.05: Different from sham-exposed controls;# p &lt; 0.05: different from NMDA-exposed controls; † p &lt; 0.05: different from respective drug-treated control.n.s., Not statistically significant.A.U., Arbitrary fluorescence uni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chrome c release, caspase activation, and superoxide production in medulloblastoma D283 control and ρ− cells. a, Western blot analysis showing reduced expression of cytochrome oxidase subunit I in ρ− cells, whereas expression of Bcl-xl and α-tubulin remains unchanged. b, Rotenone is toxic to control cells, whereas ρ− cells are resistant. Cells were incubated with rotenone, and cell viability was determined after 24 hr. Data are means ± SEM from n = 8 cultures per treatment. c, D283 control and ρ− cells are equally sensitive to the apoptosis-inducing agent staurosporine. Cultures were exposed to staurosporine for 24 hr. Data are means ± SEM from n = 8 cultures per treatment.d, Cytochrome c release in D283 control and ρ− cells detected 6 hr (Con) and 8 hr (ρ−) after exposure to 3 μm staurosporine by immunofluorescence analysis and confocal laser scanning microscopy. Note the diffuse staining pattern in either cell type. Scale bar, 25 μm. e, Caspase-3-like protease activity increases in both D283 control and ρ− cells. Cytosolic extracts were prepared 6 hr (Con) and 8 hr (ρ−) after the exposure to staurosporine. Cleavage of fluorigenic Ac-DEVD-AMC was monitored over 1 hr using a fluorescent plate reader. Data are means ± SEM from n = 8 cultures per treatment. f, Superoxide production in D283 control and ρ− cells. Cultures were exposed to 3 μmstaurosporine for 6 hr (Con) and 8 hr (ρ−) and treated with HEt (10 μg/ml) for the last 30 min of the exposure. Afterward, cells were homogenized with lysis buffer, and Et fluorescence of cellular extracts was quantified using a fluorescence microplate reader. Data are means ± SEM fromn = 15 and 16 cultures, respectively. Different from respective vehicle-treated cultures: *p &lt; 0.0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elayed Mitochondrial Dysfunction in Excitotoxic Neuron Death: Cytochrome c Release and a Secondary Increase in Superoxide Produc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 Marc Luetjens, Nguyen Truc Bui, Bernd Sengpiel, Gudrun Münstermann, Monika Poppe, Aaron J. Krohn, Elke Bauerbach, Josef Krieglstein, and Jochen H. M. Preh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15):5715-572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st-treatment with the SOD mimetic MnTBP rescues hippocampal neurons from excitotoxic cell death.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739800" y="1239840"/>
            <a:ext cx="8604360" cy="5072040"/>
          </a:xfrm>
          <a:prstGeom prst="rect">
            <a:avLst/>
          </a:prstGeom>
          <a:ln w="0">
            <a:noFill/>
          </a:ln>
        </p:spPr>
      </p:pic>
      <p:sp>
        <p:nvSpPr>
          <p:cNvPr id="8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europrotection by the SOD mimetic MnTBP.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324080"/>
            <a:ext cx="8604360" cy="490356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peroxide production during and after exposure to NMDA. Cultures were incubated with HBS supplemented with 2 μg/ml HEt. The rate of HEt oxidation was determined in 5 min intervals using digital video microscop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515960" y="1079640"/>
            <a:ext cx="7051680" cy="5394240"/>
          </a:xfrm>
          <a:prstGeom prst="rect">
            <a:avLst/>
          </a:prstGeom>
          <a:ln w="0">
            <a:noFill/>
          </a:ln>
        </p:spPr>
      </p:pic>
      <p:sp>
        <p:nvSpPr>
          <p:cNvPr id="54" name=""/>
          <p:cNvSpPr/>
          <p:nvPr/>
        </p:nvSpPr>
        <p:spPr>
          <a:xfrm>
            <a:off x="1515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itochondrial potential changes during and after brief NMDA exposur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048120" y="1079640"/>
            <a:ext cx="3989160" cy="5394240"/>
          </a:xfrm>
          <a:prstGeom prst="rect">
            <a:avLst/>
          </a:prstGeom>
          <a:ln w="0">
            <a:noFill/>
          </a:ln>
        </p:spPr>
      </p:pic>
      <p:sp>
        <p:nvSpPr>
          <p:cNvPr id="59" name=""/>
          <p:cNvSpPr/>
          <p:nvPr/>
        </p:nvSpPr>
        <p:spPr>
          <a:xfrm>
            <a:off x="304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ss of mitochondrial cytochrome cafter glutamate receptor overactivation.a–c, Control culture 8 hr after sham exposure showing a punctate or rod-like cytochrome cimmunofluorescence pattern that overlaps with Mitotracker Green FM fluorescence. d–f, Hippocam...</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421000" y="1079640"/>
            <a:ext cx="5243400" cy="5394240"/>
          </a:xfrm>
          <a:prstGeom prst="rect">
            <a:avLst/>
          </a:prstGeom>
          <a:ln w="0">
            <a:noFill/>
          </a:ln>
        </p:spPr>
      </p:pic>
      <p:sp>
        <p:nvSpPr>
          <p:cNvPr id="64" name=""/>
          <p:cNvSpPr/>
          <p:nvPr/>
        </p:nvSpPr>
        <p:spPr>
          <a:xfrm>
            <a:off x="2421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layed superoxide production in excitotoxic neuron death.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536840" y="1079640"/>
            <a:ext cx="7011720" cy="5394240"/>
          </a:xfrm>
          <a:prstGeom prst="rect">
            <a:avLst/>
          </a:prstGeom>
          <a:ln w="0">
            <a:noFill/>
          </a:ln>
        </p:spPr>
      </p:pic>
      <p:sp>
        <p:nvSpPr>
          <p:cNvPr id="69" name=""/>
          <p:cNvSpPr/>
          <p:nvPr/>
        </p:nvSpPr>
        <p:spPr>
          <a:xfrm>
            <a:off x="15368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chemical detection of superoxide production in cultured rat hippocampal neurons after glutamate receptor overactiva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649680" y="1079640"/>
            <a:ext cx="2787480" cy="5394240"/>
          </a:xfrm>
          <a:prstGeom prst="rect">
            <a:avLst/>
          </a:prstGeom>
          <a:ln w="0">
            <a:noFill/>
          </a:ln>
        </p:spPr>
      </p:pic>
      <p:sp>
        <p:nvSpPr>
          <p:cNvPr id="74" name=""/>
          <p:cNvSpPr/>
          <p:nvPr/>
        </p:nvSpPr>
        <p:spPr>
          <a:xfrm>
            <a:off x="3649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timycin A- and paraquat-induced superoxide production after exposure to NMDA. Cultured rat hippocampal neurons were exposed to 300 μm NMDA or Mg2+-free HBS (Sham) for 5 min, washed, and returned to the original culture medium.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017800" y="1079640"/>
            <a:ext cx="6049800" cy="5394240"/>
          </a:xfrm>
          <a:prstGeom prst="rect">
            <a:avLst/>
          </a:prstGeom>
          <a:ln w="0">
            <a:noFill/>
          </a:ln>
        </p:spPr>
      </p:pic>
      <p:sp>
        <p:nvSpPr>
          <p:cNvPr id="79" name=""/>
          <p:cNvSpPr/>
          <p:nvPr/>
        </p:nvSpPr>
        <p:spPr>
          <a:xfrm>
            <a:off x="2017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chrome c release, caspase activation, and superoxide production in medulloblastoma D283 control and ρ− cells. a, Western blot analysis showing reduced expression of cytochrome oxidase subunit I in ρ− cells, whereas expression of Bcl-xl and α-tubulin rem...</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1569960" y="1079640"/>
            <a:ext cx="6946920" cy="5394240"/>
          </a:xfrm>
          <a:prstGeom prst="rect">
            <a:avLst/>
          </a:prstGeom>
          <a:ln w="0">
            <a:noFill/>
          </a:ln>
        </p:spPr>
      </p:pic>
      <p:sp>
        <p:nvSpPr>
          <p:cNvPr id="84" name=""/>
          <p:cNvSpPr/>
          <p:nvPr/>
        </p:nvSpPr>
        <p:spPr>
          <a:xfrm>
            <a:off x="1569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Marc Luetjens et al. J. Neurosci. 2000;20:5715-5723</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