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2" name="PlaceHolder 1"/>
          <p:cNvSpPr>
            <a:spLocks noGrp="1"/>
          </p:cNvSpPr>
          <p:nvPr>
            <p:ph type="body"/>
          </p:nvPr>
        </p:nvSpPr>
        <p:spPr>
          <a:xfrm>
            <a:off x="1185840" y="4787640"/>
            <a:ext cx="5407200" cy="413676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VMAT2 and TH cotransfection in AtT-20 cells. a, Ribonuclease protection assays indicate that message for TH is present only in stably transfected lines and that VMAT2 message is present only in adenoviral-exposed cultures. The recombinant genes are labeled at the top of each column, and the probes used are bracketed on thebottom of each column. The standard (arrow) in the leftmost column indicates a band of 258 kDa, close to the expected fragment lengths. β-actin was present in all cultures at similar levels (data not shown).b, c, Cultures transfected with TH only, or cotransfected with TH and VMAT2 (2–48 hr), or with TH and control virus (vector), were exposed to 40 mmK+ for 3 min at 37°C. Released (extracellular) (b) and remaining intracellular (c) dopamine levels were measured. Mean ± SEM are indicated, n = 3 cultures per group. No dopamine was observed in cultures that did not express TH, and no extracellular dopamine was observed in unstimulated preparations (data not shown). The experiment was repeated three times with similar results. d, Western blotting for TH protein showed no significant differences between controls, helper virus treated cultures, and VMAT2 expressors. Ten micrograms of protein were loaded per lane. The bands show TH protein from left toright in control, helper virus only, and 2, 4, 6, 12, 24, and 48 hr after exposure to the adenovirus. The experiment was performed three separate times, and VMAT2 expression in each case was functionally confirmed before Western blotting (using the protocols inb and c). Densitometry measurements normalized for control levels were as follows: helper virus only for 48 hr, 94 ± 9%; 2 hr, 94 ± 9%; 4 hr, 94 ± 6%; 6 hr, 96 ± 9%; 12 hr, 97 ± 2%; 24 hr, 92 ± 12%; 48 hr, 76 ± 28% (mean ± SD; n = 3;F = 0.7141; p &gt; 0.1; one-way ANOVA).</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4"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s of VMAT2 cotransfection on amperometric recordings of quantal release from TH-expressing AtT-20 cells. Traces of recordings from a representative TH-only cell (a) and a VMAT2/TH-cotransfected cell with nine release events (b) are shown. Thearrows indicate the starting point of an application of 40 mm K+ (3 sec). Examples are shown of a rare wide duration peak from a TH-only culture (c), a representative event from a VMAT2/TH cotransfected culture (d), and an event from a cotransfected culture exposed to l-DOPA (100 μm for 30 min) (e).f indicates a sample rapid event from a cotransfected culture. g indicates a histogram of the quantal sizes of all AtT-20 cell amperometric events recorded. Note that the smallest quantal sizes appear to belong to a separate distribution from the rest of the population. In h, the data ink is plotted as a log transformation. The small size population can now be seen to have a close-to-lognormal population distribution, similar in pattern but with a lower occurrence than the wider population. i indicates a histogram of the durations of all AtT-20 amperometric events recorded. For this distribution as well, the most rapid events appear to be separate from the rest of the population. A log transformation of the data inj indicates the presence of two populations. The data ing–j is also plotted as normal probability plots in traces k–n. The points on the graph represent each event in the data. On the x-axis, “0” represents the mean value, and other values represent SDs from the mean. In this form, a normal distribution is represented by a straight line. The histograms and log transforms of the data are consistent with at least two separate populations of quantal event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6"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munoreactivity to VMAT2, as indicated by diaminobenzidine reaction product, in a TH-transfected AtT-20 culture (a), a TH- and VMAT2-coexpressing AtT-20 culture (b), a control PC12 culture (c), and a VMAT2-transfected PC12 culture (d). Scale bar: a,b, 32 μm; c, d, 20 μm.</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8"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Representative examples of amperometric data contrasting release from control (a) and VMAT2-transfected (b) PC12 cells. The traces shown display a mean quantal size close to the population average. Examples of individual quanta are shown at an expanded time scale. The control trace displays 25 events with mean amplitude of 11.8 pA and mean quantal size of 73,100 molecules. The VMAT2-transfected trace displays 25 events with mean amplitude of 17.8 pA and mean quantal size of 329,900 molecules. c, d, The cumulative populations of quantal sizes and interspike intervals as shown in Table 3.</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0"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Immunolabel of recombinant VMAT2 in VTA neurons.a, Immunolabel for recombinant VMAT2 (red) in axons in an infected culture. b,Immunolabel of endogenous synaptotagmin-1 (green). c, Combined image ofa and b. Colocalization of both antigens appears yellow. Two examples of varicosities that express both recombinant VMAT2 and synaptotagmin are indicated byyellow arrows. An example of a varicosity that expresses synaptotagmin but not recombinant VMAT2 is indicated by a green arrow. Untransfected cultures or cultures exposed to a control adenovirus that does not contain the recombinant VMAT2 are not immunolabeled for recombinant VMAT2 (data not shown). Scale bar, 1 μm. d, e, Electron micrographs of PLP-fixed synaptic vesicles in axonal varicosities immunolabeled for recombinant VMAT2. The distribution of small synaptic vesicles, which can be recognized as 40- to 50-nm-round profiles, is identical to that seen in conventionally fixed micrographs in our previous publications (see Results). More than 40 small synaptic vesicle profiles are present in each of the terminals. The small synaptic vesicle membranes are immunopositive for recombinant VMAT2, as indicated by 10 nm gold particles (small arrows). Immunolabel is absent in dense core granules (large arrowheads). Theasterisk indicates a mitochondria within a presynaptic terminal. Dendrites closely apposed to the terminals are not immunoreactive. f, Control axon terminals where the primary antibody was omitted are immunonegative, as are cultures not exposed to the adenovirus or to a control adenovirus that does not contain the recombinant VMAT2 (data not shown). Scale bars, 100 nm.</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2"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VMAT2 cotransfection on dopamine expression and release in VTA neurons. Stimulation-dependent dopamine release (50 mm K+, 3 min) and remaining intracellular levels (p &lt; 0.01; Newman–Keuls test, for both released and intracellular dopamine levels; n = 7).</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94" name="PlaceHolder 1"/>
          <p:cNvSpPr>
            <a:spLocks noGrp="1"/>
          </p:cNvSpPr>
          <p:nvPr>
            <p:ph type="body"/>
          </p:nvPr>
        </p:nvSpPr>
        <p:spPr>
          <a:xfrm>
            <a:off x="1185840" y="4787640"/>
            <a:ext cx="5407200" cy="397188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Effect of VMAT2 cotransfection on quantal release in VTA neurons. Examples of amperometric data contrasting release from neurites in control (a) and VMAT2-transfected (b) cells after exposure to 20 nmα-latrotoxin (3 sec). The portion indicated by the broken lines is expanded in the middle trace. Examples of these events as marked by the second array of broken lines are displayed at increased temporal resolution in the discontinuous traces. The top control trace displays 12 events (with amplitudes &gt;5× rms background). These have a mean amplitude of 8.92 pA and mean quantal size of 7800 molecules. The VMAT2-transfected trace displays 113 events with a mean amplitude 11.40 pA and mean quantal size of 11,800 molecules. The distribution of quantal sizes is shown in c and represents the events in Table 4. d indicates the quantal sizes as a normal probability plot (Fig. 2, legend). On thex-axis, “0” represents the mean value, and other values represent SDs from the mean. The y-axis reports the log transforms of the quantal sizes. Data from the transfected cultures are in the top trace (smaller points), and controls are in the bottom trace(hollow points). The log transforms of the data are consistent with a different unimodal distribution of quanta in each group; compare Figure 2 L for an example of multimodal distribution. The distribution of interspike intervals for control cultures and cultures expressing recombinant VMAT2 are shown ine and represent the events in Table 4. fdisplays the probability distribution function of interspike intervals in the transfected group, which is well fit to a near exponential decay. All intervals in the data of &lt; 1000 msec are binned in 5 msec intervals (diamonds). The best-fit exponential decay, determined by the least-squares method, is shown by thesolid lin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Synaptic Vesicle Transporter Expression Regulates Vesicle Phenotype and Quantal Size</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Emmanuel N. Pothos, Kristin E. Larsen, David E. Krantz, Yong-jian Liu, John W. Haycock, Wanda Setlik, Michael D. Gershon, Robert H. Edwards, and David Sulzer</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J. Neurosci.</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0(19):7297-730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October 1,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108000" y="6912000"/>
            <a:ext cx="1879560" cy="341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VMAT2 and TH cotransfection in AtT-20 cells. a, Ribonuclease protection assays indicate that message for TH is present only in stably transfected lines and that VMAT2 message is present only in adenoviral-exposed culture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108000" y="6912000"/>
            <a:ext cx="1879560" cy="341280"/>
          </a:xfrm>
          <a:prstGeom prst="rect">
            <a:avLst/>
          </a:prstGeom>
          <a:ln w="0">
            <a:noFill/>
          </a:ln>
        </p:spPr>
      </p:pic>
      <p:pic>
        <p:nvPicPr>
          <p:cNvPr id="48" name="" descr=""/>
          <p:cNvPicPr/>
          <p:nvPr/>
        </p:nvPicPr>
        <p:blipFill>
          <a:blip r:embed="rId2"/>
          <a:stretch/>
        </p:blipFill>
        <p:spPr>
          <a:xfrm>
            <a:off x="2021040" y="1079640"/>
            <a:ext cx="6043320" cy="5394240"/>
          </a:xfrm>
          <a:prstGeom prst="rect">
            <a:avLst/>
          </a:prstGeom>
          <a:ln w="0">
            <a:noFill/>
          </a:ln>
        </p:spPr>
      </p:pic>
      <p:sp>
        <p:nvSpPr>
          <p:cNvPr id="49" name=""/>
          <p:cNvSpPr/>
          <p:nvPr/>
        </p:nvSpPr>
        <p:spPr>
          <a:xfrm>
            <a:off x="202104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mmanuel N. Pothos et al. J. Neurosci. 2000;20:7297-730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s of VMAT2 cotransfection on amperometric recordings of quantal release from TH-expressing AtT-20 cells.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108000" y="6912000"/>
            <a:ext cx="1879560" cy="341280"/>
          </a:xfrm>
          <a:prstGeom prst="rect">
            <a:avLst/>
          </a:prstGeom>
          <a:ln w="0">
            <a:noFill/>
          </a:ln>
        </p:spPr>
      </p:pic>
      <p:pic>
        <p:nvPicPr>
          <p:cNvPr id="53" name="" descr=""/>
          <p:cNvPicPr/>
          <p:nvPr/>
        </p:nvPicPr>
        <p:blipFill>
          <a:blip r:embed="rId2"/>
          <a:stretch/>
        </p:blipFill>
        <p:spPr>
          <a:xfrm>
            <a:off x="3708360" y="1079640"/>
            <a:ext cx="2670120" cy="5394240"/>
          </a:xfrm>
          <a:prstGeom prst="rect">
            <a:avLst/>
          </a:prstGeom>
          <a:ln w="0">
            <a:noFill/>
          </a:ln>
        </p:spPr>
      </p:pic>
      <p:sp>
        <p:nvSpPr>
          <p:cNvPr id="54" name=""/>
          <p:cNvSpPr/>
          <p:nvPr/>
        </p:nvSpPr>
        <p:spPr>
          <a:xfrm>
            <a:off x="3708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mmanuel N. Pothos et al. J. Neurosci. 2000;20:7297-730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munoreactivity to VMAT2, as indicated by diaminobenzidine reaction product, in a TH-transfected AtT-20 culture (a), a TH- and VMAT2-coexpressing AtT-20 culture (b), a control PC12 culture (c), and a VMAT2-transfected PC12 culture (d). </a:t>
            </a:r>
            <a:endParaRPr b="0" lang="en-US" sz="1600" spc="-1" strike="noStrike">
              <a:solidFill>
                <a:srgbClr val="000000"/>
              </a:solidFill>
              <a:latin typeface="Times New Roman"/>
            </a:endParaRPr>
          </a:p>
        </p:txBody>
      </p:sp>
      <p:pic>
        <p:nvPicPr>
          <p:cNvPr id="57" name="" descr=""/>
          <p:cNvPicPr/>
          <p:nvPr/>
        </p:nvPicPr>
        <p:blipFill>
          <a:blip r:embed="rId1"/>
          <a:stretch/>
        </p:blipFill>
        <p:spPr>
          <a:xfrm>
            <a:off x="108000" y="6912000"/>
            <a:ext cx="1879560" cy="341280"/>
          </a:xfrm>
          <a:prstGeom prst="rect">
            <a:avLst/>
          </a:prstGeom>
          <a:ln w="0">
            <a:noFill/>
          </a:ln>
        </p:spPr>
      </p:pic>
      <p:pic>
        <p:nvPicPr>
          <p:cNvPr id="58" name="" descr=""/>
          <p:cNvPicPr/>
          <p:nvPr/>
        </p:nvPicPr>
        <p:blipFill>
          <a:blip r:embed="rId2"/>
          <a:stretch/>
        </p:blipFill>
        <p:spPr>
          <a:xfrm>
            <a:off x="1638360" y="1079640"/>
            <a:ext cx="6810480" cy="5394240"/>
          </a:xfrm>
          <a:prstGeom prst="rect">
            <a:avLst/>
          </a:prstGeom>
          <a:ln w="0">
            <a:noFill/>
          </a:ln>
        </p:spPr>
      </p:pic>
      <p:sp>
        <p:nvSpPr>
          <p:cNvPr id="59" name=""/>
          <p:cNvSpPr/>
          <p:nvPr/>
        </p:nvSpPr>
        <p:spPr>
          <a:xfrm>
            <a:off x="16383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mmanuel N. Pothos et al. J. Neurosci. 2000;20:7297-7306</a:t>
            </a:r>
            <a:endParaRPr b="0" lang="en-US" sz="1200" spc="-1" strike="noStrike">
              <a:solidFill>
                <a:srgbClr val="000000"/>
              </a:solidFill>
              <a:latin typeface="Times New Roman"/>
            </a:endParaRPr>
          </a:p>
        </p:txBody>
      </p:sp>
      <p:sp>
        <p:nvSpPr>
          <p:cNvPr id="6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Representative examples of amperometric data contrasting release from control (a) and VMAT2-transfected (b) PC12 cells. </a:t>
            </a:r>
            <a:endParaRPr b="0" lang="en-US" sz="1600" spc="-1" strike="noStrike">
              <a:solidFill>
                <a:srgbClr val="000000"/>
              </a:solidFill>
              <a:latin typeface="Times New Roman"/>
            </a:endParaRPr>
          </a:p>
        </p:txBody>
      </p:sp>
      <p:pic>
        <p:nvPicPr>
          <p:cNvPr id="62" name="" descr=""/>
          <p:cNvPicPr/>
          <p:nvPr/>
        </p:nvPicPr>
        <p:blipFill>
          <a:blip r:embed="rId1"/>
          <a:stretch/>
        </p:blipFill>
        <p:spPr>
          <a:xfrm>
            <a:off x="108000" y="6912000"/>
            <a:ext cx="1879560" cy="341280"/>
          </a:xfrm>
          <a:prstGeom prst="rect">
            <a:avLst/>
          </a:prstGeom>
          <a:ln w="0">
            <a:noFill/>
          </a:ln>
        </p:spPr>
      </p:pic>
      <p:pic>
        <p:nvPicPr>
          <p:cNvPr id="63" name="" descr=""/>
          <p:cNvPicPr/>
          <p:nvPr/>
        </p:nvPicPr>
        <p:blipFill>
          <a:blip r:embed="rId2"/>
          <a:stretch/>
        </p:blipFill>
        <p:spPr>
          <a:xfrm>
            <a:off x="1733400" y="1079640"/>
            <a:ext cx="6620040" cy="5394240"/>
          </a:xfrm>
          <a:prstGeom prst="rect">
            <a:avLst/>
          </a:prstGeom>
          <a:ln w="0">
            <a:noFill/>
          </a:ln>
        </p:spPr>
      </p:pic>
      <p:sp>
        <p:nvSpPr>
          <p:cNvPr id="64" name=""/>
          <p:cNvSpPr/>
          <p:nvPr/>
        </p:nvSpPr>
        <p:spPr>
          <a:xfrm>
            <a:off x="173340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mmanuel N. Pothos et al. J. Neurosci. 2000;20:7297-7306</a:t>
            </a:r>
            <a:endParaRPr b="0" lang="en-US" sz="1200" spc="-1" strike="noStrike">
              <a:solidFill>
                <a:srgbClr val="000000"/>
              </a:solidFill>
              <a:latin typeface="Times New Roman"/>
            </a:endParaRPr>
          </a:p>
        </p:txBody>
      </p:sp>
      <p:sp>
        <p:nvSpPr>
          <p:cNvPr id="6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58920" y="420840"/>
            <a:ext cx="9362880" cy="67788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Immunolabel of recombinant VMAT2 in VTA neurons.a, Immunolabel for recombinant VMAT2 (red) in axons in an infected culture. b,Immunolabel of endogenous synaptotagmin-1 (green). c, Combined image ofa and b. </a:t>
            </a:r>
            <a:endParaRPr b="0" lang="en-US" sz="1600" spc="-1" strike="noStrike">
              <a:solidFill>
                <a:srgbClr val="000000"/>
              </a:solidFill>
              <a:latin typeface="Times New Roman"/>
            </a:endParaRPr>
          </a:p>
        </p:txBody>
      </p:sp>
      <p:pic>
        <p:nvPicPr>
          <p:cNvPr id="67" name="" descr=""/>
          <p:cNvPicPr/>
          <p:nvPr/>
        </p:nvPicPr>
        <p:blipFill>
          <a:blip r:embed="rId1"/>
          <a:stretch/>
        </p:blipFill>
        <p:spPr>
          <a:xfrm>
            <a:off x="108000" y="6912000"/>
            <a:ext cx="1879560" cy="341280"/>
          </a:xfrm>
          <a:prstGeom prst="rect">
            <a:avLst/>
          </a:prstGeom>
          <a:ln w="0">
            <a:noFill/>
          </a:ln>
        </p:spPr>
      </p:pic>
      <p:pic>
        <p:nvPicPr>
          <p:cNvPr id="68" name="" descr=""/>
          <p:cNvPicPr/>
          <p:nvPr/>
        </p:nvPicPr>
        <p:blipFill>
          <a:blip r:embed="rId2"/>
          <a:stretch/>
        </p:blipFill>
        <p:spPr>
          <a:xfrm>
            <a:off x="2617920" y="1079640"/>
            <a:ext cx="4851360" cy="5394240"/>
          </a:xfrm>
          <a:prstGeom prst="rect">
            <a:avLst/>
          </a:prstGeom>
          <a:ln w="0">
            <a:noFill/>
          </a:ln>
        </p:spPr>
      </p:pic>
      <p:sp>
        <p:nvSpPr>
          <p:cNvPr id="69" name=""/>
          <p:cNvSpPr/>
          <p:nvPr/>
        </p:nvSpPr>
        <p:spPr>
          <a:xfrm>
            <a:off x="2617920" y="6583320"/>
            <a:ext cx="431928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mmanuel N. Pothos et al. J. Neurosci. 2000;20:7297-7306</a:t>
            </a:r>
            <a:endParaRPr b="0" lang="en-US" sz="1200" spc="-1" strike="noStrike">
              <a:solidFill>
                <a:srgbClr val="000000"/>
              </a:solidFill>
              <a:latin typeface="Times New Roman"/>
            </a:endParaRPr>
          </a:p>
        </p:txBody>
      </p:sp>
      <p:sp>
        <p:nvSpPr>
          <p:cNvPr id="7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VMAT2 cotransfection on dopamine expression and release in VTA neurons. </a:t>
            </a:r>
            <a:endParaRPr b="0" lang="en-US" sz="1600" spc="-1" strike="noStrike">
              <a:solidFill>
                <a:srgbClr val="000000"/>
              </a:solidFill>
              <a:latin typeface="Times New Roman"/>
            </a:endParaRPr>
          </a:p>
        </p:txBody>
      </p:sp>
      <p:pic>
        <p:nvPicPr>
          <p:cNvPr id="72" name="" descr=""/>
          <p:cNvPicPr/>
          <p:nvPr/>
        </p:nvPicPr>
        <p:blipFill>
          <a:blip r:embed="rId1"/>
          <a:stretch/>
        </p:blipFill>
        <p:spPr>
          <a:xfrm>
            <a:off x="108000" y="6912000"/>
            <a:ext cx="1879560" cy="341280"/>
          </a:xfrm>
          <a:prstGeom prst="rect">
            <a:avLst/>
          </a:prstGeom>
          <a:ln w="0">
            <a:noFill/>
          </a:ln>
        </p:spPr>
      </p:pic>
      <p:pic>
        <p:nvPicPr>
          <p:cNvPr id="73" name="" descr=""/>
          <p:cNvPicPr/>
          <p:nvPr/>
        </p:nvPicPr>
        <p:blipFill>
          <a:blip r:embed="rId2"/>
          <a:stretch/>
        </p:blipFill>
        <p:spPr>
          <a:xfrm>
            <a:off x="2189160" y="1079640"/>
            <a:ext cx="5705640" cy="5394240"/>
          </a:xfrm>
          <a:prstGeom prst="rect">
            <a:avLst/>
          </a:prstGeom>
          <a:ln w="0">
            <a:noFill/>
          </a:ln>
        </p:spPr>
      </p:pic>
      <p:sp>
        <p:nvSpPr>
          <p:cNvPr id="74" name=""/>
          <p:cNvSpPr/>
          <p:nvPr/>
        </p:nvSpPr>
        <p:spPr>
          <a:xfrm>
            <a:off x="218916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mmanuel N. Pothos et al. J. Neurosci. 2000;20:7297-7306</a:t>
            </a:r>
            <a:endParaRPr b="0" lang="en-US" sz="1200" spc="-1" strike="noStrike">
              <a:solidFill>
                <a:srgbClr val="000000"/>
              </a:solidFill>
              <a:latin typeface="Times New Roman"/>
            </a:endParaRPr>
          </a:p>
        </p:txBody>
      </p:sp>
      <p:sp>
        <p:nvSpPr>
          <p:cNvPr id="7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Effect of VMAT2 cotransfection on quantal release in VTA neurons. </a:t>
            </a:r>
            <a:endParaRPr b="0" lang="en-US" sz="1600" spc="-1" strike="noStrike">
              <a:solidFill>
                <a:srgbClr val="000000"/>
              </a:solidFill>
              <a:latin typeface="Times New Roman"/>
            </a:endParaRPr>
          </a:p>
        </p:txBody>
      </p:sp>
      <p:pic>
        <p:nvPicPr>
          <p:cNvPr id="77" name="" descr=""/>
          <p:cNvPicPr/>
          <p:nvPr/>
        </p:nvPicPr>
        <p:blipFill>
          <a:blip r:embed="rId1"/>
          <a:stretch/>
        </p:blipFill>
        <p:spPr>
          <a:xfrm>
            <a:off x="108000" y="6912000"/>
            <a:ext cx="1879560" cy="341280"/>
          </a:xfrm>
          <a:prstGeom prst="rect">
            <a:avLst/>
          </a:prstGeom>
          <a:ln w="0">
            <a:noFill/>
          </a:ln>
        </p:spPr>
      </p:pic>
      <p:pic>
        <p:nvPicPr>
          <p:cNvPr id="78" name="" descr=""/>
          <p:cNvPicPr/>
          <p:nvPr/>
        </p:nvPicPr>
        <p:blipFill>
          <a:blip r:embed="rId2"/>
          <a:stretch/>
        </p:blipFill>
        <p:spPr>
          <a:xfrm>
            <a:off x="2009880" y="1079640"/>
            <a:ext cx="6065640" cy="5394240"/>
          </a:xfrm>
          <a:prstGeom prst="rect">
            <a:avLst/>
          </a:prstGeom>
          <a:ln w="0">
            <a:noFill/>
          </a:ln>
        </p:spPr>
      </p:pic>
      <p:sp>
        <p:nvSpPr>
          <p:cNvPr id="79" name=""/>
          <p:cNvSpPr/>
          <p:nvPr/>
        </p:nvSpPr>
        <p:spPr>
          <a:xfrm>
            <a:off x="2009880" y="6583320"/>
            <a:ext cx="4319640" cy="25560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Emmanuel N. Pothos et al. J. Neurosci. 2000;20:7297-7306</a:t>
            </a:r>
            <a:endParaRPr b="0" lang="en-US" sz="1200" spc="-1" strike="noStrike">
              <a:solidFill>
                <a:srgbClr val="000000"/>
              </a:solidFill>
              <a:latin typeface="Times New Roman"/>
            </a:endParaRPr>
          </a:p>
        </p:txBody>
      </p:sp>
      <p:sp>
        <p:nvSpPr>
          <p:cNvPr id="8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Society for Neuroscience</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