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nfluence of the high dose (3 nmol) of D1 receptor antagonist infusion into the nucleus accumbens core on acquisition of lever pressing for sucrose pellets: correct and incorrect lever responses. Animals received intra-accumbens infusion of SCH-23390 (3 nmol) or vehicle (saline) on the first 4 test days; on the remaining training days, no infusion was given except on day 10, when animals received their initial treatments (underscoreddays indicate infusion days). A, Lever presses. **p &lt; 0.01, treatment effect;†† p &lt; 0.01, interactions.B, Nose pokes into the food tray during learning. **p &lt; 0.01, treatment effect;†† p &lt; 0.01, interactions. See Materials and Methods for statistical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nfluence of D1 receptor antagonist SCH-23390 (0.3 nmol) or NMDA receptor antagonist AP-5 (0.5 nmol) infusion into the nucleus accumbens core on acquisition of lever pressing for sucrose pellets. See legend of Figure 1 for further details. A, Lever presses. B, Nose pokes. See Materials and Methods for statistical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nfluence of the co-infusion of D1receptor antagonist SCH-23390 (0.3 nmol) and NMDA receptor antagonist AP-5 (0.5 nmol) into the nucleus accumbens core on acquisition of lever pressing for sucrose pellets. See legend of Figure 1 for further details. A, Lever presses. **p &lt; 0.01, treatment effect; †† p &lt; 0.01, interactions. B, Nose pokes. *p &lt; 0.05, treatment effect; †† p &lt; 0.01, interactions. See Materials and Methods for statistical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epresentative histology from a rat infused with the co-treatment (SCH-23390, 0.3 nmol; AP-5, 0.5 nmol) as shown inA and from a rat infused with saline, as shown in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incident Activation of NMDA and Dopamine D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eptors within the Nucleus Accumbens Core Is Required for Appetitive Instrument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Stephanie L. Smith-Roe, and Ann E. Ke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. Neuros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20(20):7737-77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ctober 15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luence of the high dose (3 nmol) of D1 receptor antagonist infusion into the nucleus accumbens core on acquisition of lever pressing for sucrose pellets: correct and incorrect lever respons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65400" y="1079640"/>
            <a:ext cx="39528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654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ephanie L. Smith-Roe, and Ann E. Kelley J. Neurosci. 2000;20:7737-77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luence of D1 receptor antagonist SCH-23390 (0.3 nmol) or NMDA receptor antagonist AP-5 (0.5 nmol) infusion into the nucleus accumbens core on acquisition of lever pressing for sucrose pelle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62440" y="1079640"/>
            <a:ext cx="416052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62440" y="6583320"/>
            <a:ext cx="4319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ephanie L. Smith-Roe, and Ann E. Kelley J. Neurosci. 2000;20:7737-77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luence of the co-infusion of D1receptor antagonist SCH-23390 (0.3 nmol) and NMDA receptor antagonist AP-5 (0.5 nmol) into the nucleus accumbens core on acquisition of lever pressing for sucrose pelle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92400" y="1079640"/>
            <a:ext cx="389880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924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ephanie L. Smith-Roe, and Ann E. Kelley J. Neurosci. 2000;20:7737-77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presentative histology from a rat infused with the co-treatment (SCH-23390, 0.3 nmol; AP-5, 0.5 nmol) as shown inA and from a rat infused with saline, as shown in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78160" y="1079640"/>
            <a:ext cx="352908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781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ephanie L. Smith-Roe, and Ann E. Kelley J. Neurosci. 2000;20:7737-77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