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LTD in the CA1 region in vivo is dependent on protein translation. A, A low-frequency train (LFS) in the presence of a vehicle injection (n = 6) results in a robust LTD that persists for &gt;8 hr. Injection of the protein translation inhibitors anisomycin (240 μg/5 μl; n = 10) or emetine (240 μg/5 μl;n = 7) 2 hr before LFS completely inhibits the expression of LTD from ∼4.5 hr after LFS. B,Anisomycin (240 μg/5 μl; n = 6) or emetine (240 μg/5 μl; n = 7) have no effect on basal synaptic transmission compared to vehicle-injected controls (n = 6). C, Original analog traces showing evoked responses in the CA1 region at three time points: preinjection, t = 5 min and t = 8 hr after LFS, in (i) a vehicle-injected animal and (ii) an animal injected with anisomycin (240 μg/5 μl). Calibration: 5 msec, 5 mV. Line breaks indicate change in time sc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LTD in the CA1 region in vivo is not dependent on transcription. A, A low-frequency train (LFS) in the presence of vehicle (n= 6) results in a robust LTD that persists for &gt;8 hr. Injection of the protein transcription inhibitor actinomycin-D (72 μg/12 μl;n = 6) 2 hr before LFS has no effect on the expression of LTD compared to vehicle-treated animals.B, Actinomycin-D (72 μg/12 μl; n= 6) has no effect on basal synaptic transmission compared to vehicle-injected controls (n = 6).C, Original analog traces showing evoked responses in the CA1 region at three time points: preinjection,t = 5 min and t = 8 hr after LFS, in (i) a vehicle-injected animal and (ii) an animal injected with actinomycin-D (72 μg/12 μl; n = 6). Calibration: 5 msec, 5 mV.Line breaks indicate change in time sc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quirement of Translation But Not Transcription for the Maintenance of Long-Term Depression in the CA1 Region of Freely Moving R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Denise Manahan-Vaughan, Alexander Kulla, and J. Uwe Fr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. Neuros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20(22):8572-85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vember 15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0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TD in the CA1 region in vivo is dependent on protein transla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52960" y="1079640"/>
            <a:ext cx="357804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52960" y="6583320"/>
            <a:ext cx="43192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nise Manahan-Vaughan et al. J. Neurosci. 2000;20:8572-8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0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TD in the CA1 region in vivo is not dependent on transcrip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25960" y="1079640"/>
            <a:ext cx="363204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25960" y="6583320"/>
            <a:ext cx="43192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nise Manahan-Vaughan et al. J. Neurosci. 2000;20:8572-8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0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