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outhern blot. Five micrograms of DNA extracted from female (a) and male (b) tissue were digested with EcoRI, electrophoresed in agarose gel (1%), blotted on a nylon membrane, and hybridized with the 145SC5 probe, which detected a strong signal of 1.5 kb in the male DNA. The 2.2 kb band detected by hybridization with a probe for the prion protein gene demonstrates similar amounts of DNA on each la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b, Numerous macrophages are present within the transplanted male sciatic nerve, as detected by immunocytochemistry for the Mac-3 (DPT 5) (a) or F4/80 (DPT 20) (b) antigens.c–h, Detection of apoptotic macrophages within the transplanted male donor nerve. c, Morphologically, cells with the typical hallmarks of apoptosis (arrows) such as chromatin condensation and margination and apoptotic bodies are present (H&amp;E). d, Immunocytochemistry for Mac-3 shows an apoptotic macrophage (arrow) with a condensed and fragmented nucleus. e, Semithin section of sciatic nerve 10 d after transection. Myelin debris-containing macrophages with dark, condensed nuclei (arrows) typical for apoptosis are present. f, Detection of DNA fragmentation with thein situ tailing technique. Degenerating cells (arrows) are present within the transplanted nerve.g, Double staining for IST and F4/80 identifies a macrophage with DNA fragmentation (arrow).h, Immunocytochemistry for CM-1. CM-1-positive (arrow) and CM-1-negative (arrowhead) cells with the typical morphology of apoptosis. Scale bars, 25 μ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Quantitative data of invading (a, b) and apoptotic (c, d) macrophages in transplant (a, c) and recipient nerves (b, d). The open square represents cell numbers in the degenerating control nerve. *Statistically significant (p &lt; 0.05) versus the total number of endoneurial macrophages at DPT 2 and 5 and DPT 20 as well as the relative number of apoptotic macrophages at the same time points. **Statistically significant (p &lt; 0.0005) versus the number of endoneurial macrophages at all other time poi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ouble immunofluorescence for CM-1 (green) and Mac-3 (red). The double-labeled macrophage is clearly detect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tection of Y chromosome-positive cells. a, H&amp;E stain showing the highly cellular transplanted nerve at the left margin and several fascicles of the host nerve at the right margin. b, The same nerve as shown ina stained for the Y-chromosome probe 145SC5. There are numerous positive cells within the transplanted nerve and the surrounding perineurial tissue. c, High magnification of the grafted nerve showing numerous large, round Y chromosome-positive cells with macrophage morphology. d, Y chromosome-positive cells are also present in the surrounding perineurial tissue of the transplanted nerve. e, Few Y chromosome-positive cells are detected in the female host nerve.f–h, Y chromosome-positive cells (f) closely attached to an endothelial cell at the luminal surface (arrow) of a perineurial blood vessel, (g) in a para-aortal lymph node and (h) in the spleen. Scale bars:a, b, 100 μm; c–h, 25 μ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Macrophages Are Eliminated from the Injured Peripheral Nerve via Local Apoptosis and Circulation to Regional Lymph Nodes and the Splee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Tanja Kuhlmann, Andreas Bitsch, Christine Stadelmann, Heike Siebert, and Wolfgang Brück</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1(10):3401-340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y 15,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outhern blot.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739800" y="1176480"/>
            <a:ext cx="8604360" cy="520200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anja Kuhlmann et al. J. Neurosci. 2001;21:3401-3408</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b, Numerous macrophages are present within the transplanted male sciatic nerve, as detected by immunocytochemistry for the Mac-3 (DPT 5) (a) or F4/80 (DPT 20) (b) antigens.c–h, Detection of apoptotic macrophages within the transplanted male donor nerv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739960" y="1079640"/>
            <a:ext cx="4605480" cy="5394240"/>
          </a:xfrm>
          <a:prstGeom prst="rect">
            <a:avLst/>
          </a:prstGeom>
          <a:ln w="0">
            <a:noFill/>
          </a:ln>
        </p:spPr>
      </p:pic>
      <p:sp>
        <p:nvSpPr>
          <p:cNvPr id="54" name=""/>
          <p:cNvSpPr/>
          <p:nvPr/>
        </p:nvSpPr>
        <p:spPr>
          <a:xfrm>
            <a:off x="2739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anja Kuhlmann et al. J. Neurosci. 2001;21:3401-3408</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Quantitative data of invading (a, b) and apoptotic (c, d) macrophages in transplant (a, c) and recipient nerves (b, d).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1643040" y="1079640"/>
            <a:ext cx="6800760" cy="5394240"/>
          </a:xfrm>
          <a:prstGeom prst="rect">
            <a:avLst/>
          </a:prstGeom>
          <a:ln w="0">
            <a:noFill/>
          </a:ln>
        </p:spPr>
      </p:pic>
      <p:sp>
        <p:nvSpPr>
          <p:cNvPr id="59" name=""/>
          <p:cNvSpPr/>
          <p:nvPr/>
        </p:nvSpPr>
        <p:spPr>
          <a:xfrm>
            <a:off x="1643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anja Kuhlmann et al. J. Neurosci. 2001;21:3401-3408</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ouble immunofluorescence for CM-1 (green) and Mac-3 (red).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1882800" y="1079640"/>
            <a:ext cx="6318360" cy="5394240"/>
          </a:xfrm>
          <a:prstGeom prst="rect">
            <a:avLst/>
          </a:prstGeom>
          <a:ln w="0">
            <a:noFill/>
          </a:ln>
        </p:spPr>
      </p:pic>
      <p:sp>
        <p:nvSpPr>
          <p:cNvPr id="64" name=""/>
          <p:cNvSpPr/>
          <p:nvPr/>
        </p:nvSpPr>
        <p:spPr>
          <a:xfrm>
            <a:off x="1882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anja Kuhlmann et al. J. Neurosci. 2001;21:3401-3408</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tection of Y chromosome-positive cells. a, H&amp;E stain showing the highly cellular transplanted nerve at the left margin and several fascicles of the host nerve at the right margin. b, The same nerve as shown ina stained for the Y-chromosome probe 145SC5.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744640" y="1079640"/>
            <a:ext cx="4596120" cy="5394240"/>
          </a:xfrm>
          <a:prstGeom prst="rect">
            <a:avLst/>
          </a:prstGeom>
          <a:ln w="0">
            <a:noFill/>
          </a:ln>
        </p:spPr>
      </p:pic>
      <p:sp>
        <p:nvSpPr>
          <p:cNvPr id="69" name=""/>
          <p:cNvSpPr/>
          <p:nvPr/>
        </p:nvSpPr>
        <p:spPr>
          <a:xfrm>
            <a:off x="2744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anja Kuhlmann et al. J. Neurosci. 2001;21:3401-3408</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