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dentification of RSNPCs and modulation of their firing by presynaptic β and γ frequency activity of layer 2/3 pyramidal cells. Response of an RSNPC to a depolarizing (Aa; 180 pA) and hyperpolarizing (Ab; −100 pA) current pulse. Biocytin-filled axon terminals (t) of RSNPCs formed synapses (arrows) with unlabeled dendritic (d) shafts (Ba) and spines (s) (Bb). Ca, Pyramidal cell firing at 19 Hz (top) elicited EPSPs showing marked activity-dependent depression in a postsynaptic RSNPC (middle). Subsequently, the postsynaptic cell was tonically depolarized to fire at a frequency of ∼4 Hz (bottom, 50 consecutive superimposed sweeps). Cb, Firing probability plot of the postsynaptic RSNPC during a representative presynaptic action potential cycle shows that only the first three cycles were effective in phasing postsynaptic activity at β frequenc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endritic GABAergic synapses can phase somatic action potential generation in a RSNPC to RSNPC connection. Data acquired from the presynaptic and postsynaptic cells are presented ingray and black, respectively.Aa, Repetitive presynaptic firing at 19 Hz (top) resulted in the summation of unitary IPSPs followed by the stabilization of their amplitude in the postsynaptic cell (middle). When tonically depolarizing to fire, the postsynaptic RSNPC became effectively entrained with a phase lag of ∼41 msec throughout the entire duration of presynaptic activity (bottom, 50 consecutive sweeps). Ab, Distribution of postsynaptic firing probability during a representative presynaptic action potential cycle. Ba, Repeating the experiment shown in A with 37 Hz presynaptic activation (top) resulted in early summation and subsequent stabilization of IPSP amplitude (middle). GABAergic synapses between RSNPCs were not effective in phasing postsynaptic firing at γ frequency as shown by 50 consecutive superimposed sweeps (Ba, bottom) and average firing probability distribution during a presynaptic cycle (Bb). C, Distribution of GABAergic input on the dendritic tree of the postsynaptic RSNPC (black). The axon of the presynaptic cell (gray) innervated secondary and tertiary dendrites (arrows), as detected by light microscopy.D, Dendrogram representing the innervated dendritic segments of the postsynaptic cell and three-dimensional distances of synapses (arrow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 name="PlaceHolder 1"/>
          <p:cNvSpPr>
            <a:spLocks noGrp="1"/>
          </p:cNvSpPr>
          <p:nvPr>
            <p:ph type="body"/>
          </p:nvPr>
        </p:nvSpPr>
        <p:spPr>
          <a:xfrm>
            <a:off x="1185840" y="4787640"/>
            <a:ext cx="5407200" cy="562428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Gap junctional connections between RSNPCs.A –H, Synchronization of a pair of RSNPCs by strong gap junctional coupling. Aa, Electrical coupling produces gap junctional potentials of relatively stable amplitude (middle) in response to presynaptic trains of action potentials delivered at 37 Hz (top). The scattergram represents the timing of individual action potentials in 50 consecutive trials during tonic depolarization of the postsynaptic cell. Robust gap junctional coupling was highly potent in synchronizing presynaptic and postsynaptic activity, as shown by the overlay of the 50 trials (bottom). Ab, Distribution of postsynaptic action potentials relative to a presynaptic cycle.B–H, Anatomical correlates of the electrical interaction shown in A. B, Reconstructions of RSNPC 1 (soma and dendrites, gray; axon, black) and RSNPC 2 (soma and dendrites,black; axon, gray) cells. Cortical layers are indicated in the middle(I–V). C, Relative arrangement of somata and dendrites of the coupled cells. Electron micro- (Figure legend continues.) scopically identified gap junctions (arrowheads) mediating the interaction between the coupled cells were found on dendrites. D, Dendrograms representing three-dimensional dendritic distances of gap junctions (arrowheads). E–H, Examples of the eight electron microscopically identified gap junctions (arrowheads) between the RSNPCs. Insetsshow the junctional regions at higher magnification. E, Dendritic spines (s) establish a gap junction between RSNPC 1 (left) and RSNPC 2 (right; d, parent dendritic shafts).F, Gap junction between a dendritic spine (s) of RSNPC 1 and a dendritic shaft (d) of RSNPC 2. G–H, Dendritic shafts of RSNPC1 and 2 (d) form gap junctions. Note the parallel membrane appositions with widened extracellular space of 21–25 nm (*) adjacent to both dendrodendritic gap junctions. Synaptic junctions are indicated (arrows) between unlabeled terminals (t) and the dendrites of RSNPC 1. Electrical coupling between RSNPCs entrained postsynaptic firing with a phase lag in most pairs examined. Ia, Presynaptic action potentials at 37 Hz (top) elicited gap junctional potentials of moderate amplitude in the postsynaptic cell (middle, same scale as inAa). When tonically depolarizing the postsynaptic RSNPC to fire, postsynaptic action potentials became entrained with a phase lag of ∼6 msec throughout the entire duration of presynaptic activity (50 consecutive sweeps). Ib, Distribution of postsynaptic firing probability during a representative presynaptic action potential cyc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ynchronization of RSNPCs through combined unitary gap junctions and GABAergic synapses targeting the dendritic domain. Data obtained from the presynaptic and postsynaptic cells are presented in gray and black, respectively.Aa–Bb, Presynaptic action potentials evoked at 19 and 37 Hz (Aa, Ba, top) elicited spikelets followed by short-latency IPSPs in the postsynaptic neuron (middle). Dual coupling of moderate strength synchronized presynaptic and postsynaptic firing, as shown by 50 consecutive trials during tonic depolarization of the postsynaptic cell (Aa, Ba, bottom) and the probability plots of postsynaptic firing during a representative presynaptic cycle (Ab, Bb). C, The route of presynaptic dendrites and axons (gray) to gap junctions (arrowheads) and GABAergic synapses (arrows) on the postsynaptic cell (black). The dendrites and axons of the presynaptic cell are truncated for clarity. D, Dendrograms representing the dendritic branches of the two RSNPCs involved in the connections and three-dimensional distances of the sites of interaction. E, F, Examples of the two electron microscopically identified gap junctions and the three GABAergic synapses between the RSNPCs.Insets on the right show the junctional regions at higher magnification. E, Gap junction (arrowhead) between dendritic shafts (d) of the presynaptic (right) and postsynaptic (left) cell. F, A terminal (t) of the presynaptic cell establishes a synaptic junction (arrow) on a dendritic shaft (d) of the postsynaptic cel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ifferential entrainment of suprathreshold activity by inputs targeting RSNPCs. A, Representative presynaptic cycles at β (19 Hz) and γ (37 Hz) frequency.B–E, Firing probability plots of postsynaptic RSNPCs during representative presynaptic action potential cycles shown inA when EPSPs (B; n = 6), IPSPs (C; n = 5), gap junctions (D; n = 4), and dual electrical and GABAergic synapses (E; n = 6) mediated unitary interactions. In pyramid-to-RSNPC connections, only the first two presynaptic cycles entrained postsynaptic firing in all pairs; the rest of the cycles are not shown (Fig. 1 Cb). The two electrical-only connections with the highest coupling ratios and numbers of gap junctions are not presented in this figure (see Results and Fig. 3 A–H). F, Cluster analysis of the data presented in B–E. Controls, connections mediated by IPSPs, and combined electrical and GABAergic coupling form distinct groups, interactions through gap junctions only, and EPSP overlap. Dlink/Dmax, Linking and maximal Euclidean distanc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β and γ Frequency Synchronization by Dendritic GABAergic Synapses and Gap Junctions in a Network of Cortical Interneuron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János Szabadics, Andrea Lorincz, and Gábor Tamás</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1(15):5824-5831</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ugust 1, 2001</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dentification of RSNPCs and modulation of their firing by presynaptic β and γ frequency activity of layer 2/3 pyramidal cell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2252520" y="1079640"/>
            <a:ext cx="5580360" cy="5394240"/>
          </a:xfrm>
          <a:prstGeom prst="rect">
            <a:avLst/>
          </a:prstGeom>
          <a:ln w="0">
            <a:noFill/>
          </a:ln>
        </p:spPr>
      </p:pic>
      <p:sp>
        <p:nvSpPr>
          <p:cNvPr id="49" name=""/>
          <p:cNvSpPr/>
          <p:nvPr/>
        </p:nvSpPr>
        <p:spPr>
          <a:xfrm>
            <a:off x="22525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ános Szabadics et al. J. Neurosci. 2001;21:5824-5831</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endritic GABAergic synapses can phase somatic action potential generation in a RSNPC to RSNPC connection.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3105000" y="1079640"/>
            <a:ext cx="3875400" cy="5394240"/>
          </a:xfrm>
          <a:prstGeom prst="rect">
            <a:avLst/>
          </a:prstGeom>
          <a:ln w="0">
            <a:noFill/>
          </a:ln>
        </p:spPr>
      </p:pic>
      <p:sp>
        <p:nvSpPr>
          <p:cNvPr id="54" name=""/>
          <p:cNvSpPr/>
          <p:nvPr/>
        </p:nvSpPr>
        <p:spPr>
          <a:xfrm>
            <a:off x="31050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ános Szabadics et al. J. Neurosci. 2001;21:5824-5831</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Gap junctional connections between RSNPCs.A –H, Synchronization of a pair of RSNPCs by strong gap junctional coupling.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2789280" y="1079640"/>
            <a:ext cx="4508280" cy="5394240"/>
          </a:xfrm>
          <a:prstGeom prst="rect">
            <a:avLst/>
          </a:prstGeom>
          <a:ln w="0">
            <a:noFill/>
          </a:ln>
        </p:spPr>
      </p:pic>
      <p:sp>
        <p:nvSpPr>
          <p:cNvPr id="59" name=""/>
          <p:cNvSpPr/>
          <p:nvPr/>
        </p:nvSpPr>
        <p:spPr>
          <a:xfrm>
            <a:off x="27892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ános Szabadics et al. J. Neurosci. 2001;21:5824-5831</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ynchronization of RSNPCs through combined unitary gap junctions and GABAergic synapses targeting the dendritic domain.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3954600" y="1079640"/>
            <a:ext cx="2174760" cy="5394240"/>
          </a:xfrm>
          <a:prstGeom prst="rect">
            <a:avLst/>
          </a:prstGeom>
          <a:ln w="0">
            <a:noFill/>
          </a:ln>
        </p:spPr>
      </p:pic>
      <p:sp>
        <p:nvSpPr>
          <p:cNvPr id="64" name=""/>
          <p:cNvSpPr/>
          <p:nvPr/>
        </p:nvSpPr>
        <p:spPr>
          <a:xfrm>
            <a:off x="395460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ános Szabadics et al. J. Neurosci. 2001;21:5824-5831</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ifferential entrainment of suprathreshold activity by inputs targeting RSNPCs. A, Representative presynaptic cycles at β (19 Hz) and γ (37 Hz) frequency.B–E, Firing probability plots of postsynaptic RSNPCs during representative presynaptic action potential...</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3813120" y="1079640"/>
            <a:ext cx="2457360" cy="5394240"/>
          </a:xfrm>
          <a:prstGeom prst="rect">
            <a:avLst/>
          </a:prstGeom>
          <a:ln w="0">
            <a:noFill/>
          </a:ln>
        </p:spPr>
      </p:pic>
      <p:sp>
        <p:nvSpPr>
          <p:cNvPr id="69" name=""/>
          <p:cNvSpPr/>
          <p:nvPr/>
        </p:nvSpPr>
        <p:spPr>
          <a:xfrm>
            <a:off x="38131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ános Szabadics et al. J. Neurosci. 2001;21:5824-5831</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