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 the presence of carbachol, anI tail was observed under voltage clamp in the same cells that revealed a PP in current-clamp mode.A, Typical responses of a hippocampal CA1 pyramidal neuron under current-clamp conditions to hyperpolarizing and depolarizing current injection in control aCSF. Depolarizing current injection elicited robust Ca2+ spikes, and the membrane potential immediately returned to baseline levels after cessation of the current pulse. B, In the presence of 20 μm carbachol (CCH), Ca2+ spike firing evoked by identical stimuli resulted in a long-lasting PP. C, The PP was reversible after carbachol was washed from the slice. D, In the same cell, under voltage-clamp conditions in the absence of carbachol, an 800 msec depolarizing voltage pulse to 0 mV from a holding potential of −70 mV resulted in unclamped Ca2+ currents. At the offset of the pulse, I tail was not observed. E, In the presence of carbachol, a long-lasting inward I tail was induced at the offset of the depolarizing voltage pulse under voltage-clamp conditions. F, I tail was reversible after wash of carbachol. Recordings were made with a Cs+-based intracellular solution and 1.2 μm TTX in the external sol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 tail was dependent on Na+ influx independent of TTX-sensitive channels, varied linearly with voltage, and was blocked by intracellular BAPTA.A, In 20 μm carbachol,I tail was observed after a depolarizing voltage step (800 msec) to 0 mV from a holding potential of −70 mV.B, Reducing [Na+]o from 152 to 26 mm depressed I tail. External NaCl was substituted with equimolarN-methyl-d-glucamine. C, Restoring external NaCl to 152 mm completely reversed the depression of I tail induced by low [Na+]o. D, Summary of the effects of reducing [Na+]o and after washout on the area of I tail. Mean ± SE areas of I tail are plotted (n = 6). *p &lt; 0.002 compared with control data. E, The reversal potential ofI tail was assessed by ramping the voltage from −50 to −100 mV in 100 msec in the presence of carbachol. Ramps obtained during I tail were compared with ramps obtained from identical voltages without an evokedI tail. F, Subtraction of the ramp currents without I tail(ramp 1) from the ramp currents duringI tail (ramp 2) from −65 to −100 mV revealed that I tail varied linearly with membrane potential in the voltage range tested. The reversal potential in this cell determined by linear extrapolation (dotted line) was −20.1 mV. G, Superimposed recordings in carbachol from different CA1 pyramidal neurons from the same slice loaded with intracellular pipette solution containing either 1.1 mm EGTA or 10 mm BAPTA (indicated by arrows). Chelating [Ca2+]i with BAPTA depressedI tail. H, Summary of the mean ± SE I tail areas from pyramidal neurons recorded with either (in the micropipette) 1.1 mmEGTA (n = 10) or 10 mm BAPTA (n = 9). **p &lt; 0.001, EGTA compared with BAPT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 tail was refractory when evoked at short intervals but was stable for up to 1 hr when evoked at &gt;3 min intervals. A,I tail was evoked in the presence of 20 μm carbachol with a depolarizing voltage step to 0 mV from a holding potential of −70 mV (left). Another depolarizing voltage step to 0 mV 15 sec after the initialI tail was evoked resulted in anI tail with a reduced area (middle). A depolarizing voltage step to 0 mV 180 sec after an initial I tail was evoked resulted in a I tail with a similar area (right). B, Plot of the normalized mean ± SE I tail areas at intervals of 7.5, 15, 30, 45, 60, 90, and 180 sec with respect to the initial evokedI tail, showing that activation ofI tail had a refractory period (n = 9). A single exponential curve was fit (solid line), and the time constant of recovery was calculated to be 43.5 sec (indicated by dotted lines).C, The normalized mean ± SEI tail areas evoked every 3 min were plotted against time for 51 min (n = 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 tail required sGC activity but was independent of PKG activity. A, In the presence of 20 μm carbachol (CCH),I tail could be evoked with a depolarizing voltage step to 0 mV from a holding potential of −70 mV.B, After bath application of 20 μmLY83583, I tail was depressed.C, Summary of the mean ± SEI tail areas in the presence of the sGC inhibitors LY83583 or ODQ or a PKG inhibitor compared withI tail controls. Bath application of either 20 μm LY83583 (n = 5) or 20 μm ODQ (n = 5) significantly depressed I tail area. *p&lt; 0.02, compared with control I tail areas. Intracellular perfusion of the PKG inhibitor KT5823 (10 μm) for &gt;30 min did not alterI tail area (n = 5, KT5823; n = 5, control).I tail areas from cells perfused with KT5823 were compared with control areas of I tailobtained from pyramidal neurons in the same slices. D,I tails of reduced areas were evoked with a depolarizing voltage step to 0 mV from a holding potential of −70 mV with perfusion of a submaximal dose of carbachol (5 μm).E, Bath application of zaprinast enhanced the evokedI tail. F, The increase inI tail area by zaprinast was reversible after was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tagonists of cyclic nucleotide-gated channels depressed I tail. A, In the presence of 20 μm carbachol (CCH),I tail was evoked with depolarizing voltage steps to 0 mV from a holding potential of −70 mV. B, Bath application of 100 μm 2′,4′-dichlorobenzamil (DCB) depressed generation ofI tail. C, The inhibition ofI tail was reversible after wash of 2′,4′-dichlorobenzamil. D, Summary plot of the mean ± SE areas of I tail before, after, and wash of 2′,4′-dichlorobenzamil. Application of 2′,4′-dichlorobenzamil reversibly depressed I tail(n = 7; *p &lt; 0.001) compared with I tail control. E, Summary of the effects of bath application ofl-cis-diltiazem on mean ± SEI tail area. I tailwas depressed by l-cis-diltiazem (n = 7; **p &lt; 0.01 compared with control). In three neurons that were stable in the wash for &gt;30 min, I tail partially recovered from the depression induced by l-cis-diltiaz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 tail was independent of nitric oxide production. A, The effects of the nitric oxide inhibitors l-NAME and l-NNA are summarized in the histogram. I tail area was not depressed by either bath application for &gt;1 hr (1 mm) (n = 5) or intracellular perfusion (1 mm) (n = 10) of l-NAME. Inhibition of nitric oxide synthase by bath application (n = 5) or intracellular perfusion (n = 10) of l-NNA did not affectI tail are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posed model for the activation ofI tail and generation of plateau potentials. We propose that stimulation of muscarinic receptors (m1/m3) coupled to G-proteins in combination with Ca2+ influx through high-voltage-activated Ca2+ channels (HVA) can activate sGC, leading to an increase in intracellular cGMP and opening of CNG channels. The mechanism by which Ca2+ activates sCG does not apparently require nitric oxide. Influx of Na+ and Ca2+ through CNG channel openings mediates I tail and the prolonged depolarization during the plateau potential. Activation of protein phosphatase (PP) is required for plateau potential generation (Fraser et al., 2001), which may serve to increase the sensitivity of CNG channels to cyclic nucleotides. As part ofI tail termination, cGMP-specific phosphodiesterase (PDE) can metabolize cGMP to 5′-GM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yclic Nucleotide-Gated Channels Contribute to the Cholinergic Plateau Potential in Hippocampal CA1 Pyramidal Neur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 Brent Kuzmiski, and Brian A. MacVica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22):8707-871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5,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 the presence of carbachol, anI tail was observed under voltage clamp in the same cells that revealed a PP in current-clamp mode.A, Typical responses of a hippocampal CA1 pyramidal neuron under current-clamp conditions to hyperpolarizing and depolarizing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135160" y="1079640"/>
            <a:ext cx="5815080" cy="5394240"/>
          </a:xfrm>
          <a:prstGeom prst="rect">
            <a:avLst/>
          </a:prstGeom>
          <a:ln w="0">
            <a:noFill/>
          </a:ln>
        </p:spPr>
      </p:pic>
      <p:sp>
        <p:nvSpPr>
          <p:cNvPr id="49" name=""/>
          <p:cNvSpPr/>
          <p:nvPr/>
        </p:nvSpPr>
        <p:spPr>
          <a:xfrm>
            <a:off x="2135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 Brent Kuzmiski, and Brian A. MacVicar J. Neurosci. 2001;21:8707-871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 tail was dependent on Na+ influx independent of TTX-sensitive channels, varied linearly with voltage, and was blocked by intracellular BAPTA.A, In 20 μm carbachol,I tail was observed after a depolarizing voltage step (800 msec) to 0 mV from a holding pote...</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1744560"/>
            <a:ext cx="8604360" cy="406260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 Brent Kuzmiski, and Brian A. MacVicar J. Neurosci. 2001;21:8707-871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 tail was refractory when evoked at short intervals but was stable for up to 1 hr when evoked at &gt;3 min interva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409920" y="1079640"/>
            <a:ext cx="3267000" cy="5394240"/>
          </a:xfrm>
          <a:prstGeom prst="rect">
            <a:avLst/>
          </a:prstGeom>
          <a:ln w="0">
            <a:noFill/>
          </a:ln>
        </p:spPr>
      </p:pic>
      <p:sp>
        <p:nvSpPr>
          <p:cNvPr id="59" name=""/>
          <p:cNvSpPr/>
          <p:nvPr/>
        </p:nvSpPr>
        <p:spPr>
          <a:xfrm>
            <a:off x="34099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 Brent Kuzmiski, and Brian A. MacVicar J. Neurosci. 2001;21:8707-871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 tail required sGC activity but was independent of PKG activit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268800" y="1079640"/>
            <a:ext cx="3547800" cy="5394240"/>
          </a:xfrm>
          <a:prstGeom prst="rect">
            <a:avLst/>
          </a:prstGeom>
          <a:ln w="0">
            <a:noFill/>
          </a:ln>
        </p:spPr>
      </p:pic>
      <p:sp>
        <p:nvSpPr>
          <p:cNvPr id="64" name=""/>
          <p:cNvSpPr/>
          <p:nvPr/>
        </p:nvSpPr>
        <p:spPr>
          <a:xfrm>
            <a:off x="326880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 Brent Kuzmiski, and Brian A. MacVicar J. Neurosci. 2001;21:8707-871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tagonists of cyclic nucleotide-gated channels depressed I tail.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009880" y="1079640"/>
            <a:ext cx="6065640" cy="5394240"/>
          </a:xfrm>
          <a:prstGeom prst="rect">
            <a:avLst/>
          </a:prstGeom>
          <a:ln w="0">
            <a:noFill/>
          </a:ln>
        </p:spPr>
      </p:pic>
      <p:sp>
        <p:nvSpPr>
          <p:cNvPr id="69" name=""/>
          <p:cNvSpPr/>
          <p:nvPr/>
        </p:nvSpPr>
        <p:spPr>
          <a:xfrm>
            <a:off x="20098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 Brent Kuzmiski, and Brian A. MacVicar J. Neurosci. 2001;21:8707-871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 tail was independent of nitric oxide production.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1096920"/>
            <a:ext cx="8604360" cy="5357880"/>
          </a:xfrm>
          <a:prstGeom prst="rect">
            <a:avLst/>
          </a:prstGeom>
          <a:ln w="0">
            <a:noFill/>
          </a:ln>
        </p:spPr>
      </p:pic>
      <p:sp>
        <p:nvSpPr>
          <p:cNvPr id="7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 Brent Kuzmiski, and Brian A. MacVicar J. Neurosci. 2001;21:8707-871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posed model for the activation ofI tail and generation of plateau potential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1351080" y="1079640"/>
            <a:ext cx="7385040" cy="5394240"/>
          </a:xfrm>
          <a:prstGeom prst="rect">
            <a:avLst/>
          </a:prstGeom>
          <a:ln w="0">
            <a:noFill/>
          </a:ln>
        </p:spPr>
      </p:pic>
      <p:sp>
        <p:nvSpPr>
          <p:cNvPr id="79" name=""/>
          <p:cNvSpPr/>
          <p:nvPr/>
        </p:nvSpPr>
        <p:spPr>
          <a:xfrm>
            <a:off x="1351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 Brent Kuzmiski, and Brian A. MacVicar J. Neurosci. 2001;21:8707-871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