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uning curves for different contrasts. Parameters are as in Figure 7 (contrast decreases from top tobottom). Results are averaged over 30 sec of simulation. A, The SD of the membrane potential fluctuations depends only weakly on the stimulus orientation. The SD was calculated after clipping the spikes at V = Vc = −57.6 mV. The tuning of the average membrane potential (B) and the spike response R (C) are approximately contrast invariant in most of the contrast range studied. B,Inset, After normalization to the average membrane potential at the preferred orientation the tuning curves of the average membrane potential are superimposed. C, Inset, Spike responses after normalization to the response at optimal orientation. D, The tuning of the output rate is sharper than the tuning of the input. The width of the output rate and average voltage are plotted against the rate at the preferred orientation. The width was estimated by fitting the simulation results with a Gaussian (see Materials and Methods). The error bars are for the error estimate of the fit. The horizontal line corresponds to the half-width at half-maximal of the input (26.5°).</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output rate and the average membrane potential can be related by a power law. The average rate and the average membrane potential were computed in simulations for ς = 2 μA/cm2/msec1/2. Thecontinuous line was obtained by fitting the simulations results with R = A( V ¯ − V*)γ. Here V* is the value of the average voltage at cross-orientation in Figure 9B: V* = −68.05 mV. The fit parameters are A = 0.015 ± 10−3, γ = 3.51 ± 0.04.</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Normalized tuning curves of the spike rate elevation, using the same parameters as in Figure2C. In Figure 2C the contrast independence breaks down because the rate at the null orientation is not negligible. Subtracting the minimum rate overcomes this, resulting in contrast invariance of the rate elevation tuning. B, Half-width at half-maximal for the rate elevation, using the same parameters as in Figure 3. The half-width at half-maximal of the rate becomes nondefined for large noise levels, because of the high rate at the null orientation. This does not create a problem for the firing rate elevation. The effect of increasing the noise is to increase the half-width at half-maximal of the response to that of the input at the highest noise levels. This extreme describes the classical threshold linearization attributable to noise. The result is that the tuning curves of the firing rate elevation are contrast invariant for all noise levels above 3 mV. In both A and B rate elevation was determined by subtracting the rate at cross-orient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or voltage fluctuations of the right size the firing rate of the neuron is well approximated by a power of the input over the physiological range. The figure shows a log–log plot of firing rate as a function of voltage for different levels of noise, ς = 1 mV (dotted line), ς = 3 mV (dashed line), and ς = 6 mV (solid line). To highlight the qualitative features of the neuronal response, the rate is plotted well outside the range that can be measured in experiments. For ς = 1 mV and ς = 3 mV, the power law approximation is also shown (thin dashed and solid line, respectively). For ς = 1 mV the power law behavior only extends rates up to 10−3 Hz. For ς = 3 mV the power law behavior is observed between 0.1 and 30 Hz, whereas for larger noise (ς = 6 mV) the rate is non-negligible even at the resting voltage. Other parameters: β = 6 Hz/mV, VT = 9 mV, V0 = 0 mV.</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ower law behavior of the voltage-rate relation causes the rate tuning to be contrast invariant. The rate tuning curves are shown for different levels of noise: A, ς = 1 mV; B, ς = 3 mV; C, ς = 6 mV. Each panel shows the rate response to a Gaussian mean voltage, with half-width at half-maximal of 30°, with different maximum voltage: 5 mV (solid line), 7 mV (long dashed line), 10 mV (short dashed line), and 15 mV (dotted line). Theinsets show the corresponding normalized rate tuning curves. Note that in A the response to 5 and 7 mV is so small as to be indistinguishable from 0 Hz. Other parameters are as in Figure 1. Only for a voltage noise ς = 3 mV are the tuning curves for the firing rate contrast invariant. For ς = 1 mV, the firing rate exceeds the region in which the power law holds, causing broadening of the tuning curve for larger contrast. For large voltage fluctuations, ς = 6 mV, the rate does not go to 0 Hz at the null orientation, resulting in contrast dependence at the null orientation for the normalized tuning curv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Half-width at half-maximal of the rate response as function of the noise level for different values of the maximum voltage response: Vmax = 5 mV (solid line), Vmax = 10 mV (dashed line), Vmax = 15 mV (dotted line). Other parameters as in Figure 1. For small voltage fluctuations the tuning is much more sharpened, but different for contrasts, whereas for very high levels of noise the rate at the null orientation is more than half the rate at the preferred orientation, resulting in a divergence of the half-width at half-maximal. Only for a noise with a SD of ∼3 mV is the half-width at half-maximal the same for all contrasts, reflecting the contrast invariance for this noise leve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sponse of integrate-and-fire neuron for different levels of noise. A, Log of firing rate against log mean input current. There is only an approximate power law relation between rate and input current in the range from 1 to 30 Hz, for intermediate values of the input noise. B, Log of mean voltage against log mean input current. For all noise levels, the voltage varies linearly with the input up to an input value at which the firing rate becomes appreciable (∼5 Hz). C, SD of the voltage against log mean input current. For small inputs the SD of the voltage is constant and equal to that of a passive integrator without a spiking mechanism. For very large inputs the voltage fluctuations are dominated by reset of the voltage and the drift back to the threshold, and hence become independent of the noise level of the input. The input current is in microamperes per square centimeters. Parameters: ς = 0.8 μA/cm2 (msec)1/2 (solid line), ς = 1.6 μA/cm2(msec)1/2 (dashed line), ς = 3.2 μA/cm2 (msec)1/2 (dotted line). Other parameters: CM = 1.0 μF/cm2, gL = 0.1 mS/cm2, Vrest = 0 mV, VT = 15 mV, and I0 = 0.</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ntrast invariance of the spike rate and voltage tuning of the integrate-and-fire neuron with intermediate input noise. Tuning curves are shown for the integrate-and-fire neuron for different maximum mean input levels Imax. A, The rate response. B, Mean voltage. C, SD of voltage fluctuations. The tuning of spike rate is contrast invariant for the whole range of inputs (inset), because over the whole range of input the power law relation between input and firing rate holds. Compare Figure 4 A. For the voltage the contrast independence breaks down for the highest contrast (inset). This is because at high contrasts the firing rate at the preferred orientation is large, so that the resetting of the voltage can no longer be neglected. The tuning of the voltage fluctuations is very weak, even for high contrast, because for this input noise level, the SDs of the voltage only weakly depend on the mean input, as seen in Figure 4 C, middle curve.In all graphs: Imax = 5 μA/cm2 (dotted line), Imax = 7 μA/cm2(short dashed line), Imax = 10 μA/cm2 (long dashed line), and Imax = 15 μA/cm2(solid line). Mean input current has Gaussian tuning with half-width at half-maximal of 30°. Parameters: ς = 1.6 μA/cm2 (msec)1/2. Others are as in Figure 4.</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results obtained for the integrate-and-fire can be extended to conductance-based models. The role of the external input, I, is now played by the input rate ρ. A, The logarithm of the output spike rate, log R, against the logarithm of the input rate. In a certain range of the input, log R and log ρ are proportional. The input range depends on the SD of the noise, ς, and the proportionality constant decreases with increasing ς as seen by comparing three different noise values. ς = 1 (pluses), ς = 2 (crosses), and ς = 3 (stars). B, Log R and log(ρ − ρ0) are also proportional in a certain range of input that depends on ρ0. This is shown by plotting R and ρ − ρ0 in log–log scale for ς = 2 μA/cm2/msec1/2 and three different values of ρ0. ρ0 = 0 (pluses), ρ0 = 1500 Hz (crosses), and ρ0 = 3000 Hz (stars). The solid line corresponds to R = 0.22(ρ/1000)3. The average firing rate was computed over 300 se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tuning curves of the input conductance are contrast invariant. The change in input conductance of the neurons is shown against the orientation of the stimulus for different values of the contrast. From top to bottom in Hz: ρ1 = 10000, 6500, 5000, 3500, 2500, 1950. The width of the stimulus dependent input is Δ = 22.5°. For all these curves ρ0 = 1500 Hz.</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neuronal discharge is noise driven as seen on the traces of membrane potential. Top, The stimulus is at optimal orientation. Bottom, The stimulus is at null orientation. The dashed line is the level of depolarization at the rheobase (Vc = −57.6 mV). ρ0 = 1500 Hz; ρ1 = 5000 Hz; Δ = 22.5°. In both the preferred and null orientation the mean voltage is below rheoba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How Noise Contributes to Contrast Invariance of Orientation Tuning in Cat Visual Cortex</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D. Hansel, and C. van Vreeswijk</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2(12):5118-5128</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ne 15, 2002</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uning curves for different contrasts.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108000" y="6912000"/>
            <a:ext cx="1879560" cy="341280"/>
          </a:xfrm>
          <a:prstGeom prst="rect">
            <a:avLst/>
          </a:prstGeom>
          <a:ln w="0">
            <a:noFill/>
          </a:ln>
        </p:spPr>
      </p:pic>
      <p:pic>
        <p:nvPicPr>
          <p:cNvPr id="88" name="" descr=""/>
          <p:cNvPicPr/>
          <p:nvPr/>
        </p:nvPicPr>
        <p:blipFill>
          <a:blip r:embed="rId2"/>
          <a:stretch/>
        </p:blipFill>
        <p:spPr>
          <a:xfrm>
            <a:off x="1652760" y="1079640"/>
            <a:ext cx="6781680" cy="5394240"/>
          </a:xfrm>
          <a:prstGeom prst="rect">
            <a:avLst/>
          </a:prstGeom>
          <a:ln w="0">
            <a:noFill/>
          </a:ln>
        </p:spPr>
      </p:pic>
      <p:sp>
        <p:nvSpPr>
          <p:cNvPr id="89" name=""/>
          <p:cNvSpPr/>
          <p:nvPr/>
        </p:nvSpPr>
        <p:spPr>
          <a:xfrm>
            <a:off x="165276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 Hansel, and C. van Vreeswijk J. Neurosci. 2002;22:5118-5128</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output rate and the average membrane potential can be related by a power law. </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108000" y="6912000"/>
            <a:ext cx="1879560" cy="341280"/>
          </a:xfrm>
          <a:prstGeom prst="rect">
            <a:avLst/>
          </a:prstGeom>
          <a:ln w="0">
            <a:noFill/>
          </a:ln>
        </p:spPr>
      </p:pic>
      <p:pic>
        <p:nvPicPr>
          <p:cNvPr id="93" name="" descr=""/>
          <p:cNvPicPr/>
          <p:nvPr/>
        </p:nvPicPr>
        <p:blipFill>
          <a:blip r:embed="rId2"/>
          <a:stretch/>
        </p:blipFill>
        <p:spPr>
          <a:xfrm>
            <a:off x="1260360" y="1079640"/>
            <a:ext cx="7562880" cy="5394240"/>
          </a:xfrm>
          <a:prstGeom prst="rect">
            <a:avLst/>
          </a:prstGeom>
          <a:ln w="0">
            <a:noFill/>
          </a:ln>
        </p:spPr>
      </p:pic>
      <p:sp>
        <p:nvSpPr>
          <p:cNvPr id="94" name=""/>
          <p:cNvSpPr/>
          <p:nvPr/>
        </p:nvSpPr>
        <p:spPr>
          <a:xfrm>
            <a:off x="12603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 Hansel, and C. van Vreeswijk J. Neurosci. 2002;22:5118-5128</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Normalized tuning curves of the spike rate elevation, using the same parameters as in Figure2C. </a:t>
            </a:r>
            <a:endParaRPr b="0" lang="en-US" sz="1600" spc="-1" strike="noStrike">
              <a:solidFill>
                <a:srgbClr val="000000"/>
              </a:solidFill>
              <a:latin typeface="Times New Roman"/>
            </a:endParaRPr>
          </a:p>
        </p:txBody>
      </p:sp>
      <p:pic>
        <p:nvPicPr>
          <p:cNvPr id="97" name="" descr=""/>
          <p:cNvPicPr/>
          <p:nvPr/>
        </p:nvPicPr>
        <p:blipFill>
          <a:blip r:embed="rId1"/>
          <a:stretch/>
        </p:blipFill>
        <p:spPr>
          <a:xfrm>
            <a:off x="108000" y="6912000"/>
            <a:ext cx="1879560" cy="341280"/>
          </a:xfrm>
          <a:prstGeom prst="rect">
            <a:avLst/>
          </a:prstGeom>
          <a:ln w="0">
            <a:noFill/>
          </a:ln>
        </p:spPr>
      </p:pic>
      <p:pic>
        <p:nvPicPr>
          <p:cNvPr id="98" name="" descr=""/>
          <p:cNvPicPr/>
          <p:nvPr/>
        </p:nvPicPr>
        <p:blipFill>
          <a:blip r:embed="rId2"/>
          <a:stretch/>
        </p:blipFill>
        <p:spPr>
          <a:xfrm>
            <a:off x="739800" y="2089080"/>
            <a:ext cx="8604360" cy="3375000"/>
          </a:xfrm>
          <a:prstGeom prst="rect">
            <a:avLst/>
          </a:prstGeom>
          <a:ln w="0">
            <a:noFill/>
          </a:ln>
        </p:spPr>
      </p:pic>
      <p:sp>
        <p:nvSpPr>
          <p:cNvPr id="9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 Hansel, and C. van Vreeswijk J. Neurosci. 2002;22:5118-5128</a:t>
            </a:r>
            <a:endParaRPr b="0" lang="en-US" sz="1200" spc="-1" strike="noStrike">
              <a:solidFill>
                <a:srgbClr val="000000"/>
              </a:solidFill>
              <a:latin typeface="Times New Roman"/>
            </a:endParaRPr>
          </a:p>
        </p:txBody>
      </p:sp>
      <p:sp>
        <p:nvSpPr>
          <p:cNvPr id="10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or voltage fluctuations of the right size the firing rate of the neuron is well approximated by a power of the input over the physiological range.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1295280" y="1079640"/>
            <a:ext cx="7493040" cy="5394240"/>
          </a:xfrm>
          <a:prstGeom prst="rect">
            <a:avLst/>
          </a:prstGeom>
          <a:ln w="0">
            <a:noFill/>
          </a:ln>
        </p:spPr>
      </p:pic>
      <p:sp>
        <p:nvSpPr>
          <p:cNvPr id="49" name=""/>
          <p:cNvSpPr/>
          <p:nvPr/>
        </p:nvSpPr>
        <p:spPr>
          <a:xfrm>
            <a:off x="12952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 Hansel, and C. van Vreeswijk J. Neurosci. 2002;22:5118-5128</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ower law behavior of the voltage-rate relation causes the rate tuning to be contrast invariant.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739800" y="2671920"/>
            <a:ext cx="8604360" cy="2207880"/>
          </a:xfrm>
          <a:prstGeom prst="rect">
            <a:avLst/>
          </a:prstGeom>
          <a:ln w="0">
            <a:noFill/>
          </a:ln>
        </p:spPr>
      </p:pic>
      <p:sp>
        <p:nvSpPr>
          <p:cNvPr id="5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 Hansel, and C. van Vreeswijk J. Neurosci. 2002;22:5118-5128</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Half-width at half-maximal of the rate response as function of the noise level for different values of the maximum voltage response: Vmax = 5 mV (solid line), Vmax = 10 mV (dashed line), Vmax = 15 mV (dotted line).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1098720" y="1079640"/>
            <a:ext cx="7887960" cy="5394240"/>
          </a:xfrm>
          <a:prstGeom prst="rect">
            <a:avLst/>
          </a:prstGeom>
          <a:ln w="0">
            <a:noFill/>
          </a:ln>
        </p:spPr>
      </p:pic>
      <p:sp>
        <p:nvSpPr>
          <p:cNvPr id="59" name=""/>
          <p:cNvSpPr/>
          <p:nvPr/>
        </p:nvSpPr>
        <p:spPr>
          <a:xfrm>
            <a:off x="109872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 Hansel, and C. van Vreeswijk J. Neurosci. 2002;22:5118-5128</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sponse of integrate-and-fire neuron for different levels of noise.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739800" y="2671920"/>
            <a:ext cx="8604360" cy="2207880"/>
          </a:xfrm>
          <a:prstGeom prst="rect">
            <a:avLst/>
          </a:prstGeom>
          <a:ln w="0">
            <a:noFill/>
          </a:ln>
        </p:spPr>
      </p:pic>
      <p:sp>
        <p:nvSpPr>
          <p:cNvPr id="6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 Hansel, and C. van Vreeswijk J. Neurosci. 2002;22:5118-5128</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ntrast invariance of the spike rate and voltage tuning of the integrate-and-fire neuron with intermediate input noise.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739800" y="2671920"/>
            <a:ext cx="8604360" cy="2207880"/>
          </a:xfrm>
          <a:prstGeom prst="rect">
            <a:avLst/>
          </a:prstGeom>
          <a:ln w="0">
            <a:noFill/>
          </a:ln>
        </p:spPr>
      </p:pic>
      <p:sp>
        <p:nvSpPr>
          <p:cNvPr id="6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 Hansel, and C. van Vreeswijk J. Neurosci. 2002;22:5118-5128</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results obtained for the integrate-and-fire can be extended to conductance-based model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739800" y="2076480"/>
            <a:ext cx="8604360" cy="3398760"/>
          </a:xfrm>
          <a:prstGeom prst="rect">
            <a:avLst/>
          </a:prstGeom>
          <a:ln w="0">
            <a:noFill/>
          </a:ln>
        </p:spPr>
      </p:pic>
      <p:sp>
        <p:nvSpPr>
          <p:cNvPr id="7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 Hansel, and C. van Vreeswijk J. Neurosci. 2002;22:5118-5128</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tuning curves of the input conductance are contrast invariant.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1009800" y="1079640"/>
            <a:ext cx="8065800" cy="5394240"/>
          </a:xfrm>
          <a:prstGeom prst="rect">
            <a:avLst/>
          </a:prstGeom>
          <a:ln w="0">
            <a:noFill/>
          </a:ln>
        </p:spPr>
      </p:pic>
      <p:sp>
        <p:nvSpPr>
          <p:cNvPr id="79" name=""/>
          <p:cNvSpPr/>
          <p:nvPr/>
        </p:nvSpPr>
        <p:spPr>
          <a:xfrm>
            <a:off x="100980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 Hansel, and C. van Vreeswijk J. Neurosci. 2002;22:5118-5128</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neuronal discharge is noise driven as seen on the traces of membrane potential.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923760" y="1079640"/>
            <a:ext cx="8237880" cy="5394240"/>
          </a:xfrm>
          <a:prstGeom prst="rect">
            <a:avLst/>
          </a:prstGeom>
          <a:ln w="0">
            <a:noFill/>
          </a:ln>
        </p:spPr>
      </p:pic>
      <p:sp>
        <p:nvSpPr>
          <p:cNvPr id="84" name=""/>
          <p:cNvSpPr/>
          <p:nvPr/>
        </p:nvSpPr>
        <p:spPr>
          <a:xfrm>
            <a:off x="9237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 Hansel, and C. van Vreeswijk J. Neurosci. 2002;22:5118-5128</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