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ometry of membrane specializations in the apposition zones between the calyx and the principal neuron.A, Histogram (left) of the distribution of surface areas of SCs (gray; mean 0.100 ± 0.086 μm2) and PA (black; mean 0.046 ± 0.042 μm2) and the corresponding cumulative histogram (right). Bin width, 0.01 μm2. B, Histogram of the distribution of nearest-neighbor distances between SCs marked ingray (mean, 0.589 ± 0.296 μm) and PA marked inblack (mean, 0.374 ± 0.179 μm). The right panel shows the corresponding cumulative histograms (same color code). Bin width, 0.02 μm. The dashed lines are nearest-neighbor distances taken from a simulated representation of SCs (dashed gray line) and PA (dashed black line), which were spread randomly across the apposition area of calyx and principal neur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fication of synaptic vesicle cluster geometry at SCs. A, B, Two different SCs at high magnification with anatomically docked vesicles (marked byasterisks). Scale bar, 0.1 μm. C, Electron micrograph of another single SC showing the dense accumulation of synaptic vesicles at the AZ. Scale bars: C, D, 0.25 μm. D, Same micrograph as in C. Schematic representation of geometric measurements is shown for a subset of synaptic vesicles: AZ membrane (red line) and shortest distance (green straight lines) between the membrane of the synaptic vesicles (green circles) and the AZ membrane. Anatomically docked vesicles are marked by asterisks. All parameters were measured in two dimens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hree-dimensional reconstruction of SCs and associated vesicle clusters. A, Cluster of synaptic vesicles near a SC. The surface membrane of the principal neuron is shown in blue, the AZ in red, and synaptic vesicles in green. Note the large size of the pool of synaptic vesicles at this SC (n = 304).B, Two spine-like protrusions, one with two SCs (on theright). The SCs are located opposite to each other on the neck of the protrusion. Same color code is used as inA. Here the individual clusters of synaptic vesicles are not clearly discernible at these two SCs (n = 358).</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ometry of synaptic vesicle clusters.A, Three-dimensional view of a single SC showing the distribution of distances of synaptic vesicles (green) from the AZ membrane (red). Distances are shown as linesconnecting a synaptic vesicle and the nearest point on the AZ. For clarity, a relatively small SC was chosen for display.B, Histogram of the distribution of distances of synaptic vesicles from the presynaptic membrane at the SC shown inA. The total number of synaptic vesicles was 37. The number of synaptic vesicles clustered within 200 nm was 28.C, Histogram showing the number of SCs with 0–4, 5–9, etc. synaptic vesicles within 200 nm from the AZ. D, Number of SCs with 0, 1, 2, etc. anatomically docked vesicles (i.e., no visible cytoplasmic space between synaptic vesicle and AZ membrane). The number of SCs lacking docked vesicles is represented by thegray column. E, Diagram showing the number of synaptic vesicles per SC (mean ± SD) located within a given distance from the AZ membrane. F, Histogram of the distribution of vesicle diameters (mean, 46 ± 7 nm;n = 779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ansmitter release at a MNTB synapse during chemical fixation. A, Left, Afferently evoked prespikes (presynaptic AP recorded in postsynaptic cell) and EPSCs at three different time points during bath perfusion of the experimental chamber with fixatives (1% paraformaldehyde/2.5% glutaraldehyde, dissolved in Ringer's solution, pH 7.4). At bottom, the control is shown before fixation. The middle traces show ∼20 sec after the start of fixation and the top traces at ∼2 min after the start of fixation. A, Right, The same traces are shown at a lower time resolution, illustrating postsynaptic response to kainate (KA; 1 mm, dissolved in Ringer's), which was applied by pressure ejection from a nearby patch pipette. EPSCs were blocked before prespikes or before the sensitivity to KA was clearly changed (middle traces).B, Chemical fixation was not accompanied by an increase in spontaneous or delayed EPSCs. In this experiment fixatives were applied by pressure ejection from a nearby pipette. In thebottom trace before fixation the afferently evoked EPSC (amplitude, ∼1.5 nA at −80 mV) was followed by delayed and spontaneous EPSCs. In the middle trace early during the fixation both evoked EPSCs and spontaneous EPSCs were reduced. In thetop trace late during the fixation both evoked and spontaneous EPSCs were blocked. In A andB the traces have been offset vertically for display purpo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ross section through a calyx of Held and a principal neuron in the MNTB. A, EM image of the nerve terminal and the cell body of the principal neuron in the MNTB. The image was obtained by a computer-aided montage of five electron micrographs of a single ultrathin section (imaged at a magnification of 3000×). The structures of interest were outlined and laid transparently over the montage; the presynaptic calyx is shown inyellow, the postsynaptic principal neuron inblue, and the nucleus in brown. Scale bar, 5 μm. B, The boxed region inA at higher magnification (imaged at 20,400×). The SC is marked by an arrow, and a neighboring PA is marked by an arrowhead. Scale bar, 0.3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rial section through a synaptic contact.A–H, Selected serial sections of a SC (arrow) between a presynaptic calyx and the postsynaptic principal neuron. The open arrowhead in Dpoints to a vesicle fused with the presynaptic membrane. Scale bar: (inH) A–H, 0.25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rial section through a PA. A–H, Serial sections through a PA are shown. In A, two adjacent SCs are visible for a comparison of the two different types of membrane apposition. The PA is labeled by arrowheads, and SCs are labeled by arrows. In contrast to the SCs, the PA shows symmetric presynaptic and postsynaptic densities and lacks a synaptic vesicle accumulation and a widening of the cleft. The whole PA appears to be perforated, as seen in B–D, G. Scale bar: (in H) A–H, 0.25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ne-like protrusion at the soma of the principal neuron. A, B, Two successive EM images of sections through two typical spine-like membrane protrusions of the soma of the postsynaptic cell (labeled s). The protrusion on theleft has a narrow “spine neck.” Note the presence of SCs identified by the dense accumulation of synaptic vesicles (black arrows) and numerous PA. Only the SCs on spine-like protrusions are labeled. Scale bar, 0.5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hree-dimensional reconstruction from contoured sections. A, Superposition of contoured sections to form a “stack of contours” from serial EM images of a spine-like protrusion. The postsynaptic membrane is marked in blue, the AZs in red, and PSDs in orange. The two SCs are 0.5 μm apart. B, The stack of contours shown in A was filled by tetrahedra, which generates a triangulated surface (outlines oftriangles marked in gray). Section thickness, 60 n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rface views of the three-dimensional reconstruction of a calyx of Held and the principal neuron.A, Top view of the calyx and the cell body of the MNTB principal neuron. The calyx (left) is shown inyellow and the principal neuron (right) in blue. The nerve terminal forms a cup-like structure covering ∼40% of the surface area of the principal neuron. The final part of the preterminal axon that gives rise to the giant terminal is seen on the left. B, Side view after rotating the reconstruction by 90° around the x-axis. At the edges of the cap numerous finger-like stalks can be identified.C, Surface view of the reconstruction in which part of the surface membrane was made transparent to illustrate the eccentric location of the nucleus (brown) next to the calyx. The membrane specializations can be seen as small spots inred (SCs) and magenta (PA), respectively. The postsynaptic axon (bottom) and dendritic processes (right) were not reconstructed ful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membrane specializations in the apposition zone between the calyx and the principal neuron.A, En face view on the synaptic surface of the calyx (yellow) showing the distribution of SCs highlighted in red. B, Reconstruction of the same calyx surface as shown in A with the distribution of PA highlighted in magenta.C, Same view as in A and Bshowing an overlay of the distributions of SCs and PA. Same color code is used as in A and 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ree-Dimensional Reconstruction of a Calyx of Held and Its Postsynaptic Principal Neuron in the Medial Nucleus of the Trapezoid Bod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urt Sätzler, Leander F. Söhl, Johann H. Bollmann, J. Gerard G. Borst, Michael Frotscher, Bert Sakmann, and Joachim H. R. Lübk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2(24):10567-1057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5,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ometry of membrane specializations in the apposition zones between the calyx and the principal neuron.A, Histogram (left) of the distribution of surface areas of SCs (gray; mean 0.100 ± 0.086 μm2) and PA (black; mean 0.046 ± 0.042 μm2) and the correspondi...</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433600" y="1079640"/>
            <a:ext cx="5218200" cy="5394240"/>
          </a:xfrm>
          <a:prstGeom prst="rect">
            <a:avLst/>
          </a:prstGeom>
          <a:ln w="0">
            <a:noFill/>
          </a:ln>
        </p:spPr>
      </p:pic>
      <p:sp>
        <p:nvSpPr>
          <p:cNvPr id="89" name=""/>
          <p:cNvSpPr/>
          <p:nvPr/>
        </p:nvSpPr>
        <p:spPr>
          <a:xfrm>
            <a:off x="2433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fication of synaptic vesicle cluster geometry at SCs. A, B, Two different SCs at high magnification with anatomically docked vesicles (marked byasterisk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4170240" y="1079640"/>
            <a:ext cx="1744920" cy="5394240"/>
          </a:xfrm>
          <a:prstGeom prst="rect">
            <a:avLst/>
          </a:prstGeom>
          <a:ln w="0">
            <a:noFill/>
          </a:ln>
        </p:spPr>
      </p:pic>
      <p:sp>
        <p:nvSpPr>
          <p:cNvPr id="94" name=""/>
          <p:cNvSpPr/>
          <p:nvPr/>
        </p:nvSpPr>
        <p:spPr>
          <a:xfrm>
            <a:off x="4170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hree-dimensional reconstruction of SCs and associated vesicle clusters.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739800" y="2266920"/>
            <a:ext cx="8604360" cy="3017880"/>
          </a:xfrm>
          <a:prstGeom prst="rect">
            <a:avLst/>
          </a:prstGeom>
          <a:ln w="0">
            <a:noFill/>
          </a:ln>
        </p:spPr>
      </p:pic>
      <p:sp>
        <p:nvSpPr>
          <p:cNvPr id="9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ometry of synaptic vesicle clusters.A, Three-dimensional view of a single SC showing the distribution of distances of synaptic vesicles (green) from the AZ membrane (red).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108000" y="6912000"/>
            <a:ext cx="1879560" cy="341280"/>
          </a:xfrm>
          <a:prstGeom prst="rect">
            <a:avLst/>
          </a:prstGeom>
          <a:ln w="0">
            <a:noFill/>
          </a:ln>
        </p:spPr>
      </p:pic>
      <p:pic>
        <p:nvPicPr>
          <p:cNvPr id="103" name="" descr=""/>
          <p:cNvPicPr/>
          <p:nvPr/>
        </p:nvPicPr>
        <p:blipFill>
          <a:blip r:embed="rId2"/>
          <a:stretch/>
        </p:blipFill>
        <p:spPr>
          <a:xfrm>
            <a:off x="2879640" y="1079640"/>
            <a:ext cx="4324320" cy="5394240"/>
          </a:xfrm>
          <a:prstGeom prst="rect">
            <a:avLst/>
          </a:prstGeom>
          <a:ln w="0">
            <a:noFill/>
          </a:ln>
        </p:spPr>
      </p:pic>
      <p:sp>
        <p:nvSpPr>
          <p:cNvPr id="104" name=""/>
          <p:cNvSpPr/>
          <p:nvPr/>
        </p:nvSpPr>
        <p:spPr>
          <a:xfrm>
            <a:off x="2879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ansmitter release at a MNTB synapse during chemical fix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313080" y="1079640"/>
            <a:ext cx="3460680" cy="5394240"/>
          </a:xfrm>
          <a:prstGeom prst="rect">
            <a:avLst/>
          </a:prstGeom>
          <a:ln w="0">
            <a:noFill/>
          </a:ln>
        </p:spPr>
      </p:pic>
      <p:sp>
        <p:nvSpPr>
          <p:cNvPr id="49" name=""/>
          <p:cNvSpPr/>
          <p:nvPr/>
        </p:nvSpPr>
        <p:spPr>
          <a:xfrm>
            <a:off x="331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ross section through a calyx of Held and a principal neuron in the MNTB. A, EM image of the nerve terminal and the cell body of the principal neuron in the MNTB. The image was obtained by a computer-aided montage of five electron micrographs of a single ul...</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290680" y="1079640"/>
            <a:ext cx="5504040" cy="5394240"/>
          </a:xfrm>
          <a:prstGeom prst="rect">
            <a:avLst/>
          </a:prstGeom>
          <a:ln w="0">
            <a:noFill/>
          </a:ln>
        </p:spPr>
      </p:pic>
      <p:sp>
        <p:nvSpPr>
          <p:cNvPr id="54" name=""/>
          <p:cNvSpPr/>
          <p:nvPr/>
        </p:nvSpPr>
        <p:spPr>
          <a:xfrm>
            <a:off x="2290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rial section through a synaptic contact.A–H, Selected serial sections of a SC (arrow) between a presynaptic calyx and the postsynaptic principal neur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165480" y="1079640"/>
            <a:ext cx="3754440" cy="5394240"/>
          </a:xfrm>
          <a:prstGeom prst="rect">
            <a:avLst/>
          </a:prstGeom>
          <a:ln w="0">
            <a:noFill/>
          </a:ln>
        </p:spPr>
      </p:pic>
      <p:sp>
        <p:nvSpPr>
          <p:cNvPr id="59" name=""/>
          <p:cNvSpPr/>
          <p:nvPr/>
        </p:nvSpPr>
        <p:spPr>
          <a:xfrm>
            <a:off x="3165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rial section through a PA. A–H, Serial sections through a PA are show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165480" y="1079640"/>
            <a:ext cx="3754440" cy="5394240"/>
          </a:xfrm>
          <a:prstGeom prst="rect">
            <a:avLst/>
          </a:prstGeom>
          <a:ln w="0">
            <a:noFill/>
          </a:ln>
        </p:spPr>
      </p:pic>
      <p:sp>
        <p:nvSpPr>
          <p:cNvPr id="64" name=""/>
          <p:cNvSpPr/>
          <p:nvPr/>
        </p:nvSpPr>
        <p:spPr>
          <a:xfrm>
            <a:off x="3165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ne-like protrusion at the soma of the principal neur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216240" y="1079640"/>
            <a:ext cx="3651120" cy="5394240"/>
          </a:xfrm>
          <a:prstGeom prst="rect">
            <a:avLst/>
          </a:prstGeom>
          <a:ln w="0">
            <a:noFill/>
          </a:ln>
        </p:spPr>
      </p:pic>
      <p:sp>
        <p:nvSpPr>
          <p:cNvPr id="69" name=""/>
          <p:cNvSpPr/>
          <p:nvPr/>
        </p:nvSpPr>
        <p:spPr>
          <a:xfrm>
            <a:off x="321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hree-dimensional reconstruction from contoured sectio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297160"/>
            <a:ext cx="8604360" cy="295740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rface views of the three-dimensional reconstruction of a calyx of Held and the principal neuron.A, Top view of the calyx and the cell body of the MNTB principal neur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184560" y="1079640"/>
            <a:ext cx="3717720" cy="5394240"/>
          </a:xfrm>
          <a:prstGeom prst="rect">
            <a:avLst/>
          </a:prstGeom>
          <a:ln w="0">
            <a:noFill/>
          </a:ln>
        </p:spPr>
      </p:pic>
      <p:sp>
        <p:nvSpPr>
          <p:cNvPr id="79" name=""/>
          <p:cNvSpPr/>
          <p:nvPr/>
        </p:nvSpPr>
        <p:spPr>
          <a:xfrm>
            <a:off x="3184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membrane specializations in the apposition zone between the calyx and the principal neuron.A, En face view on the synaptic surface of the calyx (yellow) showing the distribution of SCs highlighted in red.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693960" y="1079640"/>
            <a:ext cx="2697480" cy="5394240"/>
          </a:xfrm>
          <a:prstGeom prst="rect">
            <a:avLst/>
          </a:prstGeom>
          <a:ln w="0">
            <a:noFill/>
          </a:ln>
        </p:spPr>
      </p:pic>
      <p:sp>
        <p:nvSpPr>
          <p:cNvPr id="84" name=""/>
          <p:cNvSpPr/>
          <p:nvPr/>
        </p:nvSpPr>
        <p:spPr>
          <a:xfrm>
            <a:off x="369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rt Sätzler et al. J. Neurosci. 2002;22:10567-10579</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