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istological reconstructions of cannula placements in the various experiments and representative histology.A, Histological sections were examined under a light microscope, and the site of infusion was estimated. Each pair of symbols on a particular section represents one rat. For this reconstruction, representative infusion sites were plotted for four rats receiving the high dose (3 nmol) of SCH-23390 in experiment 2 (●) and four control rats from experiment 3 (▪). Infusion sites for all animals receiving the combined low doses of AP-5 (0.5 nmol) and SCH-23390 (0.15 nmol) in experiment 3 (♦) are also plotted. Theshaded regions represent the areas containing all infusion sites from all experiments. From Paxinos and Watson (1998). Adapted with permission. Representative histology from a rat treated with the high dose of SCH-23390 (B) and the combined low doses of AP-5 and SCH-23390 (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fluence of intra-mPFC infusions of high, medium, or low doses of the D1 receptor antagonist SCH-23390 on appetitive instrumental learning. Animals received infusions of SCH-23390 or saline on the first 5 test days and were tested without infusions on days 6–10. On day 11, animals receiving the low dose of SCH-23390 or vehicle were given a final infusion, as on days 1–5. Animals receiving the high and medium doses of SCH-23390 were tested for an additional 5 d without infusion and then received a final drug infusion on day 16. A, Lever presses for food. *p &lt; 0.05 treatment effect; ††p &lt; 0.01 interactions. B,Nosepokes into food tray during learning. *p &lt; 0.05 treatment effect; ††p &lt; 0.01 interactions. See Results for details of statistical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fluence of intra-mPFC infusions of a low dose of the NMDA receptor antagonist AP-5 on appetitive instrumental learning. Animals received infusions of AP-5 or saline on the first 5 test days, no infusions on days 6–10, and a final infusion of drug or vehicle on day 11. Intra-mPFC infusions of AP-5 had no impact on either lever presses (A) or nosepokes (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fluence of intra-mPFC co-infusions of low doses of AP-5 and SCH-23390 on appetitive instrumental learning. See legend of Figure 2 for general test procedure. Animals received a subsequent infusion of drug or vehicle on day 11 and again on day 16.A, Lever presses for food. *p &lt; 0.05 treatment effect; †p &lt; 0.05 interactions.B, Nosepokes into food tray during learning. ††p &lt; 0.01 interactions. See Results for details of stat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fluence of intra-mPFC co-infusions of PKA inhibitor Rp-cAMPS on appetitive instrumental learning. See legend of Figure 2 for general test procedure. A, Lever presses for food. *p &lt; 0.05 treatment effect; †p &lt; 0.05 interactions. B,Nosepokes into food tray during learning. *p &lt; 0.05 treatment effect; †p &lt; 0.05 interactions. See Results for details of statistics. Control group is the same as that presented in Figur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etitive Instrumental Learning Requires Coincident Activation of NMDA and Dopamine D1 Receptors within the Medial Prefrontal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nne E. Baldwin, Kenneth Sadeghian, and Ann E. Ke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. Neuro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2(3):1063-10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1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istological reconstructions of cannula placements in the various experiments and representative histology.A, Histological sections were examined under a light microscope, and the site of infusion was estimat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03520" y="1079640"/>
            <a:ext cx="66783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0352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ne E. Baldwin et al. J. Neurosci. 2002;22:1063-10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luence of intra-mPFC infusions of high, medium, or low doses of the D1 receptor antagonist SCH-23390 on appetitive instrumental learn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05160" y="1079640"/>
            <a:ext cx="34736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051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ne E. Baldwin et al. J. Neurosci. 2002;22:1063-10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luence of intra-mPFC infusions of a low dose of the NMDA receptor antagonist AP-5 on appetitive instrumental learn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81360" y="1079640"/>
            <a:ext cx="272088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813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ne E. Baldwin et al. J. Neurosci. 2002;22:1063-10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luence of intra-mPFC co-infusions of low doses of AP-5 and SCH-23390 on appetitive instrumental learn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81400" y="1079640"/>
            <a:ext cx="352116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81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ne E. Baldwin et al. J. Neurosci. 2002;22:1063-10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luence of intra-mPFC co-infusions of PKA inhibitor Rp-cAMPS on appetitive instrumental learn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70240" y="1079640"/>
            <a:ext cx="354492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70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ne E. Baldwin et al. J. Neurosci. 2002;22:1063-10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2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