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duction of antibodies to the constant cytoplasmic domain of Pcdh-γs. A, Within the Pcdh-γ cluster, there are 22 exons each coding for a different protocadherin extracellular domain (vertical black bars). At the end of the cluster are three additional exons that code for the cytoplasmic domain for each of the protocadherin genes within the cluster. B, Neuro-2A cells were transfected with the cDNA for Pcdh-γA3 fused to GFP. Extracts from untransfected (left lane) and transfected (right lane) cells were electrophoresed and probed with affinity-purified anti-Pcdh-γ-cyto. In untransfected cells, a diffuse set of bands are observed at ∼120–140 kDa, which is the predicted molecular weight of the Pcdh-γs. In Pcdh-γA3-GFP-transfected cells, an additional band of ∼160 kDa (arrowhead), which is the predicted molecular weight of the GFP fusion product, was observed. C, Detection of Pcdh-γs in synaptic membranes. The 120–140 kDa Pcdh-γ bands were detected in synaptic membranes. Minor species (∼85kDa) were also observed. D, Hippocampal cells were plated and cultured for 4d, fixed, and stained with anti-Pcdh-γ-cyto. At this stage, all cells expressed Pcdh-γs strongly in a punctate distribution. Pcdh-γs were not strongly expressed in growth cones (arrowhea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cdh-γs are expressed strongly in interneurons in mature cultures. A–D, Mature (30 DIV) cultures of hippocampal neurons were double labeled with anti-Pcdh-γ-cyto and PSD-95. Many spiny, pyramidal-like cells (A, B, arrowhead) did not exhibit significant staining for Pcdh-γ. In contrast, staining of Pcdh-γ in smooth, interneuron-like cells (A, B, arrow) invariably was intense. An overlay of the Pcdh-γ and PSD-95 staining patterns in interneuron-like cells (C, D) reveals that Pcdh-γ (D, arrowhead) and PSD-95 (D, arrow) do not colocalize, indicating that Pcdh-γ is not synaptic in these cells. E, F, Strong Pcdh-γ expressors synthesize inhibitory neurotransmitters. Mature cultures were double labeled with anti-Pcdh-γ-cyto and GAD. Cells that expressed strong intracellular staining for Pcdh-γs also exhibited strong staining for GAD in their cell body (arrowhead). In contrast, cells that did not express Pcdh-γs also did not express GAD in their cell body (arrow). Overlay of the Pcdh-γ/GAD double-label reaction (F, inset) shows that Pcdh-γs are not expressed within inhibitory synapses on these cells. G, H, Mature cultures were double labeled with anti-Pcdh-γ-cyto and GAD. Purified Pcdh-γ cytoplasmic domain was added to the staining reaction in H and I. Pcdh-γ completely blocked the immunoreaction in interneurons of Pcdh-γ (H) but did not affect that of GAD (I). The field in H and I is the same. Scale bar: (in I) A–C, E–I, 50 μm; D, 10 μ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cdh-γs are expressed in a subset of excitatory synapses. Mature cultures were double labeled with anti-Pcdh-γ-cyto and PSD-95 (A–F) or with anti-Pcdh-γ-cyto and GAD (G–I). Only in some cases (48%) was staining of Pcdh-γ observed in spiny, pyramidal-type cells. A–C, In a few of these cells, Pcdh-γ staining appeared to be completely intracellular (A) and did not overlap with PSD-95 labeling (B, C), indicating that synapses can form in the absence of Pcdh-γs. In other spiny neurons, Pcdh-γ staining was punctate on the dendritic surface (D–F). Double labeling with PSD-95 (E) showed that Pcdh-γ staining overlapped with some PSD-95-labeled sites (D–F, arrowheads), indicating a synaptic localization. In other instances, Pcdh-γ clusters were not synaptic (D, F, single arrows). Many PSD-95-positive synaptic sites did not contain Pcdh-γs (E, F, double arrows). G–I, Pcdh-γ-labeled synapses on excitatory cells are not inhibitory. Double label with Pcdh-γ and GAD shows that GAD-labeled terminals (I, inset, arrowheads) never colocalize with Pcdh-γ-labeled sites (I, inset, arrows). Scale bar: (in A) A–I, 50 μm; inset, 15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ed recruitment of Pcdh-γs to synapses in Pcdh-γ-positive neuron pairs. A neuron in isolation (A, C, E, G, I) or two Pcdh-γ-positive excitatory neurons in close proximity (B, D, F, H, J) were double labeled with anti-Pcdh-γ-cyto (green channel) or PSD-95 (red channel). Higher-magnification images of boxed regions in A and B are shown below. In the solitary neuron, colocalization of Pcdh-γs and PSD-95 was less than that observed in the Pcdh-γ-positive neuron pair. G, H, Arrowheads indicate Pcdh-γ-positive synaptic sites. In many cases, the shape of the fluorescent signal for Pcdh-γs closely matched that of PSD-95 (H, arrowheads), indicating specific synaptic localization. I, J, Thresholded images used in the quantitation of Pcdh-γ-positive and -negative synaptic sites. Scale bar: (in I) A, B, 50 μm; C–J, 10 μ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cdh-γ and N-cadherin can coexist at synaptic junctions. Mature cultures were double labeled with anti-Pcdh-γ-cyto and anti-N-cadherin. In Pcdh-γ-expressing pyramidal type cells (A), N-cadherin was also expressed (B). Overlay of the two images (C, D) shows that Pcdh-γ and N-cadherin can be found at the same synaptic sites (D, arrowheads). Scale bar: (in C) A–C, 50 μm; D, 10 μ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cdh-γs are found in tubulovesicular organelles in axonal endings and at synapses. Hippocampal tissue was prepared for immunoelectron microscopy by freeze substitution embedding. Sections were incubated with anti-Pcdh-γ affinity-pure antibodies and 10 nm gold-conjugated secondary antibodies. Labeling was observed in two distinct patterns. In some cases, groups (A) or individual presynaptic terminals (B) were positive for Pcdh-γs (A, B, arrowheads). Tubulovesicular presynaptic organelles positive for Pcdh-γs (A, inset, arrowheads) were clearly distinct from synaptic vesicles (A, inset, arrow). The Pcdh-γ-positive groups of terminals may correspond to axon branches from the same Pcdh-γ-positive neuron. C–E, Pcdh-γ labeling was observed at a subset of synaptic junctions. High concentrations of Pcdh-γs were sometimes found at specific zones within a synapse (C, arrows). At these zones, filaments were found to terminate at the PSD (C, arrowhea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cdh-γs are found in tubulovesicular structures in dendritic compartments as well as in nonsynaptic membranes. Labeling for Pcdh-γs was observed in 50–200 nm vesicular organelles in dendritic compartments (A–D, arrowheads). Labeling was also found on nonsynaptic plasma membranes (D–F, single arrows) and at synaptic junctions (C, F, double arrow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cdh-γs cofractionate with synaptic components and intracellular membranous material. Postnuclear (PNS), crude synaptosomal (P2), large tubulovesicular organelles (P3), osmotically shocked synaptosomes (LP1), and synaptic vesicles (LP2) were prepared from adult cortices (Huttner et al., 1983). Triton-extracted nonsynaptic (pH 6 sup), intact junctional (pH 6 pel), presynaptic (pH 8 sup), and postsynaptic (pH 8 pel) fractions were generated using the LP1 fraction as starting material (Phillips et al., 2001). Pcdh-γs were enriched in the LP1 fraction relative to PNS starting material, indicating a synaptic association of these molecules. They were also found within the P3 fraction and, to a lesser extent, in the LP2 fraction. In contrast, synaptophysin was enriched in the LP2 fraction, and the kinesin heavy chain was enriched in the P3 fraction. When LP1 was sequentially Triton extracted, Pcdh-γ originally found in intact synaptic junctions (pH 6 pel) was divided into presynaptic and postsynaptic fractions containing Pcdh-γs. In contrast, synaptic junctional dynamin was found primarily in the presynaptic fraction, whereas PSD-95 was found primarily in the postsynaptic fraction. N-CAM was mostly found in the nonsynaptic fraction (pH 6 sup) originally derived from synaptic membra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γ-Protocadherins Are Targeted to Subsets of Synapses and Intracellular Organelles in 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reg R. Phillips, Hidekazu Tanaka, Marcus Frank, Alice Elste, Lazar Fidler, Deanna L. Benson, and David R. Colma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12):5096-510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duction of antibodies to the constant cytoplasmic domain of Pcdh-γ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589200" y="1079640"/>
            <a:ext cx="2907000" cy="5394240"/>
          </a:xfrm>
          <a:prstGeom prst="rect">
            <a:avLst/>
          </a:prstGeom>
          <a:ln w="0">
            <a:noFill/>
          </a:ln>
        </p:spPr>
      </p:pic>
      <p:sp>
        <p:nvSpPr>
          <p:cNvPr id="49" name=""/>
          <p:cNvSpPr/>
          <p:nvPr/>
        </p:nvSpPr>
        <p:spPr>
          <a:xfrm>
            <a:off x="3589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cdh-γs are expressed strongly in interneurons in mature cultur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681200" y="1079640"/>
            <a:ext cx="6724440" cy="5394240"/>
          </a:xfrm>
          <a:prstGeom prst="rect">
            <a:avLst/>
          </a:prstGeom>
          <a:ln w="0">
            <a:noFill/>
          </a:ln>
        </p:spPr>
      </p:pic>
      <p:sp>
        <p:nvSpPr>
          <p:cNvPr id="54" name=""/>
          <p:cNvSpPr/>
          <p:nvPr/>
        </p:nvSpPr>
        <p:spPr>
          <a:xfrm>
            <a:off x="1681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cdh-γs are expressed in a subset of excitatory synaps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770120" y="1079640"/>
            <a:ext cx="6545160" cy="5394240"/>
          </a:xfrm>
          <a:prstGeom prst="rect">
            <a:avLst/>
          </a:prstGeom>
          <a:ln w="0">
            <a:noFill/>
          </a:ln>
        </p:spPr>
      </p:pic>
      <p:sp>
        <p:nvSpPr>
          <p:cNvPr id="59" name=""/>
          <p:cNvSpPr/>
          <p:nvPr/>
        </p:nvSpPr>
        <p:spPr>
          <a:xfrm>
            <a:off x="1770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ed recruitment of Pcdh-γs to synapses in Pcdh-γ-positive neuron pair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379600" y="1079640"/>
            <a:ext cx="5327640" cy="5394240"/>
          </a:xfrm>
          <a:prstGeom prst="rect">
            <a:avLst/>
          </a:prstGeom>
          <a:ln w="0">
            <a:noFill/>
          </a:ln>
        </p:spPr>
      </p:pic>
      <p:sp>
        <p:nvSpPr>
          <p:cNvPr id="64" name=""/>
          <p:cNvSpPr/>
          <p:nvPr/>
        </p:nvSpPr>
        <p:spPr>
          <a:xfrm>
            <a:off x="2379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cdh-γ and N-cadherin can coexist at synaptic juncti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1681200" y="1079640"/>
            <a:ext cx="6724440" cy="5394240"/>
          </a:xfrm>
          <a:prstGeom prst="rect">
            <a:avLst/>
          </a:prstGeom>
          <a:ln w="0">
            <a:noFill/>
          </a:ln>
        </p:spPr>
      </p:pic>
      <p:sp>
        <p:nvSpPr>
          <p:cNvPr id="69" name=""/>
          <p:cNvSpPr/>
          <p:nvPr/>
        </p:nvSpPr>
        <p:spPr>
          <a:xfrm>
            <a:off x="1681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cdh-γs are found in tubulovesicular organelles in axonal endings and at synapse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132000" y="1079640"/>
            <a:ext cx="3821400" cy="5394240"/>
          </a:xfrm>
          <a:prstGeom prst="rect">
            <a:avLst/>
          </a:prstGeom>
          <a:ln w="0">
            <a:noFill/>
          </a:ln>
        </p:spPr>
      </p:pic>
      <p:sp>
        <p:nvSpPr>
          <p:cNvPr id="74" name=""/>
          <p:cNvSpPr/>
          <p:nvPr/>
        </p:nvSpPr>
        <p:spPr>
          <a:xfrm>
            <a:off x="3132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cdh-γs are found in tubulovesicular structures in dendritic compartments as well as in nonsynaptic membrane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510000" y="1079640"/>
            <a:ext cx="3066840" cy="5394240"/>
          </a:xfrm>
          <a:prstGeom prst="rect">
            <a:avLst/>
          </a:prstGeom>
          <a:ln w="0">
            <a:noFill/>
          </a:ln>
        </p:spPr>
      </p:pic>
      <p:sp>
        <p:nvSpPr>
          <p:cNvPr id="79" name=""/>
          <p:cNvSpPr/>
          <p:nvPr/>
        </p:nvSpPr>
        <p:spPr>
          <a:xfrm>
            <a:off x="3510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cdh-γs cofractionate with synaptic components and intracellular membranous material.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191040" y="1079640"/>
            <a:ext cx="3703320" cy="5394240"/>
          </a:xfrm>
          <a:prstGeom prst="rect">
            <a:avLst/>
          </a:prstGeom>
          <a:ln w="0">
            <a:noFill/>
          </a:ln>
        </p:spPr>
      </p:pic>
      <p:sp>
        <p:nvSpPr>
          <p:cNvPr id="84" name=""/>
          <p:cNvSpPr/>
          <p:nvPr/>
        </p:nvSpPr>
        <p:spPr>
          <a:xfrm>
            <a:off x="31910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reg R. Phillips et al. J. Neurosci. 2003;23:5096-510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