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R activation decreases the S845 and increases the S831 phosphorylation of GluR1 in area CA1 from mouse hippocampal slices. A, Differences from basal levels in GluR1 phosphorylation at S845 and S831 after pretreatment with rolipram (ro; 0.3μm, 30 min) or vehicle (0.01% DMSO) followed by treatment with NMDA (300μm, 3 min) (n = 4–5). B, NMDA (300μm, 3 min) increases cAMP levels in the presence of rolipram (0.3 μm, 30 min pretreatment) (n = 5). C, Differences from basal levels in GluR1 phosphorylation at S845 and S831 after treatment with varying doses of NMDA (10–300 μm, 3 min) (n = 7–14). D, Differences from basal levels in GluR1 phosphorylation at S845and S831 after pretreatment with tetrodotoxin (TTX;1μm,30 min) followed by treatment with NMDA (300μm, 3 min) (n = 4–7). *p &lt; 0.05 compared with basal levels; #p &lt; 0.05 compared with rolipram or TT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R activation induces a transient change in synaptic transmission and GluR1 phosphorylation, whereas βAR activation induces a long-lasting change in GluR1 phosphorylation.A,fEPSP recordings measured in area CA1 after treatment with NMDA (300 μm, 3 min) (n = 5). Differences from basal in GluR1 phosphorylation at S845 and S831 at 5 min and 90 min after treatment with NMDA (300 μm, 3 min) in an interface perfusion chamber (B) (n = 7–19) and at 60 min after treatment with isoproterenol in an interface perfusion chamber (C) (1 μm, 15 min) (n = 11). *p &lt; 0.05 compared with basal leve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R is dominant overβAR in the regulation of GluR1 phosphorylation in area CA1 from mouse hippocampal slices. A, Differences from basal levels in GluR1 phosphorylation at S845 and S831 after treatment with NMDA (300 μm, 3 and 6 min) or isoproterenol (Iso; 1 μm, 3 and 6 min) in submerged chambers. NMDA → isoproterenol indicates that NMDA was added initially (6 min) and isoproterenol was coapplied with NMDA during the final 3 min. Isoproterenol → NMDA indicates the opposite order of drug application (n = 4–6). *p &lt; 0.05 compared with basal levels; #p &lt; 0.05 compared with NMDA 3′; +p &lt; 0.05 compared with isoproterenol 6′. B, Differences from basal levels in GluR1 phosphorylation at S845 and S831 after treatment with NMDA (300μm, 3 min) and isoproterenol (1μm, 3 min) in an interface perfusion chamber at 5 and 90 min after drug application. NMDA 90′ → isoproterenol 5′ indicates that NMDA was added initially, and 90 min later isoproterenol was added (n = 6). *p &lt; 0.05 compared with basal levels; #p &lt; 0.05 compared with NMDA 90′.</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β1AR activation increases S845 phosphorylation of GluR1 in area CA1 from mouse hippocampal slices. A, Differences from basal levels in GluR1 phosphorylation at S845 and S831 after treatment with isoproterenol (iso; 1 μm, 3 min) (n = 3). B, Differences from basal levels in GluR1 phosphorylation at S845 and S831 after pretreatment with betaxolol (bet; 10 μm, 10 min) or ICI-118,551(ICI;10μm,10 min) followed by isoproterenol(100 nm,6 min)(n=4).*p&lt;0.05 compared with basal levels; #p&lt; 0.05 compared with isoproteren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R and βAR activation dose-dependently increase cAMP levels in area CA1 from mouse hippocampal slices, but to differing magnitudes. A, Dose–response curve of NMDA (1 μm to 1 mm, 3 min) induced changes in cAMP concentration relative to basal levels (n = 3–6). B, Dose–response curve of isoproterenol (1 nm to 10μm, 3 min) induced changes in cAMP concentration relative to basal levels (n = 3–4). *p &lt; 0.05 compared with basal leve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ultiple phosphatases regulate NMDAR-stimulated changes in GluR1 phosphorylation in area CA1 from mouse hippocampal slices. A, Differences from basal levels in GluR1 phosphorylation at S845 and S831 after pretreatment with calyculin A (CalA; 1 μm, 30 min) or vehicle (0.1% DMSO) followed by treatment with NMDA (300 μm, 3 min) (n = 10–11). B, Differences from basal levels in GluR1 phosphorylation at S845 and S831 after pretreatment with cypermethrin (Cyp; 10μm, 30 min) or vehicle (0.1% DMSO) followed by treatment with NMDA (300μm, 3 min) (n = 4–5). C, Differences from basal levels in GluR1 phosphorylation at S845 and S831 after pretreatment with cyclosporinA (CsA;1μm,30 min) or vehicle (0.1%DMSO) followed by treatment with NMDA (300 μm, 3 min) (n = 7). D, Differences from basal levels in GluR1 phosphorylation at S845 and S831 after simultaneous pretreatment with calyculin A plus cyclosporin A (1 μm each, 30 min) or vehicle (0.2% DMSO) followed by treatment with NMDA (300μm, 3 min) (n = 4–5). *p &lt; 0.05 compared with basal levels; #p &lt; 0.05 compared with calyculin A, cypermethrin, cyclosporin A, and calyculin A plus cyclosporin 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MDA and β</a:t>
            </a:r>
            <a:r>
              <a:rPr b="1" lang="en-GB" sz="2400" spc="-1" strike="noStrike" baseline="-33000">
                <a:solidFill>
                  <a:srgbClr val="000000"/>
                </a:solidFill>
                <a:latin typeface="Arial"/>
              </a:rPr>
              <a:t>1</a:t>
            </a:r>
            <a:r>
              <a:rPr b="1" lang="en-GB" sz="2400" spc="-1" strike="noStrike">
                <a:solidFill>
                  <a:srgbClr val="000000"/>
                </a:solidFill>
                <a:latin typeface="Arial"/>
              </a:rPr>
              <a:t>-Adrenergic Receptors Differentially Signal Phosphorylation of Glutamate Receptor Type 1 in Area CA1 of Hippocampu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manda M. Vanhoose, and Danny G. Wind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13):5827-583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2,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R activation decreases the S845 and increases the S831 phosphorylation of GluR1 in area CA1 from mouse hippocampal slic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558800" y="1079640"/>
            <a:ext cx="6966000" cy="5394240"/>
          </a:xfrm>
          <a:prstGeom prst="rect">
            <a:avLst/>
          </a:prstGeom>
          <a:ln w="0">
            <a:noFill/>
          </a:ln>
        </p:spPr>
      </p:pic>
      <p:sp>
        <p:nvSpPr>
          <p:cNvPr id="49" name=""/>
          <p:cNvSpPr/>
          <p:nvPr/>
        </p:nvSpPr>
        <p:spPr>
          <a:xfrm>
            <a:off x="1558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manda M. Vanhoose, and Danny G. Winder J. Neurosci. 2003;23:5827-583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R activation induces a transient change in synaptic transmission and GluR1 phosphorylation, whereas βAR activation induces a long-lasting change in GluR1 phosphorylation.A,fEPSP recordings measured in area CA1 after treatment with NMDA (300 μm, 3 mi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2160720"/>
            <a:ext cx="8604360" cy="323208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manda M. Vanhoose, and Danny G. Winder J. Neurosci. 2003;23:5827-583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R is dominant overβAR in the regulation of GluR1 phosphorylation in area CA1 from mouse hippocampal slic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739800" y="2338560"/>
            <a:ext cx="8604360" cy="2877840"/>
          </a:xfrm>
          <a:prstGeom prst="rect">
            <a:avLst/>
          </a:prstGeom>
          <a:ln w="0">
            <a:noFill/>
          </a:ln>
        </p:spPr>
      </p:pic>
      <p:sp>
        <p:nvSpPr>
          <p:cNvPr id="5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manda M. Vanhoose, and Danny G. Winder J. Neurosci. 2003;23:5827-583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β1AR activation increases S845 phosphorylation of GluR1 in area CA1 from mouse hippocampal slic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943280"/>
            <a:ext cx="8604360" cy="366552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manda M. Vanhoose, and Danny G. Winder J. Neurosci. 2003;23:5827-583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R and βAR activation dose-dependently increase cAMP levels in area CA1 from mouse hippocampal slices, but to differing magnitud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247760"/>
            <a:ext cx="8604360" cy="505764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manda M. Vanhoose, and Danny G. Winder J. Neurosci. 2003;23:5827-583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ultiple phosphatases regulate NMDAR-stimulated changes in GluR1 phosphorylation in area CA1 from mouse hippocampal slice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895400" y="1079640"/>
            <a:ext cx="6292800" cy="5394240"/>
          </a:xfrm>
          <a:prstGeom prst="rect">
            <a:avLst/>
          </a:prstGeom>
          <a:ln w="0">
            <a:noFill/>
          </a:ln>
        </p:spPr>
      </p:pic>
      <p:sp>
        <p:nvSpPr>
          <p:cNvPr id="74" name=""/>
          <p:cNvSpPr/>
          <p:nvPr/>
        </p:nvSpPr>
        <p:spPr>
          <a:xfrm>
            <a:off x="18954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manda M. Vanhoose, and Danny G. Winder J. Neurosci. 2003;23:5827-583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