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rphology and distribution of functionally analyzed ESNs. A, Schematic representation of a hippocampal slice culture showing the distribution of incorporated EGFP-labeled ESNs used for functional analyses. CA1, CA1 subfield; CA3, CA3 subfield of the hippocampus. B, Confocal image of two EGFP+ neurons 3 weeks after engraftment (3-dimensional reconstruction of 16 individual planes taken from a fixed slice). Scale bar, 10 μm. C1-C3, Infrared DIC image (C1) and fluorescence image (C2) of an EGFP+ donor neuron after formation of a gigaseal. In all of the recordings, diffusion of EGFP into the pipette served as confirmation of the donor cell identity (C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rinsic discharge properties and expression of voltage-gated membrane currents observed in engrafted ESNs. A, Current-clamp recordings during prolonged (A1) and brief (A2) current injections at different time points after transplantation (5-7, 12-14, and 19-12 d, as indicated at the left). Top traces represent voltage recordings, whereas bottom traces indicate current injections. B, Development of action potential (AP) parameters with time in culture. Action potential half-width (B1) was measured at the half-maximal amplitude. Action potential amplitude was measured from the beginning of the fast upstroke to the peak amplitude (B2). The number of action potentials was evaluated during a 150 msec current injection that was twofold higher than a threshold current injection (B3). The action potential threshold was defined as the voltage at which the slope of the voltage trace changed abruptly. Note the progressive development of repetitive discharge properties and action potential morphology with time in culture (A, B). For comparison, the properties of endogenous (end.) neurons within the slice culture granule cell layer are shown (B1-B4, rightmost bars). C, Voltage-dependent membrane currents. Depolarizing voltage steps (see insets) elicited outward currents with a transiently decaying (IK,trans) and a sustained (IK,sust) component (C1). In addition, we observed fast inward currents that were blocked by application of TTX (C2, asterisk). D, Maximal amplitudes of transiently decaying (IK,trans) and sustained (IK,sust) outward-current components, as well as fast Na+ inward currents (INa). The amplitude of IK,trans was determined by subtracting sustained outward-current amplitudes at the end of the command pulse from the peak outward-current amplitu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MPA receptor-mediated synaptic transmission onto ESNs. A1-A3, ESNs express AMPA GluR1 subunits. Twelve days after deposition on the slice culture, an incorporated EGFP+ donor cell (A1) displays immunoreactivity with a GluR1 antibody (A2); overlay (A3). B1-B3, Spontaneous postsynaptic currents were recorded in the presence of bicuculline (Bic) (10 μm) and AP5 (APV) (50 μm) to isolate synaptic currents mediated by AMPA receptors (B1) (larger magnification in B2) (12-14 d after engraftment). EPSCs were completely abolished after additional application of 50 μm CNQX (B3). C1, C2, To estimate the reversal potential, the cell membrane was clamped at the potentials indicated (C1, left), and AMPA receptor-mediated EPSCs were elicited by synaptic stimulation with a monopolar stimulation electrode. Current amplitudes were averaged and plotted at each holding potential. The reversal potential was close to 0 mV (C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SNs receive GABAA receptor-mediated synaptic input. A1-A3, Immunohistochemical detection of the GABAA receptor β-chain (red) in EGFP-labeled donor neurons (12 d after engraftment) (A3, overlay). B1-B3, Spontaneous GABAA receptor-mediated synaptic currents were isolated by recording PSCs in the presence of 50 μm CNQX and AP5 (APV) (B1) (larger magnification in B2) (12-14 d after engraftment). IPSCs were completely blocked after additional application of 10 μm bicuculline (BIC) (B3). C1, C2, Determination of the reversal potential. Analogous to Figure 3, the cell membrane was clamped at the potentials indicated (C1, left), and GABAA receptor-mediated IPSCs were elicited by synaptic stimulation with a monopolar stimulation electrode. Current amplitudes were averaged and plotted at each holding potential. The reversal potential was approximately -40 mV (C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velopment of synaptic input onto ESNs during engraftment into slice cultures. A1-A3, Representative examples of spontaneous synaptic activity at different time points after engraftment (indicated at the left) (recordings were taken without blockers of synaptic transmission). B1, B2, C1, C2, Putative AMPA- and GABAA-mediated PSCs were separated on the basis of their different decay time constants (Fig.4and this figure). With time after engraftment, the average frequency of both types of synaptic events increased dramatically (B1, B2). The average amplitude of AMPA- and GABAA-mediated PSCs was similar in all of the age groups (C1, C2). Error bars represent SD as described in Materials and Metho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orporated ESNs receive input via the host perforant path. A, Afferent perforant path axons were traced by anterograde labeling with rhodamine-conjugated dextran (micro-ruby). Labeled host axons were found to contact EGFP+ ESNs incorporated into the DG granule cell layer. Scale bar, 10 μm. B, Synaptic PSCs in engrafted ESNs and adjacent host neurons within the granule cell layer, elicited by stimulation within the entorhinal cortex. Before recording, all of the samples were carefully examined for the presence of EGFP-positive axonal or dendritic profiles in the vicinity of the stimulation site; positive slices were excluded from additional analysis. Double-pulse experiments showed that perforant path axons terminating on ESNs exhibit marked paired-pulse facilitation (interpulse intervals, 20, 40, 100, and 200 msec) (bottom traces). In contrast, perforant path synapses onto endogenous neurons in the granule cell layer mostly displayed paired-pulse inhibition (top traces). C, Paired-pulse ratio calculated as the amplitude of the second divided by the amplitude of the first EPSC for incorporated ESNs (open circles) and endogenous neurons (filled cir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unctional Integration of Embryonic Stem Cell-Derived Neurons in Hippocampal Slice Cultur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Felix Benninger, Heinz Beck, Marius Wernig, Kerry L. Tucker, Oliver Brüstle, and Björn Scheffl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18):7075-708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6,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rphology and distribution of functionally analyzed ESNs. A, Schematic representation of a hippocampal slice culture showing the distribution of incorporated EGFP-labeled ESNs used for functional analys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825560" y="1079640"/>
            <a:ext cx="6435720" cy="5394240"/>
          </a:xfrm>
          <a:prstGeom prst="rect">
            <a:avLst/>
          </a:prstGeom>
          <a:ln w="0">
            <a:noFill/>
          </a:ln>
        </p:spPr>
      </p:pic>
      <p:sp>
        <p:nvSpPr>
          <p:cNvPr id="49" name=""/>
          <p:cNvSpPr/>
          <p:nvPr/>
        </p:nvSpPr>
        <p:spPr>
          <a:xfrm>
            <a:off x="1825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rinsic discharge properties and expression of voltage-gated membrane currents observed in engrafted ESNs. A, Current-clamp recordings during prolonged (A1) and brief (A2) current injections at different time points after transplantation (5-7, 12-14, an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098880" y="1079640"/>
            <a:ext cx="3887640" cy="5394240"/>
          </a:xfrm>
          <a:prstGeom prst="rect">
            <a:avLst/>
          </a:prstGeom>
          <a:ln w="0">
            <a:noFill/>
          </a:ln>
        </p:spPr>
      </p:pic>
      <p:sp>
        <p:nvSpPr>
          <p:cNvPr id="54" name=""/>
          <p:cNvSpPr/>
          <p:nvPr/>
        </p:nvSpPr>
        <p:spPr>
          <a:xfrm>
            <a:off x="3098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MPA receptor-mediated synaptic transmission onto ESNs. A1-A3, ESNs express AMPA GluR1 subuni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716120" y="1079640"/>
            <a:ext cx="6653160" cy="5394240"/>
          </a:xfrm>
          <a:prstGeom prst="rect">
            <a:avLst/>
          </a:prstGeom>
          <a:ln w="0">
            <a:noFill/>
          </a:ln>
        </p:spPr>
      </p:pic>
      <p:sp>
        <p:nvSpPr>
          <p:cNvPr id="59" name=""/>
          <p:cNvSpPr/>
          <p:nvPr/>
        </p:nvSpPr>
        <p:spPr>
          <a:xfrm>
            <a:off x="1716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SNs receive GABAA receptor-mediated synaptic inpu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712880" y="1079640"/>
            <a:ext cx="6659640" cy="5394240"/>
          </a:xfrm>
          <a:prstGeom prst="rect">
            <a:avLst/>
          </a:prstGeom>
          <a:ln w="0">
            <a:noFill/>
          </a:ln>
        </p:spPr>
      </p:pic>
      <p:sp>
        <p:nvSpPr>
          <p:cNvPr id="64" name=""/>
          <p:cNvSpPr/>
          <p:nvPr/>
        </p:nvSpPr>
        <p:spPr>
          <a:xfrm>
            <a:off x="1712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velopment of synaptic input onto ESNs during engraftment into slice cultur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546200"/>
            <a:ext cx="8604360" cy="445932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orporated ESNs receive input via the host perforant path.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617920" y="1079640"/>
            <a:ext cx="4851360" cy="5394240"/>
          </a:xfrm>
          <a:prstGeom prst="rect">
            <a:avLst/>
          </a:prstGeom>
          <a:ln w="0">
            <a:noFill/>
          </a:ln>
        </p:spPr>
      </p:pic>
      <p:sp>
        <p:nvSpPr>
          <p:cNvPr id="74" name=""/>
          <p:cNvSpPr/>
          <p:nvPr/>
        </p:nvSpPr>
        <p:spPr>
          <a:xfrm>
            <a:off x="2617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Felix Benninger et al. J. Neurosci. 2003;23:7075-708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