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 representative change in hippocampal blood flow in mice subjected to 20 min of BCCA occlusion. Blood flow was recorded from the hippocampus at a distance of ∼1 mm caudal to the microdialysis probe. Blood flow decreased to 6.1% (mean) of the baseline during occlusion in a mouse lacking GLT-1 (number 72). Time 0 represents the point of onset of BCCA occl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hanges in dialysate levels of glutamate in the hippocampal CA1 of mice lacking GLT-1 and wild-type mice. The mice were subjected to 5 min ischemia. The data presented are means ± SEM (bars). Glutamate levels in mice lacking GLT-1 (n = 12; •-•) were significantly higher than the corresponding glutamate levels in wild-type mice (n = 12; ○-○) at all measured points(p &lt; 0.01; two-way ANOVA; Scheffé'spost hoctest). Asterisks indicate a value significantly higher than the corresponding preischemic levels in each group (★★p &lt; 0.01; ★p &lt; 0.05; one-way ANOVA; Dunnett's post hoc test). Ordinate, Glutamate levels (pmol/μl) in dialysate; abscissa, time (min) before and after the onset of 5 min isch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otomicrographs showing the track of the microdialysis probe and neuronal death in the hippocampus of mice subjected to 5 min ischemia. In wild-type mice (a,b), neuronal death was not observed 4 d after recirculation (a). The higher magnification of the CA1 pyramidal cell layer shows that normal-appearing CA1 neurons are distributed densely in the layer (b). In mice lacking GLT-1 (c--f), neuronal death was not detected in the CA1 1 hr after recirculation (c). However, neuronal death was induced in the CA1 and also in part of the CA3 (around a filled circle) 24 hr after recirculation (d), and then widespread neuronal death was observed in the CA1 and CA3 4 d after recirculation (e). The high magnification of the CA1 pyramidal cell layer 4 d after recirculation shows that almost all of the CA1 neurons died (f). a, c-e, A portion of the microdialysis membrane (distance between two arrowheads) was placed in the CA1. The arrows indicate the boundary between the CA1 and CA3. Scale bars: a, c, d, e, 0.5 mm; b, f, 50 μm. DG, Dentate gy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euronal density in the CA1 of mice subjected to 5 min ischemia. Normal-appearing neurons were counted in the CA1 of mice lacking GLT-1 (-/-, filled columns), wild-type mice (+/+, open columns), and sham-operated control mice (sham, stippled columns) 1 hr, 24 hr, and 4 d after recirculation, and the density of neurons per millimeter in the pyramidal cell layer was calculated. The sham-operated control mice were +/+. Asterisks indicate a value significantly lower than the corresponding values in wild-type and sham-operated control mice (★★p &lt; 0.01; one-way ANOVA; Scheffé's post hoc test). Values are means ± SEM (bars) (each column, n = 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hanges in dialysate levels of glutamate in the hippocampal CA1 of mice lacking GLT-1 and wild-type mice. The mice lacking GLT-1 (n = 8; •-•) and wild-type mice (n = 8; ○-○) were subjected to 20 min ischemia. The data presented are means ± SEM (bars). Filled asterisks indicate a value significantly higher than the corresponding value in wild-type mice (★★p &lt; 0.01; two-way ANOVA; Scheffé's post hoc test), and open asterisks indicate a value significantly higher than the corresponding value in mice lacking GLT-1 (☆☆p &lt; 0.01; ☆p &lt; 0.05; two-way ANOVA; Scheffé's post hoc test). Ordinate, Glutamate levels (pmol/μl) in dialysate; abscissa, time (min) before and after the onset of 20 min ische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euronal death and density in the hippocampal CA1 in mice subjected to 20 min ischemia. Acute neuronal death was observed 1 hr after recirculation in mice subjected to 20 min ischemia. Normal-appearing neurons, which were densely observed in the CA1 pyramidal cell layer in sham-operated control mice (a), were rarely seen in the CA1 of mice lacking GLT-1 (b) and also wild-type mice (c). Scale bar, 50 μm. d, The density of normal-appearing neurons per millimeter of the pyramidal cell layer was calculated in the CA1 in mice lacking GLT-1 (-/-, filled columns), wild-type mice (+/+, open columns), and sham-operated control mice (sham, stippled columns) 1 hr after recirculation. The sham-operated control mice were +/+. Asterisks indicate a value significantly lower than the corresponding value of sham-operated control mice (★★p &lt; 0.01; one-way ANOVA; Scheffé's post hoc test). Values are means ± SEM (bars) (each column, n=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Changes of Glial Glutamate Transporter GLT-1 during Ischemia: An In Vivo Study in the Hippocampal CA1 of Normal Mice and Mutant Mice Lacking GLT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kira Mitani, and Kohichi Tan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. Neuros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3(18):7176-71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ugust 6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representative change in hippocampal blood flow in mice subjected to 20 min of BCCA occlus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23920" y="1079640"/>
            <a:ext cx="78375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239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kira Mitani, and Kohichi Tanaka J. Neurosci. 2003;23:7176-7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nges in dialysate levels of glutamate in the hippocampal CA1 of mice lacking GLT-1 and wild-type m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14440" y="1079640"/>
            <a:ext cx="54547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144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kira Mitani, and Kohichi Tanaka J. Neurosci. 2003;23:7176-7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tomicrographs showing the track of the microdialysis probe and neuronal death in the hippocampus of mice subjected to 5 min ischem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01960" y="1079640"/>
            <a:ext cx="608004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019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kira Mitani, and Kohichi Tanaka J. Neurosci. 2003;23:7176-7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uronal density in the CA1 of mice subjected to 5 min ischem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06720" y="1079640"/>
            <a:ext cx="587052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067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kira Mitani, and Kohichi Tanaka J. Neurosci. 2003;23:7176-7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nges in dialysate levels of glutamate in the hippocampal CA1 of mice lacking GLT-1 and wild-type m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09680" y="1079640"/>
            <a:ext cx="566604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kira Mitani, and Kohichi Tanaka J. Neurosci. 2003;23:7176-7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uronal death and density in the hippocampal CA1 in mice subjected to 20 min ischem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8000" y="6912000"/>
            <a:ext cx="1879560" cy="34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76400" y="1079640"/>
            <a:ext cx="613404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64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kira Mitani, and Kohichi Tanaka J. Neurosci. 2003;23:7176-7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Society for Neuro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