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basolateral amygdala has a high expression of the GluR5 protein. Western blot analysis of the GluR5 protein levels (top) in five brain regions:a, retrosplenial granular cortex; b, hippocampus; c, basolateral amygdala; d, medial globus pallidus; e, medial amygdala. These regions are indicated in the pseudocolor image of GluR5 mRNA in situ hybridization data from rat brain (from Li et al., 2001). An in situhybridization pseudocolor image of GluR6 mRNA (from Li et al., 2001) is also shown for comparison. Although GluR6 mRNA signal is strongest in the hippocampus, GluR5 mRNA and GluR5 protein levels are highest in the amygdala. Parallel immunoblotting for α-actin was used to verify the equal loading of cell lysates. The molecular mass is indicat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ostsynaptic currents evoked in the presence of 50 μm GYKI 53655, 50 μm d-APV, and 20 μm SCH59011 are GABAA receptor-mediated IPSCs. a, GYKI 53655, at a concentration of 50 μm, completely blocks AMPA-evoked postsynaptic currents. Sample traces of postsynaptic currents evoked by puff application of 200 μm AMPA in the presence of 1 μm TTX, 50 μm bicuculline, 50 μm d-APV, and 20 μm SCH59011 (holding potential, −70 mV) are shown. These currents were reduced by 52.1 ± 5.2% (n = 8) in the presence of 1 μm GYKI 53655 and were reversibly eliminated by 50 μm GYKI 53655. The horizontal bar above the current traces denotes the duration of the puff. The graph shows pooled data from eight neurons. **p &lt; 0.01. b, Postsynaptic currents recorded in the presence of 50 μm GYKI 53655, 50 μm d-APV, and 20 μm SCH59011 were blocked by 10 μm bicuculline. Superimposed traces are evoked currents recorded from a BLA pyramidal neuron (holding potential, +10 mV). The graph shows pooled data (means ± SEM) from nine neurons. **p &lt; 0.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ose-dependent, bidirectional modulation of the rate of failures of evoked GABAergic synaptic transmission by the GluR5 agonist ATPA. a–c, Superimposed traces are eIPSCs recorded from three different BLA pyramidal neurons before, during, and after bath application of different concentrations of ATPA. The scaled superimposed traces show that the effects of ATPA were not accompanied by changes in the kinetics of the eIPSCs. The plots show the time course of the effects of ATPA on the amplitude and number of failures of eIPSCs. Bar graphs are pooled data (means ± SEM) of the percentage of failures before, during, and after the application of ATPA. eIPSCs were recorded in the presence of GYKI 53655 (50 μm), d-APV (50 μm), and SCH50911 (20 μm), at a holding potential of +10 mV.a, At 300 nm, ATPA significantly decreased the percentage of failures of eIPSCs (n = 9; **p &lt; 0.01). b, At 1 μm, ATPA caused a transient reduction (2a) followed by a long-lasting increase (2b) in the number of failures (n = 10; *p &lt; 0.05). c, At 10 μm, ATPA produced a marked increase in the percentage of failures of eIPSCs (n = 8; **p&lt; 0.01). Perfusion of the slices with ATPA-free ACSF completely reversed the effects of the agoni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effects of ATPA and glutamate on the rate of failures of GABAergic synaptic transmission are blocked by LY293558 (30 μm). a, b, Superimposed traces are eIPSCs recorded from pyramidal neurons in the presence of LY293558. Application of ATPA or glutamate had no effect on the failure rate of the eIPSCs. The plots show the amplitude of the eIPSCs versus time, before and during application of ATPA (a) or glutamate (b). Bar graphs are pooled data (means ± SEM) of the percentage of failures in the presence or absence of the GluR5 agonists. eIPSCs were recorded in the presence of GYKI 53655 (50 μm), d-APV (50 μm), and SCH50911 (20 μm), at a holding potential of +10 mV.</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ose-dependent, bidirectional modulation of the rate of failures of evoked GABAergic synaptic transmission by glutamate, via activation of GluR5 kainate receptors.a–c, Superimposed traces are eIPSCs recorded from three different BLA pyramidal neurons before, during, and after the application of glutamate. The scaled superimposed traces show that the effects of glutamate were not accompanied by changes in the kinetics of the eIPSCs. The plots show the time course of the effects of glutamate on the amplitude and number of failures of eIPSCs. Bar graphs are pooled data (means ± SEM) of the percentage of failures before, during, and after the application of glutamate. eIPSCs were recorded in the presence of GYKI 53655 (50 μm), d-APV (50 μm), SCH50911 (20 μm), and CPCCOEt (30 μm), at a holding potential of +10 mV. a, At 5 μm, glutamate decreased the percentage of failures of eIPSCs (n = 6; **p &lt; 0.01).b, At 30 μm, glutamate caused a transient reduction (2a) followed by a long-lasting increase (2b) in the number of failures (n = 6; **p &lt; 0.01). c, At 200 μm, glutamate caused a marked increase in the percentage of failures of eIPSCs (n = 5; **p &lt; 0.01). Perfusion of the slices with glutamate-free ACSF completely reversed the effects of the agoni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citation of BLA interneurons via GluR5 kainate receptors. a, Kainate receptors mediate a component of the synaptic responses of BLA interneurons. 1, EPSCs (V hold, −60 mV) recorded from a BLA interneuron in the presence of GYKI 53655 (50 μm),d-APV (50 μm), bicuculline (10 μm), and SCH50911 (20 μm). Electrical stimulation was applied to the external capsule (3 shocks delivered at 100 Hz, every 10 sec). 2, Pooled data (means ± SEM) illustrating the blockade of evoked EPSCs, recorded as in1, by bath application of 30 μm LY293558 (n = 8; **p &lt; 0.01). A photomicrograph of the interneuron recorded in a1 is shown in 3. Scale bar, 50 μm. b, Activation of GluR5 kainate receptors increases the spontaneous activity of BLA interneurons. 1, Effects of different concentrations of ATPA on sIPSCs recorded from the soma of three different BLA pyramidal neurons (V hold, +10 mV). A photomicrograph of one of these neurons is shown in 3. Scale bar, 50 μm.2, Pooled data (means ± SEM) illustrating a dose-dependent increase in the frequency of sIPSCs induced by 300 nm (n = 6), 1 μm(n = 6), and 10 μm(n = 9) ATPA (**p &lt; 0.01). LY293558 (30 μm), when applied alone, had no effect on the frequency of sIPSCs but prevented the ATPA-induced effect when coapplied with ATP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ose-dependent, bidirectional modulation of the frequency of miniature GABAergic currents by the GluR5 agonist ATPA.a–c, Top, Samples of mIPSCs recorded from three different BLA pyramidal neurons before, during, and after the application of ATPA, at a 300 nm (a), 1 μm (b), or 10 μm(c) concentration. Recordings were obtained in the presence of TTX (1 μm), GYKI 53655 (50 μm), d-APV (50 μm), and SCH50911 (20 μm), at a holding potential of +10 mV.a–c, Bottom, The corresponding cumulative probability plots of interevent intervals and amplitudes of mIPSCs in control conditions and during the application of ATPA. Bar graphs show pooled data (means ± SEM) on the effects of ATPA on mIPSCs. At 300 nm (a), ATPA increased the frequency of mIPSCs (n = 9; **p&lt; 0.01). At 1 μm (b), ATPA caused a small but significant reduction (n = 7; *p &lt; 0.05), and at 10 μm(c), ATPA caused a marked reduction in the frequency of mIPSCs (n = 7; **p&lt; 0.01). The peak amplitude, rise time, and decay time constant were not significantly affected by any of the three concentrations of ATPA. Perfusion of the slices with ATPA-free ACSF completely reversed the effects of the agoni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effects of ATPA on the frequency of miniature GABAergic currents do not involve voltage-dependent calcium channels.a1, b1, Samples of mIPSCs recorded from two different BLA pyramidal neurons before, during, and after the application of 300 nm (a1) or 10 μm(b1) ATPA in the presence of Cd2+(100 μm), TTX (1 μm), GYKI 53655 (50 μm), d-APV (50 μm), and SCH50911 (20 μm), at a holding potential of +10 mV. The presence of Cd2+ in the medium did not prevent the increase (a1) or decrease (b1) in the frequency of mIPSCs by bath application of ATPA. a2, b2, Plots show the effects of 300 nm (a2) and 10 μm (b2) ATPA on the mean frequency of mIPSCs as a function of time (bin = 60 sec) (same cells as ina1 and b1, respectively). a3, b3, Pooled data (means ± SEM) on the effects of ATPA, applied in the presence of Cd2+, on the frequency of mIPSCs. a3, At 300 nm, ATPA increased the frequency of mIPSCs (n = 6; *p&lt; 0.05). b3, At 10 μm, ATPA caused a marked reduction in the frequency of mIPSCs (n = 3; *p &lt; 0.05). For each cell, the mIPSC frequency was normalized to the value of the mean mIPSC frequency before the application of ATPA. Coapplication of LY293558 (30 μm) prevented the effects of ATP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ndogenous glutamate tonically activates GluR5 kainate receptors, facilitating GABAergic synaptic transmission.a, Superimposed traces of eIPSCs recorded from a BLA pyramidal neuron before, during, and after the application of LY293558 (30 μm). Recordings were obtained in the presence of GYKI 53655 (50 μm), d-APV (50 μm), and SCH50911 (20 μm), at a holding potential of +10 mV. The scaled superimposed traces show that the effects of LY293558 (30 μm) were not accompanied by changes in the kinetics of the eIPSCs. b, The time course of the effects of LY293558 (30 μm) on the amplitude and number of failures of eIPSCs (same cell as in a). c, Pooled data (means ± SEM) illustrating a marked increase in the percentage of failures of eIPSCs induced by bath application of LY293558 (n = 8; **p &lt; 0.0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Bidirectional Modulation of GABA Release by Presynaptic Glutamate Receptor 5 Kainate Receptors in the Basolateral Amygdala</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aria F. M. Braga, Vassiliki Aroniadou-Anderjaska, Jianwu Xie, and He Li</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3(2):442-45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5,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basolateral amygdala has a high expression of the GluR5 protein.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2733840" y="1079640"/>
            <a:ext cx="4619520" cy="5394240"/>
          </a:xfrm>
          <a:prstGeom prst="rect">
            <a:avLst/>
          </a:prstGeom>
          <a:ln w="0">
            <a:noFill/>
          </a:ln>
        </p:spPr>
      </p:pic>
      <p:sp>
        <p:nvSpPr>
          <p:cNvPr id="89" name=""/>
          <p:cNvSpPr/>
          <p:nvPr/>
        </p:nvSpPr>
        <p:spPr>
          <a:xfrm>
            <a:off x="27338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 F. M. Braga et al. J. Neurosci. 2003;23:442-452</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ostsynaptic currents evoked in the presence of 50 μm GYKI 53655, 50 μm d-APV, and 20 μm SCH59011 are GABAA receptor-mediated IPSCs. a, GYKI 53655, at a concentration of 50 μm, completely blocks AMPA-evoked postsynaptic current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943360" y="1079640"/>
            <a:ext cx="4198680" cy="5394240"/>
          </a:xfrm>
          <a:prstGeom prst="rect">
            <a:avLst/>
          </a:prstGeom>
          <a:ln w="0">
            <a:noFill/>
          </a:ln>
        </p:spPr>
      </p:pic>
      <p:sp>
        <p:nvSpPr>
          <p:cNvPr id="49" name=""/>
          <p:cNvSpPr/>
          <p:nvPr/>
        </p:nvSpPr>
        <p:spPr>
          <a:xfrm>
            <a:off x="29433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 F. M. Braga et al. J. Neurosci. 2003;23:442-45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ose-dependent, bidirectional modulation of the rate of failures of evoked GABAergic synaptic transmission by the GluR5 agonist ATPA. a–c, Superimposed traces are eIPSCs recorded from three different BLA pyramidal neurons before, during, and after bath appl...</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386160" y="1079640"/>
            <a:ext cx="3314520" cy="5394240"/>
          </a:xfrm>
          <a:prstGeom prst="rect">
            <a:avLst/>
          </a:prstGeom>
          <a:ln w="0">
            <a:noFill/>
          </a:ln>
        </p:spPr>
      </p:pic>
      <p:sp>
        <p:nvSpPr>
          <p:cNvPr id="54" name=""/>
          <p:cNvSpPr/>
          <p:nvPr/>
        </p:nvSpPr>
        <p:spPr>
          <a:xfrm>
            <a:off x="3386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 F. M. Braga et al. J. Neurosci. 2003;23:442-45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effects of ATPA and glutamate on the rate of failures of GABAergic synaptic transmission are blocked by LY293558 (30 μm). a, b, Superimposed traces are eIPSCs recorded from pyramidal neurons in the presence of LY293558.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835440" y="1079640"/>
            <a:ext cx="2415960" cy="5394240"/>
          </a:xfrm>
          <a:prstGeom prst="rect">
            <a:avLst/>
          </a:prstGeom>
          <a:ln w="0">
            <a:noFill/>
          </a:ln>
        </p:spPr>
      </p:pic>
      <p:sp>
        <p:nvSpPr>
          <p:cNvPr id="59" name=""/>
          <p:cNvSpPr/>
          <p:nvPr/>
        </p:nvSpPr>
        <p:spPr>
          <a:xfrm>
            <a:off x="3835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 F. M. Braga et al. J. Neurosci. 2003;23:442-45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ose-dependent, bidirectional modulation of the rate of failures of evoked GABAergic synaptic transmission by glutamate, via activation of GluR5 kainate receptors.a–c, Superimposed traces are eIPSCs recorded from three different BLA pyramidal neurons before...</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402000" y="1079640"/>
            <a:ext cx="3281400" cy="5394240"/>
          </a:xfrm>
          <a:prstGeom prst="rect">
            <a:avLst/>
          </a:prstGeom>
          <a:ln w="0">
            <a:noFill/>
          </a:ln>
        </p:spPr>
      </p:pic>
      <p:sp>
        <p:nvSpPr>
          <p:cNvPr id="64" name=""/>
          <p:cNvSpPr/>
          <p:nvPr/>
        </p:nvSpPr>
        <p:spPr>
          <a:xfrm>
            <a:off x="3402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 F. M. Braga et al. J. Neurosci. 2003;23:442-452</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citation of BLA interneurons via GluR5 kainate receptors. a, Kainate receptors mediate a component of the synaptic responses of BLA interneurons. 1, EPSCs (V hold, −60 mV) recorded from a BLA interneuron in the presence of GYKI 53655 (50 μm),d-APV (50 μm)...</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332080" y="1079640"/>
            <a:ext cx="5421240" cy="5394240"/>
          </a:xfrm>
          <a:prstGeom prst="rect">
            <a:avLst/>
          </a:prstGeom>
          <a:ln w="0">
            <a:noFill/>
          </a:ln>
        </p:spPr>
      </p:pic>
      <p:sp>
        <p:nvSpPr>
          <p:cNvPr id="69" name=""/>
          <p:cNvSpPr/>
          <p:nvPr/>
        </p:nvSpPr>
        <p:spPr>
          <a:xfrm>
            <a:off x="2332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 F. M. Braga et al. J. Neurosci. 2003;23:442-452</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ose-dependent, bidirectional modulation of the frequency of miniature GABAergic currents by the GluR5 agonist ATPA.a–c, Top, Samples of mIPSCs recorded from three different BLA pyramidal neurons before, during, and after the application of ATPA, at a 300 n...</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2809800" y="1079640"/>
            <a:ext cx="4467240" cy="5394240"/>
          </a:xfrm>
          <a:prstGeom prst="rect">
            <a:avLst/>
          </a:prstGeom>
          <a:ln w="0">
            <a:noFill/>
          </a:ln>
        </p:spPr>
      </p:pic>
      <p:sp>
        <p:nvSpPr>
          <p:cNvPr id="74" name=""/>
          <p:cNvSpPr/>
          <p:nvPr/>
        </p:nvSpPr>
        <p:spPr>
          <a:xfrm>
            <a:off x="280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 F. M. Braga et al. J. Neurosci. 2003;23:442-452</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effects of ATPA on the frequency of miniature GABAergic currents do not involve voltage-dependent calcium channels.a1, b1, Samples of mIPSCs recorded from two different BLA pyramidal neurons before, during, and after the application of 300 nm (a1) or 10...</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884760" y="1079640"/>
            <a:ext cx="2315880" cy="5394240"/>
          </a:xfrm>
          <a:prstGeom prst="rect">
            <a:avLst/>
          </a:prstGeom>
          <a:ln w="0">
            <a:noFill/>
          </a:ln>
        </p:spPr>
      </p:pic>
      <p:sp>
        <p:nvSpPr>
          <p:cNvPr id="79" name=""/>
          <p:cNvSpPr/>
          <p:nvPr/>
        </p:nvSpPr>
        <p:spPr>
          <a:xfrm>
            <a:off x="38847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 F. M. Braga et al. J. Neurosci. 2003;23:442-452</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ndogenous glutamate tonically activates GluR5 kainate receptors, facilitating GABAergic synaptic transmission.a, Superimposed traces of eIPSCs recorded from a BLA pyramidal neuron before, during, and after the application of LY293558 (30 μm).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739800" y="1289160"/>
            <a:ext cx="8604360" cy="497520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 F. M. Braga et al. J. Neurosci. 2003;23:442-452</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