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8000"/>
            <a:ext cx="5407200" cy="5292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dulation of nonmitochondrial source of ATP leads to a specific increase of survival in caspase-independent death. A, E18 cortical neurons were plated and cultured in glucose-free RPMI medium containing 5 mm pyruvate and the supplement B-27. The cells were exposed to no additives (ctrl), 4 mg/ml d-glucose (ctrl+glu), or 10 μm camptothecin and 100 μm BAF (cam+BAF) or glucose, camptothecin, and BAF (cam+BAF+glu). Measurements of ATP levels were obtained with (white bars) or without (gray bars) a 15 min pretreatment with oligomycin. As in Figure 8 A, there was a decrease of total ATP content with the cam and BAF treatment in the glucose-free medium after 12 hr of treatment. The addition of glucose significantly augmented total ATP content in cultures treated with cam and BAF (*p &lt; 0.05) by increasing the nonmitochondrial ATP (#p &lt; 0.01). However, the increase in total ATP by the addition of glucose was not sustained over time, as shown by the measurements at 20 hr. B, E18 cortical neurons were plated and cultured in glucose-free medium. They were then treated with no additives (ctrl), camptothecin for 12 hr (cam 12 hr), or cam and BAF for 20 hr in the presence or absence of 4 mg/ml d-glucose. The presence of glucose (white bars) offered no survival advantage to control cells or to those exposed to camptothecin but significantly attenuated caspase-independent cell death (*p &lt; 0.05). C, Counts of live (calcein AM-positive) neurons in a defined number of fields in each well confirmed the protective effect of glucose in caspase-independent cell death (*p&lt;0.01). D, Neurons were cultured in glucose-free medium as above and were then treated for 16 hr with no additives (ctl), glucose (ctl+glu), camptothecin and BAF (c+B), or camptothecin and BAF plus glucose (c+B+glu). Proteins from enriched mitochondrial fractions were then obtained by differential centrifugation of the cell lysates and analyzed by immunoblotting with indicated antibodies. The addition of glucose had no effect on mitochondrial cytochrome c content in either control conditions or neurons treated with camptothecin and BAF. COX is used as a marker for protein loading. This is representative of two independent experiments and shows similar results as two additional experiments in which lysates were collected after 12 hr of treat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tivation of autophagy in caspase-independent cell death. A-F, EM was performed in E18 cortical neurons cultured for 2 d with no additives (A), treated with 10 μm camptothecin alone for 10 hr (B), or 10 μm camptothecin plus 100 μm BAF for 20 hr (C, D) with or without the addition of 3-MA with an 8 hr delay (E, F). B, A classical apoptotic cell with condensed and fragmented chromatin within the nucleus (arrow) and a shrunken cell body can be appreciated. We found no such cells after the combined application of camptothecin and BAF. Nuclear alterations in this delayed death do not progress beyond some degree of chromatin condensation and margination as seen in D. Instead, many cells showed signs of autophagy (C, D). The arrows point to autophagolysosomes. Such marked autophagic features were not seen in control or camptothecin alone-treated cultures. E, F, Features of autophagy were decreased by 3-MA (E, F), even in clearly degenerating neurons (F). Although some autophagolysosomes appear to engulf mitochondria (C, top arrow), normal looking mitochondria can still be found in the cytoplasm (C, arrowheads). Scale bar, 1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41367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Increase in autophagic bodies in caspase-independent neuronal death. Random electron microscopic images of cortical neurons treated with no additive (ctrl) or with camptothecin plus BAF (cam+BAF) for 20 hr were analyzed. Autophagic bodies defined as intracytoplasmic double-membrane bound structures engulfing cellular material were counted in a blinded manner. In parallel, mitochondria were counted in both conditions. Numbers are reported as the mean ± SEM (n = 20; *p &lt; 0.01; Student's t test). B, Addition of 3-MA inhibits the activation of autophagy. The addition of 3-MA (10 mm; added with an 8 hr delay) to cortical neurons treated with camptothecin and BAF reduces the amount of autophagic bodies, counted as in A in a blinded manner in random electron microscopic images. Numbers are reported as the mean ± SEM (n = 10). Although, as in A, there was an increase in the number of autophagic bodies in cam+BAF-treated cultures (p = 0.027), cultures treated with the addition of 3-MA showed no such increase compared with controls (p = 0.21), implying that autophagy was not activated in the presence of 3-MA. C, Inhibitors of autophagy or of the vacuolar proton pump do not protect against caspase-independent cell death. Cortical E18 neurons were treated with camptothecin plus BAF in the presence or absence of the autophagy inhibitor 3-MA (10 mm) or of the inhibitor of the vacuolar ATPase proton pump bafilomycin (2.5 nm). After 20 hr, the number of surviving neurons was assessed by counting the remaining intact nuclei. Survival is reported relative to untreated controls and is the mean ± SEM (n = 3). Addition of 3-MA (added 8 hr after treatment with camptothecin and BAF) or bafilomycin had no effect on caspase-independent death. This is representative of three independent experi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OS are generated during caspase-independent death. A, B, E18 cortical neuron cultures were treated with no additives (ctrl) or with the combination of camptothecin and BAF (cam+BAF) for 20 hr. Generation of ROS was assessed by incubation with the fluorescent dye DHE (red). Neurons were counterstained with the green fluorescent viability indicator calcein AM (A). Alternatively, the green fluorescing probe DCF in combination with the death indicator ethidium homodimer (eth. h., red) was used (B). The percentage of DHE-positive neurons relative to live (calcein AM-positive) neurons was counted over time. In parallel, neuronal survival was assessed by nuclear counts. Numbers are expressed as mean ± SEM (n = 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mon antioxidants represented here by vitamin E do not offer any protection. A, Cortical neurons were treated with camptothecin and BAF (cam+BAF) for 20 hr. Concomitant treatment with the antioxidant vitamin E (100 μm), which was re-added after 12 hr, did not have an effect on survival, as assessed by nuclear counts, and also failed to protect against ROS generation (percentage of DHE-positive neurons relative to live neurons). In contrast, vitamin E was effective in preventing the ROS generation and death in neurons plated and cultured for 48 hr in antioxidant-free medium (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free-radical scavenger Tempol is effective in preventing ROS generation and neuronal death. Cortical neurons were treated with cam alone or camptothecin plus BAF. A, The addition of Tempol (5 mm) 10 hr after the onset of treatment had no effect on survival in neurons treated with camptothecin alone (nuclear counts after 14 hr) but significantly improved survival in neurons treated with camptothecin and BAF as assessed by nuclear counts after 20 hr. B, Counts of live (calcein AM-positive) neurons in a defined number of fields in each well confirmed the protective effect of Tempol. C, In parallel, ROS generation reported as the percentage of DHE-positive neurons relative to live neurons was assessed. All counts were conducted in a blinded manner. Numbers are reported as the mean ± SEM (A, B, n = 4; C, n = 3; *p &lt; 0.01; #p &lt; 0.05; Student's t te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re is no obvious translocation of AIF from the mitochondria to the nucleus in caspase-independent cell death. A, After treatment with no additives (control) or with camptothecin and BAF (cam+BAF) for 20 hr, the neurons were stained with Mitotracker Green to label mitochondria. After fixation, neurons were immunostained with an anti-AIF monoclonal antibody and counterstained with the nuclear dye TOTO. Confocal imaging shows colocalization of AIF with Mitotracker Green in controls as well as treated cells. There was no nuclear AIF translocation observed, even in frankly degenerating cells. The reduction of Mitotracker Green in treated cells is likely attributable to some loss of mitochondria (Fig. 2 A). B, Cultured E18 neurons were treated with camptothecin and BAF (cam+BAF) for 20 hr, and subcellular fractions were obtained by differential centrifugation. Proteins from the enriched mitochondrial fraction (mito; 40 μg) and the enriched nuclear fraction (nuc; 20 μl) were then separated by SDS-PAGE, blotted to nitrocellulose membranes, and probed with the indicated antibodies. There is clear loss of cytochrome c but not of AIF in the mitochondrial fraction. There is no accumulation of AIF in the nuclear fraction during the time tested. pRb and COX are used as markers of the nuclear and mitochondrial fractions, respectively, and as controls for protein load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hibitors of the mitochondrial PTP do not protect against loss of mitochondrial transmembrane potential or neuronal death. E18 cortical neurons were treated with no additives (control), camptothecin and BAF (cam+BAF) alone, or in combination with the mitochondrial PTP inhibitors bonkgrekic acid (BA; 5 μm) or cyclosporin A (CsA; 1 μm). Mitochondrial transmembrane potential was assessed after 20 hr by TMRM labeling (A, bottom row). Neurons were counterstained with the viability indicator calcein AM (A, top row). B, The percentage of live (calcein AM-positive) neurons that maintained TMRM labeling in each condition was assessed under a fluorescence microscope. C, Survival was assessed in parallel by nuclear counts. In both cases, numbers are reported as mean ± SEM (n = 3). This is representative of three independent experi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specific decrease of mitochondria-derived ATP occurs in caspase-independent death. A, E18 cortical neurons were treated with no additives (ctrl) or with camptothecin and BAF (cam+BAF) for 12 hr. Cells were then harvested for ATP measurements and parallel assessment of survival by nuclear counts. ATP levels were measured with a luminometric assay kit (Roche Products), normalized to cell numbers, and represented as the mean ± SEM (n = 3). To assess ATP that was not derived from the mitochondria, neurons were treated with oligomycin (2 μg/ml) for 15 min before ATP measurements. Although the nonmitochondrial ATP (white bars) did not change, there was a significant decrease of total ATP content in cultures treated with cam+BAF compared with controls (gray bars; **p &lt; 0.001; Student's t test). B, E18 cortical neurons were treated for 6 hr with no additives (ctrl) or with 10 μm cam, and total ATP content was assessed as above. There was no difference in ATP content between the two conditions. These are representative of three independent experiments, all performed in a blinded mann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echanisms of Caspase-Independent Neuronal Death: Energy Depletion and Free Radical Gener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Isabelle C. J. Lang-Rollin, Hardy J. Rideout, Manish Noticewala, and Leonidas Stefani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35):11015-1102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3,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odulation of nonmitochondrial source of ATP leads to a specific increase of survival in caspase-independent death.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1684440" y="1079640"/>
            <a:ext cx="6715080" cy="5394240"/>
          </a:xfrm>
          <a:prstGeom prst="rect">
            <a:avLst/>
          </a:prstGeom>
          <a:ln w="0">
            <a:noFill/>
          </a:ln>
        </p:spPr>
      </p:pic>
      <p:sp>
        <p:nvSpPr>
          <p:cNvPr id="89" name=""/>
          <p:cNvSpPr/>
          <p:nvPr/>
        </p:nvSpPr>
        <p:spPr>
          <a:xfrm>
            <a:off x="1684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tivation of autophagy in caspase-independent cell death.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739960" y="1079640"/>
            <a:ext cx="4603680" cy="5394240"/>
          </a:xfrm>
          <a:prstGeom prst="rect">
            <a:avLst/>
          </a:prstGeom>
          <a:ln w="0">
            <a:noFill/>
          </a:ln>
        </p:spPr>
      </p:pic>
      <p:sp>
        <p:nvSpPr>
          <p:cNvPr id="49" name=""/>
          <p:cNvSpPr/>
          <p:nvPr/>
        </p:nvSpPr>
        <p:spPr>
          <a:xfrm>
            <a:off x="2739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Increase in autophagic bodies in caspase-independent neuronal death.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2268360"/>
            <a:ext cx="8604360" cy="301644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OS are generated during caspase-independent death.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914560" y="1079640"/>
            <a:ext cx="4257720" cy="5394240"/>
          </a:xfrm>
          <a:prstGeom prst="rect">
            <a:avLst/>
          </a:prstGeom>
          <a:ln w="0">
            <a:noFill/>
          </a:ln>
        </p:spPr>
      </p:pic>
      <p:sp>
        <p:nvSpPr>
          <p:cNvPr id="59" name=""/>
          <p:cNvSpPr/>
          <p:nvPr/>
        </p:nvSpPr>
        <p:spPr>
          <a:xfrm>
            <a:off x="2914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mon antioxidants represented here by vitamin E do not offer any protec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763640"/>
            <a:ext cx="8604360" cy="402444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free-radical scavenger Tempol is effective in preventing ROS generation and neuronal death.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2638440"/>
            <a:ext cx="8604360" cy="227484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re is no obvious translocation of AIF from the mitochondria to the nucleus in caspase-independent cell death.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870360" y="1079640"/>
            <a:ext cx="2343240" cy="5394240"/>
          </a:xfrm>
          <a:prstGeom prst="rect">
            <a:avLst/>
          </a:prstGeom>
          <a:ln w="0">
            <a:noFill/>
          </a:ln>
        </p:spPr>
      </p:pic>
      <p:sp>
        <p:nvSpPr>
          <p:cNvPr id="74" name=""/>
          <p:cNvSpPr/>
          <p:nvPr/>
        </p:nvSpPr>
        <p:spPr>
          <a:xfrm>
            <a:off x="38703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hibitors of the mitochondrial PTP do not protect against loss of mitochondrial transmembrane potential or neuronal death.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421000" y="1079640"/>
            <a:ext cx="5245200" cy="5394240"/>
          </a:xfrm>
          <a:prstGeom prst="rect">
            <a:avLst/>
          </a:prstGeom>
          <a:ln w="0">
            <a:noFill/>
          </a:ln>
        </p:spPr>
      </p:pic>
      <p:sp>
        <p:nvSpPr>
          <p:cNvPr id="79" name=""/>
          <p:cNvSpPr/>
          <p:nvPr/>
        </p:nvSpPr>
        <p:spPr>
          <a:xfrm>
            <a:off x="24210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specific decrease of mitochondria-derived ATP occurs in caspase-independent death.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2019240"/>
            <a:ext cx="8604360" cy="3513240"/>
          </a:xfrm>
          <a:prstGeom prst="rect">
            <a:avLst/>
          </a:prstGeom>
          <a:ln w="0">
            <a:noFill/>
          </a:ln>
        </p:spPr>
      </p:pic>
      <p:sp>
        <p:nvSpPr>
          <p:cNvPr id="8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sabelle C. J. Lang-Rollin et al. J. Neurosci. 2003;23:11015-11025</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