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s of IBTX on outward currents and action potentials of neocortical pyramidal neurons. A, Voltage-clamp recordings showing superimposed current traces before (control) and after 100 nm IBTX during superfusion with 4-AP. Currents were evoked by a depolarizing step to −10 from −70 mV.B, Current-clamp recordings from the same cell as inA, showing superimposed voltage traces taken in these treatments. Action potentials were elicited by suprathreshold current injections. IBTX blocked the transient BK current and broadened action potential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Variations in Cd2+-sensitive currents activated by membrane depolarization in different cells. Currents are activated by 160 msec voltage steps from −70 to +10 mV.A1–A3, Cd2+-sensitive currents from three different cells. Currents are obtained by subtracting remaining currents in the presence of Cd2+ (100 μm) from currents before Cd2+application (control). A small inward Ca2+ current precedes outward currents in A2 and A3. The relative amount of Ca2+ and transient outward currents varies among these cells in the initial 10 msec depolarization period. B, A transient BK current in another cell. ChTX-sensitive current is obtained by subtracting the remaining current in the presence of ChTX (50 nm) from control curre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s of Cd2+ and intracellular BAPTA on outward currents and action potentials of neocortical pyramidal neurons. A1, Voltage-clamp recordings showing superimposed current traces before (control) and after 100 nm IBTX during superfusion with 4-AP. Currents were evoked by a depolarizing step to −10 from −70 mV.A2, Current-clamp recordings from the same cell as inA1, showing superimposed voltage traces taken in these treatments. Action potentials were elicited by suprathreshold current injections. B1, Superimposed current traces from another cell taken with 10 mm intracellular BAPTA in the pipette immediately after rupture (control) and 2 min later (BAPTA).B2, Current-clamp recordings from the same cell as inB1. Both Cd2+ and BAPTA blocked transient outward currents and broadened action potential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Outward currents in neocortical pyramidal neurons.A, Morphology of freshly dissociated neocortical pyramidal neurons. Bright-field image showing typical shape of the soma and at least one apical dendrite. The arrow indicates a pyramidal cell. Scale bar, 30 μm. B, Superimposed outward current traces in response to a voltage step to −10 mV from a holding potential of −70 mV before and during application of recording solution containing 1 mm 4-AP, 0.5 μm TTX, and 5 μm glybenclamide. Transient sodium currents were blocked by TTX. In the presence of 4-AP, a transient outward current was revealed. C, Currents were elicited by depolarizing voltage steps (−70 to +50 mV) from a holding potential of −70 mV (for 160 msec, in 10 mV steps, every 5 sec) during superfusion. Representative examples of cells expressing an early transient outward current (C1) and cells showing only a sustained current (C2). D, Expanded current traces taken from C1, showing an early transient outward current at depolarizing voltages from −40 to 10 mV.</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a2+ dependence of the transient outward current. Membrane potential was held at −70 mV and stepped from −70 to +50 mV for 160 msec in 10 mV steps every 5 sec.A and B show currents activated by these voltage steps in superfusing medium containing 4-AP (1 mm) before (A1, B1) and during application of 100 μm Cd2+- (A2) or Ca2+-free (B2) solution.A3, B3, Ca2+-sensitive currents (subtraction A1 − A2 orB1 − B2). A4,B4, I–V plots obtained from outward currents in A1–3 and B1–3 measured at the time point of first peak of control transient currents. ▪, Control; ●, in the presence of Cd2+- (A4) or Ca2+-free solution (B4); ▴, Cd2+(A4) or Ca2+(B4)-sensitive currents. Insets, Superimposed current traces in response to a voltage step to −10 from −70 mV showing a reversible effect of 100 μmCd2+- and Ca2+-free medium on outward curr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hTX and IBTX block the transient outward currents. Membrane potential was held at −70 mV and stepped from −70 to +50 mV for 160 msec in 10 mV steps every 5 sec. A andB show currents activated by these voltage steps in superfusing medium containing 4-AP before (A1,B1) and during application of 50 nm ChTX (A2) and 100 nm IBTX (B2).A3, B3, ChTX-sensitive currents (subtraction A1 − A2) and IBTX-sensitive currents (B1 − B2).A4, B4, I–V plots obtained from outward currents in A1–A3 andB1–B3 measured at the time point of early peak of control transient currents. ▪, Control; ●, in the presence of ChTX (A4) or IBTX (B4); ▴, ChTX (A4) or IBTX (B4)-sensitive currents. Insets, Superimposed current traces evoked by depolarizing steps to −10 from −70 mV, showing an irreversible effect of ChTX and IBTX on outward currents during the time course of experi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harybdotoxin but not apamin blocks the transient outward current. Membrane potential was held at −70 mV and stepped from −70 to +50 mV for 160 msec in 10 mV steps every 5 sec.A–C, Currents activated by these voltage steps in superfusing medium containing 4-AP before (A, Control) and during additive application of 500 nm apamin (B) and 50 nm ChTX (C). ChTX but not apamin resulted in complete blockade of the transient outward current. D1 shows the apamin-sensitive currents obtained by subtracting B fromA. D2, I–V plots obtained from outward currents in A, B, andD1 measured at the time point of peak transient currents in the control. E1, ChTX-sensitive current obtained by subtracting C from B. E2,I–V plots measured from B,C, and E1.</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nalysis of contribution of L- and N-type Ca2+ channel in total Ca2+currents in mouse neocortical pyramidal neurons. A, A representative experiment illustrating the effect of the L-type Ca2+ channel blocker nifedipine (5 μm), N-type Ca2+ channel blocker ω-CgTx GVIA (1 μm), and Cd2+ (100 μm) on the inward Ca2+ current.B, Time course of the experiment shown inA illustrating the sequential blocking actions of ω-CgTx GVIA, nifedipine, and Cd2+.C, Group data of percentage block of nifedipine (n = 6), and ω-CgTx GVIA (n = 4). D, I–V plots of Ca2+ currents in the absence (control, n = 6) and presence of nifedipine and ω-CgTx GVI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L-type Ca2+ channels contribute to activation of the transient BK currents. Currents were evoked by depolarizing steps (−70 to +50 mV) for 160 msec from a holding potential of −70 mV in control (A), in the presence of nifedipine (5 μm) (B), and after washout (C). Nifedipine inhibits the transient BK current and a sustained outward current. D, Nifedipine-sensitive current was obtained by subtracting B from A. E,I–V plots, which were measured at the early peak time point, showing a slightly N-shaped nifedipine-sensitive transient current. Inset, Superimposed current traces evoked by depolarizing steps to −10 from −70 mV.</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Both L- and N-type Ca2+channels contribute to activation of the transient BK currents. Membrane potential was held at −70 mV and stepped from −70 to +50 mV for 160 msec in 10 mV steps every 5 sec. Currents were recorded in the presence of apamin (500 nm) to eliminate SK current contribution. A–C, Currents recorded in superfusing medium containing apamin (A, control) and during additive application of 1 μm CgTX (B) and 5 μm nifedipine (C). Subtracting B fromA and C from B reveals a small transient CgTX-sensitive current (D1) and a nifedipine-sensitive current with both transient and sustained components (E1), respectively. D2,E2, I–V plots obtained fromA–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s of various blocking agents on components of transient and sustained outward currents. A, Summary of effects of various agents on the early peak outward current. Values are measured at the first peak of outward current evoked by a depolarizing step from −70 to +30 mV before each agent (control). Numbers included only cells expressing transient outward current.B, Group data of effects of various agents on sustained outward current. Values are measured at 100 msec of outward current evoked by a depolarizing step from −70 to +30 mV. Numbers included cells with and without transient outward currents. Data are expressed as mean ± SE. The asterisk indicates a significant difference (p &lt; 0.05) between control and treatments (Student's paired t tes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Calcium Influx via L- and N-Type Calcium Channels Activates a Transient Large-Conductance Ca</a:t>
            </a:r>
            <a:r>
              <a:rPr b="1" lang="en-GB" sz="2400" spc="-1" strike="noStrike" baseline="33000">
                <a:solidFill>
                  <a:srgbClr val="000000"/>
                </a:solidFill>
                <a:latin typeface="Arial"/>
              </a:rPr>
              <a:t>2+</a:t>
            </a:r>
            <a:r>
              <a:rPr b="1" lang="en-GB" sz="2400" spc="-1" strike="noStrike">
                <a:solidFill>
                  <a:srgbClr val="000000"/>
                </a:solidFill>
                <a:latin typeface="Arial"/>
              </a:rPr>
              <a:t>-Activated K</a:t>
            </a:r>
            <a:r>
              <a:rPr b="1" lang="en-GB" sz="2400" spc="-1" strike="noStrike" baseline="33000">
                <a:solidFill>
                  <a:srgbClr val="000000"/>
                </a:solidFill>
                <a:latin typeface="Arial"/>
              </a:rPr>
              <a:t>+</a:t>
            </a:r>
            <a:r>
              <a:rPr b="1" lang="en-GB" sz="2400" spc="-1" strike="noStrike">
                <a:solidFill>
                  <a:srgbClr val="000000"/>
                </a:solidFill>
                <a:latin typeface="Arial"/>
              </a:rPr>
              <a:t>Current in Mouse Neocortical Pyramidal Neuron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Xiaolu Sun, Xiang Q. Gu, and Gabriel G. Haddad</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3(9):3639-3648</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ay 1, 2003</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s of IBTX on outward currents and action potentials of neocortical pyramidal neurons. </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108000" y="6912000"/>
            <a:ext cx="1879560" cy="341280"/>
          </a:xfrm>
          <a:prstGeom prst="rect">
            <a:avLst/>
          </a:prstGeom>
          <a:ln w="0">
            <a:noFill/>
          </a:ln>
        </p:spPr>
      </p:pic>
      <p:pic>
        <p:nvPicPr>
          <p:cNvPr id="88" name="" descr=""/>
          <p:cNvPicPr/>
          <p:nvPr/>
        </p:nvPicPr>
        <p:blipFill>
          <a:blip r:embed="rId2"/>
          <a:stretch/>
        </p:blipFill>
        <p:spPr>
          <a:xfrm>
            <a:off x="3316320" y="1079640"/>
            <a:ext cx="3452760" cy="5394240"/>
          </a:xfrm>
          <a:prstGeom prst="rect">
            <a:avLst/>
          </a:prstGeom>
          <a:ln w="0">
            <a:noFill/>
          </a:ln>
        </p:spPr>
      </p:pic>
      <p:sp>
        <p:nvSpPr>
          <p:cNvPr id="89" name=""/>
          <p:cNvSpPr/>
          <p:nvPr/>
        </p:nvSpPr>
        <p:spPr>
          <a:xfrm>
            <a:off x="33163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aolu Sun et al. J. Neurosci. 2003;23:3639-3648</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Variations in Cd2+-sensitive currents activated by membrane depolarization in different cells. </a:t>
            </a:r>
            <a:endParaRPr b="0" lang="en-US" sz="1600" spc="-1" strike="noStrike">
              <a:solidFill>
                <a:srgbClr val="000000"/>
              </a:solidFill>
              <a:latin typeface="Times New Roman"/>
            </a:endParaRPr>
          </a:p>
        </p:txBody>
      </p:sp>
      <p:pic>
        <p:nvPicPr>
          <p:cNvPr id="92" name="" descr=""/>
          <p:cNvPicPr/>
          <p:nvPr/>
        </p:nvPicPr>
        <p:blipFill>
          <a:blip r:embed="rId1"/>
          <a:stretch/>
        </p:blipFill>
        <p:spPr>
          <a:xfrm>
            <a:off x="108000" y="6912000"/>
            <a:ext cx="1879560" cy="341280"/>
          </a:xfrm>
          <a:prstGeom prst="rect">
            <a:avLst/>
          </a:prstGeom>
          <a:ln w="0">
            <a:noFill/>
          </a:ln>
        </p:spPr>
      </p:pic>
      <p:pic>
        <p:nvPicPr>
          <p:cNvPr id="93" name="" descr=""/>
          <p:cNvPicPr/>
          <p:nvPr/>
        </p:nvPicPr>
        <p:blipFill>
          <a:blip r:embed="rId2"/>
          <a:stretch/>
        </p:blipFill>
        <p:spPr>
          <a:xfrm>
            <a:off x="2297160" y="1079640"/>
            <a:ext cx="5489640" cy="5394240"/>
          </a:xfrm>
          <a:prstGeom prst="rect">
            <a:avLst/>
          </a:prstGeom>
          <a:ln w="0">
            <a:noFill/>
          </a:ln>
        </p:spPr>
      </p:pic>
      <p:sp>
        <p:nvSpPr>
          <p:cNvPr id="94" name=""/>
          <p:cNvSpPr/>
          <p:nvPr/>
        </p:nvSpPr>
        <p:spPr>
          <a:xfrm>
            <a:off x="22971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aolu Sun et al. J. Neurosci. 2003;23:3639-3648</a:t>
            </a:r>
            <a:endParaRPr b="0" lang="en-US" sz="1200" spc="-1" strike="noStrike">
              <a:solidFill>
                <a:srgbClr val="000000"/>
              </a:solidFill>
              <a:latin typeface="Times New Roman"/>
            </a:endParaRPr>
          </a:p>
        </p:txBody>
      </p:sp>
      <p:sp>
        <p:nvSpPr>
          <p:cNvPr id="9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s of Cd2+ and intracellular BAPTA on outward currents and action potentials of neocortical pyramidal neurons. </a:t>
            </a:r>
            <a:endParaRPr b="0" lang="en-US" sz="1600" spc="-1" strike="noStrike">
              <a:solidFill>
                <a:srgbClr val="000000"/>
              </a:solidFill>
              <a:latin typeface="Times New Roman"/>
            </a:endParaRPr>
          </a:p>
        </p:txBody>
      </p:sp>
      <p:pic>
        <p:nvPicPr>
          <p:cNvPr id="97" name="" descr=""/>
          <p:cNvPicPr/>
          <p:nvPr/>
        </p:nvPicPr>
        <p:blipFill>
          <a:blip r:embed="rId1"/>
          <a:stretch/>
        </p:blipFill>
        <p:spPr>
          <a:xfrm>
            <a:off x="108000" y="6912000"/>
            <a:ext cx="1879560" cy="341280"/>
          </a:xfrm>
          <a:prstGeom prst="rect">
            <a:avLst/>
          </a:prstGeom>
          <a:ln w="0">
            <a:noFill/>
          </a:ln>
        </p:spPr>
      </p:pic>
      <p:pic>
        <p:nvPicPr>
          <p:cNvPr id="98" name="" descr=""/>
          <p:cNvPicPr/>
          <p:nvPr/>
        </p:nvPicPr>
        <p:blipFill>
          <a:blip r:embed="rId2"/>
          <a:stretch/>
        </p:blipFill>
        <p:spPr>
          <a:xfrm>
            <a:off x="2565360" y="1079640"/>
            <a:ext cx="4954680" cy="5394240"/>
          </a:xfrm>
          <a:prstGeom prst="rect">
            <a:avLst/>
          </a:prstGeom>
          <a:ln w="0">
            <a:noFill/>
          </a:ln>
        </p:spPr>
      </p:pic>
      <p:sp>
        <p:nvSpPr>
          <p:cNvPr id="99" name=""/>
          <p:cNvSpPr/>
          <p:nvPr/>
        </p:nvSpPr>
        <p:spPr>
          <a:xfrm>
            <a:off x="25653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aolu Sun et al. J. Neurosci. 2003;23:3639-3648</a:t>
            </a:r>
            <a:endParaRPr b="0" lang="en-US" sz="1200" spc="-1" strike="noStrike">
              <a:solidFill>
                <a:srgbClr val="000000"/>
              </a:solidFill>
              <a:latin typeface="Times New Roman"/>
            </a:endParaRPr>
          </a:p>
        </p:txBody>
      </p:sp>
      <p:sp>
        <p:nvSpPr>
          <p:cNvPr id="10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Outward currents in neocortical pyramidal neurons.A, Morphology of freshly dissociated neocortical pyramidal neuron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3571920" y="1079640"/>
            <a:ext cx="2940120" cy="5394240"/>
          </a:xfrm>
          <a:prstGeom prst="rect">
            <a:avLst/>
          </a:prstGeom>
          <a:ln w="0">
            <a:noFill/>
          </a:ln>
        </p:spPr>
      </p:pic>
      <p:sp>
        <p:nvSpPr>
          <p:cNvPr id="49" name=""/>
          <p:cNvSpPr/>
          <p:nvPr/>
        </p:nvSpPr>
        <p:spPr>
          <a:xfrm>
            <a:off x="35719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aolu Sun et al. J. Neurosci. 2003;23:3639-3648</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a2+ dependence of the transient outward current.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3316320" y="1079640"/>
            <a:ext cx="3452760" cy="5394240"/>
          </a:xfrm>
          <a:prstGeom prst="rect">
            <a:avLst/>
          </a:prstGeom>
          <a:ln w="0">
            <a:noFill/>
          </a:ln>
        </p:spPr>
      </p:pic>
      <p:sp>
        <p:nvSpPr>
          <p:cNvPr id="54" name=""/>
          <p:cNvSpPr/>
          <p:nvPr/>
        </p:nvSpPr>
        <p:spPr>
          <a:xfrm>
            <a:off x="33163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aolu Sun et al. J. Neurosci. 2003;23:3639-3648</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hTX and IBTX block the transient outward current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3214800" y="1079640"/>
            <a:ext cx="3655800" cy="5394240"/>
          </a:xfrm>
          <a:prstGeom prst="rect">
            <a:avLst/>
          </a:prstGeom>
          <a:ln w="0">
            <a:noFill/>
          </a:ln>
        </p:spPr>
      </p:pic>
      <p:sp>
        <p:nvSpPr>
          <p:cNvPr id="59" name=""/>
          <p:cNvSpPr/>
          <p:nvPr/>
        </p:nvSpPr>
        <p:spPr>
          <a:xfrm>
            <a:off x="3214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aolu Sun et al. J. Neurosci. 2003;23:3639-3648</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harybdotoxin but not apamin blocks the transient outward current.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2732040" y="1079640"/>
            <a:ext cx="4621320" cy="5394240"/>
          </a:xfrm>
          <a:prstGeom prst="rect">
            <a:avLst/>
          </a:prstGeom>
          <a:ln w="0">
            <a:noFill/>
          </a:ln>
        </p:spPr>
      </p:pic>
      <p:sp>
        <p:nvSpPr>
          <p:cNvPr id="64" name=""/>
          <p:cNvSpPr/>
          <p:nvPr/>
        </p:nvSpPr>
        <p:spPr>
          <a:xfrm>
            <a:off x="27320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aolu Sun et al. J. Neurosci. 2003;23:3639-3648</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nalysis of contribution of L- and N-type Ca2+ channel in total Ca2+currents in mouse neocortical pyramidal neuron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2367000" y="1079640"/>
            <a:ext cx="5349960" cy="5394240"/>
          </a:xfrm>
          <a:prstGeom prst="rect">
            <a:avLst/>
          </a:prstGeom>
          <a:ln w="0">
            <a:noFill/>
          </a:ln>
        </p:spPr>
      </p:pic>
      <p:sp>
        <p:nvSpPr>
          <p:cNvPr id="69" name=""/>
          <p:cNvSpPr/>
          <p:nvPr/>
        </p:nvSpPr>
        <p:spPr>
          <a:xfrm>
            <a:off x="2367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aolu Sun et al. J. Neurosci. 2003;23:3639-3648</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L-type Ca2+ channels contribute to activation of the transient BK current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1517760" y="1079640"/>
            <a:ext cx="7048440" cy="5394240"/>
          </a:xfrm>
          <a:prstGeom prst="rect">
            <a:avLst/>
          </a:prstGeom>
          <a:ln w="0">
            <a:noFill/>
          </a:ln>
        </p:spPr>
      </p:pic>
      <p:sp>
        <p:nvSpPr>
          <p:cNvPr id="74" name=""/>
          <p:cNvSpPr/>
          <p:nvPr/>
        </p:nvSpPr>
        <p:spPr>
          <a:xfrm>
            <a:off x="15177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aolu Sun et al. J. Neurosci. 2003;23:3639-3648</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Both L- and N-type Ca2+channels contribute to activation of the transient BK currents.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2870280" y="1079640"/>
            <a:ext cx="4343400" cy="5394240"/>
          </a:xfrm>
          <a:prstGeom prst="rect">
            <a:avLst/>
          </a:prstGeom>
          <a:ln w="0">
            <a:noFill/>
          </a:ln>
        </p:spPr>
      </p:pic>
      <p:sp>
        <p:nvSpPr>
          <p:cNvPr id="79" name=""/>
          <p:cNvSpPr/>
          <p:nvPr/>
        </p:nvSpPr>
        <p:spPr>
          <a:xfrm>
            <a:off x="28702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aolu Sun et al. J. Neurosci. 2003;23:3639-3648</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s of various blocking agents on components of transient and sustained outward currents.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3554280" y="1079640"/>
            <a:ext cx="2976840" cy="5394240"/>
          </a:xfrm>
          <a:prstGeom prst="rect">
            <a:avLst/>
          </a:prstGeom>
          <a:ln w="0">
            <a:noFill/>
          </a:ln>
        </p:spPr>
      </p:pic>
      <p:sp>
        <p:nvSpPr>
          <p:cNvPr id="84" name=""/>
          <p:cNvSpPr/>
          <p:nvPr/>
        </p:nvSpPr>
        <p:spPr>
          <a:xfrm>
            <a:off x="35542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aolu Sun et al. J. Neurosci. 2003;23:3639-3648</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