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ransgenic mice with region-specific expression of β2 subunit-containing nAChRs. Mice from three transgenic lines carrying the NSE promoter driving expression of the tetracycline transactivator (NSE-tTA) (Chen et al., 1998; Kelz et al., 1999) were crossed with mice carrying the TetOp promoter driving the β2 subunit (TetOp-β2) on a β2 ko background. [125I]A85380binding is shown in β2 het, β2 ko, and three lines of β2 tr mice (CT, VN, and VTA). Bregma coordinates are shown for the four levels (Paxinos and Franklin, 1997).</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β2 subunit-containing nAChRs are expressed in the cortex and thalamus of β2 tr(CT) mice. A, Quantitiative epibatidine binding in microdissected brain regions of β2 wt, het, ko, and β2 tr(CT) transgenic mice (n = 3 for each genotype). ANOVA showed a significant effect of genotype on binding (p&lt; 0.0001). Post hoc Newman–Keuls tests showed the β2 wt and β2 het mice to be different from each other and all other genotypes for all brain areas (p &lt; 0.05). The β2 tr(CT) mice had greater binding than β2 ko mice in the cortex and thalamus (p &lt; 0.05). Binding in the hippocampus (Hipp.) and striatum did not differ between β2 tr(CT) and β2 ko mice (p &gt; 0.05).B, In situ hybridization with an antisense riboprobe against the large intracellular loop region of the β2 subunit at the level of the thalamus (bregma +1.10 mm) and prefrontal cortex (bregma −1.70 mm). Arrows point to the thalamus and layer VI of the corte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β2 tr(CT) mice have functional expression of β2 subunit-containing nAChRs on thalamic terminals of cortical projection neurons. A, Effect of genotype on nicotine-evoked rubidium efflux (30 μm nicotine) from synaptosomal preparations of microdissected brain regions (n = 4 for each genotype). ANOVA showed a significant effect of genotype on [86Rb] efflux in all brain areas (p &lt; 0.0001). Post hoc Newman–Keuls tests showed the β2 wt mice to be different from all other genotypes in all brain areas (p &lt; 0.05). The β2 tr(CT) mice differed from β2 ko mice only in the thalamus (p &lt; 0.05). β2 tr(CT) did not differ from β2 het mice in [86Rb]efflux from thalamic synaptosomes (p &gt; 0.05). B, Effect of genotype on nicotine-evoked GABA release. [3H]GABA release was measured in response to a 12 sec exposure to 30 μm nicotine in four brain regions (n= 4 for each genotype). ANOVAs of each brain area showed a significant genotype effect on nicotine evoked [3H]GABA release in all brain areas (p &lt; 0.0001).Post hoc Newman–Keuls tests showed the β2 wt and β2 het mice to be different from all other genotypes in all brain areas (p &lt; 0.05). There was no increase in [3H]GABA release in the β2 tr(CT) compared with β2 ko mice in any brain area (p &gt; 0.05). No significant differences were seen for baseline release for any genotype in any brain area. Hipp., Hippocampu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ression of β2 subunit-containing receptors in corticothalamic terminals is sufficient for normal baseline PA performance. PA performance was evaluated in wild-type (β2 het and β2 wt), β2 ko, and β2 tr(CT) mice [wild type,n = 17; β2 ko, n = 21; β2 tr(CT), n = 29]. A repeated-measures ANOVA of the baseline PA performance with day (testing vs training) as the within-subject variable and genotype [wild type, β2 ko, and β2 tr(CT)] as the between-subject variable revealed an interaction of day and genotype (F (2,64) = 4.311;p &lt; 0.05). Post hoc Newman–Keuls tests showed the β2 ko mice to have a longer latency to enter the dark compartment on testing than the wild-type and β2 tr(CT) mice (p &lt; 0.0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PA phenotype is not attributable to transgene insertion or alteration of shock sensitivity. A, The insertion of the individual transgenes on the β2 het or β2 ko backgrounds does not affect PA performance. β2 het and β2 ko mice with either the TetOp-β2 or NSE-tTA transgene alone were tested for PA behavior (β2 het/TetOp-β2, n = 8; β2 het/NSE-tTA, n = 9; β2 ko/TetOp-β2,n = 15; β2 ko/NSE-tTA, n = 12). Repeated-measures ANOVA with day (testing vs training) as the within-subject variable and genotype (β2 het vs β2 ko) and transgene (TetOp-β2 vs NSE-tTA) as between-subject variables showed an interaction of day and genotype (F (1,40) = 9.015; p&lt; 0.01) but no main effect or interaction with single transgenes.B, The altered PA phenotype is not a result of differential shock reactivity. Mice of different genotypes [β2 wt and β2 het, β2 ko and β2 tr(CT)] were tested for response to increasing levels of shock. (β2 wt and β2 het were combined as “wild types” for subsequent analysis). Mean lowest shock that evoked the responses flinch, run, and vocalize for each of the three genotypes (n = 7 per genotype) is plotted. ANOVA showed no effect of genotype (p &gt; 0.05 in all ca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pression of the β2 subunit during development is necessary for normal PA learning. A, β2 het, β2 ko, and β2 tr(CT) mice were treated with dox (100 μg/ml) in their drinking water for 4 weeks. No change was seen in [125I]A85380 binding in β2 wt (data not shown) or β2 het mice after dox treatment, but no binding was detectable in β2 tr(CT) mice administered dox. B, Four weeks of dox treatment in adult mice does not alter PA performance in β2 tr(CT) mice [β2 het, no dox, n = 4; β2 het with dox, n = 6; β2 ko, no dox,n = 4, β2 ko with dox, n = 9; β2 tr(CT), no dox, n = 10; β2 tr(CT) with dox,n = 11]. A repeated-measures ANOVA with day (training vs testing) as the within-subject variable and dox treatment (on or off) and genotype [β2 het, β2 ko, and β2 tr(CT)] as the between-subject variables showed an interaction of day and genotype (F (2,39) = 13.382;p &lt; 0.01) but no main effect or interaction with do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onditional Expression in Corticothalamic Efferents Reveals a Developmental Role for Nicotinic Acetylcholine Receptors in Modulation of Passive Avoidance Behavior</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arah L. King, Michael J. Marks, Sharon R. Grady, Barbara J. Caldarone, Andrei O. Koren, Alexey G. Mukhin, Allan C. Collins, and Marina R. Picciotto</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9):3837-384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May 1,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ransgenic mice with region-specific expression of β2 subunit-containing nAChR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1708200"/>
            <a:ext cx="8604360" cy="413388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L. King et al. J. Neurosci. 2003;23:3837-384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β2 subunit-containing nAChRs are expressed in the cortex and thalamus of β2 tr(CT) mic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160800" y="1079640"/>
            <a:ext cx="3763800" cy="5394240"/>
          </a:xfrm>
          <a:prstGeom prst="rect">
            <a:avLst/>
          </a:prstGeom>
          <a:ln w="0">
            <a:noFill/>
          </a:ln>
        </p:spPr>
      </p:pic>
      <p:sp>
        <p:nvSpPr>
          <p:cNvPr id="54" name=""/>
          <p:cNvSpPr/>
          <p:nvPr/>
        </p:nvSpPr>
        <p:spPr>
          <a:xfrm>
            <a:off x="3160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L. King et al. J. Neurosci. 2003;23:3837-384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β2 tr(CT) mice have functional expression of β2 subunit-containing nAChRs on thalamic terminals of cortical projection neuron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908440" y="1079640"/>
            <a:ext cx="4270320" cy="5394240"/>
          </a:xfrm>
          <a:prstGeom prst="rect">
            <a:avLst/>
          </a:prstGeom>
          <a:ln w="0">
            <a:noFill/>
          </a:ln>
        </p:spPr>
      </p:pic>
      <p:sp>
        <p:nvSpPr>
          <p:cNvPr id="59" name=""/>
          <p:cNvSpPr/>
          <p:nvPr/>
        </p:nvSpPr>
        <p:spPr>
          <a:xfrm>
            <a:off x="29084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L. King et al. J. Neurosci. 2003;23:3837-384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ression of β2 subunit-containing receptors in corticothalamic terminals is sufficient for normal baseline PA performanc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739800" y="1343160"/>
            <a:ext cx="8604360" cy="4867200"/>
          </a:xfrm>
          <a:prstGeom prst="rect">
            <a:avLst/>
          </a:prstGeom>
          <a:ln w="0">
            <a:noFill/>
          </a:ln>
        </p:spPr>
      </p:pic>
      <p:sp>
        <p:nvSpPr>
          <p:cNvPr id="6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L. King et al. J. Neurosci. 2003;23:3837-384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PA phenotype is not attributable to transgene insertion or alteration of shock sensitivity.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773440" y="1079640"/>
            <a:ext cx="4537080" cy="5394240"/>
          </a:xfrm>
          <a:prstGeom prst="rect">
            <a:avLst/>
          </a:prstGeom>
          <a:ln w="0">
            <a:noFill/>
          </a:ln>
        </p:spPr>
      </p:pic>
      <p:sp>
        <p:nvSpPr>
          <p:cNvPr id="69" name=""/>
          <p:cNvSpPr/>
          <p:nvPr/>
        </p:nvSpPr>
        <p:spPr>
          <a:xfrm>
            <a:off x="2773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L. King et al. J. Neurosci. 2003;23:3837-384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pression of the β2 subunit during development is necessary for normal PA learning.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182760" y="1079640"/>
            <a:ext cx="3719520" cy="5394240"/>
          </a:xfrm>
          <a:prstGeom prst="rect">
            <a:avLst/>
          </a:prstGeom>
          <a:ln w="0">
            <a:noFill/>
          </a:ln>
        </p:spPr>
      </p:pic>
      <p:sp>
        <p:nvSpPr>
          <p:cNvPr id="74" name=""/>
          <p:cNvSpPr/>
          <p:nvPr/>
        </p:nvSpPr>
        <p:spPr>
          <a:xfrm>
            <a:off x="3182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arah L. King et al. J. Neurosci. 2003;23:3837-3843</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