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9718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MDA stimulation alters mitochondrial structure and function and promotes delayed cell death. First row, Confocal fluorescence single-slice images of a typical cultured hippocampal neuron expressing mito-eYFP. The field illustrates distribution of mitochondria in the soma and in proximal processes. Under prestimulus conditions, individual eYFP-tagged mitochondria are readily seen in both the soma and processes as long bright rods. After NMDA stimulation, most eYFP-tagged mitochondria change shape to discreet, punctate dots, but many (arrows) remain rod-like. Second row, In the majority of mitochondria, normal shape returns 2 hr after stimulus removal. Shape recovery is most evident for mitochondria overlying the nucleus and in those near the origin of the process directed upward. Third and fourth rows, Confocal fluorescence images of TMRE-labeled neurons and corresponding differential interference contrast images under control conditions, immediately after NMDA stimulation, and 2 hr after stimulus removal reveal the reversible loss of mitochondrial membrane potential. Under control conditions, neurons emit a strong TMRE fluorescence signal from the cytoplasm but not from the nucleus. In neurons stimulated with NMDA, TMRE fluorescence is very low but is strong again 2 hr after stimulus removal, reflecting transient depolarization of the majority of mitochondria. Bottom row, Fluorescence images of hippocampal neurons stained with Hoechst and PI. Control cells have uniformly large nuclei with a normal chromatin pattern. At 6 hr after stimulation, degenerating cells (37 ± 5% of all neurons) can be distinguished by their small bright nuclei. At 20 hr after stimulation, degenerating cells are positive for PI (red), reflecting dead cells with disrupted plasma membranes. Scale bars, 10 μ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MDA stimulation induces variable, reversible changes in mitochondrial ultrastructure. Top row, Digital transmission electron micrographs of freeze-dried cryosections prepared from unfixed, quick-frozen cell cultures. The field illustrates typical views of neuronal cell bodies containing numerous mitochondria. In control neurons as well as in neurons 2 hr after stimulus, mitochondrial structure is normal. In contrast, an NMDA-stimulated neuron has several strongly swollen mitochondria (arrows), whereas the shape of others (arrowheads) does not noticeably change. Digital images of cryosections were recorded at low dose and low temperature in the zero-loss mode of an energy-filtering microscope. Scale bar, 2 μm. Bottom row, Transmission electron micrographs of conventionally fixed, stained, and plastic-embedded preparations of recovered and degenerating neurons 6 hr after NMDA stimulation. A recovered neuron has structurally normal mitochondria and nucleus. A representative degenerating neuron has a reduced complement of mitochondria and a typically small, shrunken nucleus with fragmented, condensed, and marginated chromatin, whereas the plasma membrane is still intact. Scale bar, 1 μ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8000"/>
            <a:ext cx="5407200" cy="64497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MDA-induced changes in the ionic composition and calcium dependence of neuronal survival. A, Left, Cytosolic free Ca2+, as measured with the low-affinity probe Fluo-4FF and given as fluorescence intensity(F) normalized to baseline fluorescence (F0), undergoes two phases of elevation during NMDA exposure (solid line). The first, at the onset of stimulation, is a true transient, followed by a second phase during which cytosolic free Ca2+ plateausata relatively high level for the duration of the stimulus. The presence of FCCP (750 nm) changes the shape of NMDA-evoked transients, increasing the amplitude and enhancing recovery in a manner consistent with the elimination of mitochondrial Ca2+ uptake and release (dashed line). Right, NMDA-induced excitotoxic cell death, as measured by trypan blue exclusion 20-24 hr after stimulation, significantly decreases in the presence of FCCP. Difference by t test, p &lt; 0.0001. B, C, In control neurons, total Na, K, and Ca concentrations are consistent with known values for resting pyramidal neurons (Pozzo-Miller et al., 1997). Immediately after NMDA exposure, cytosolic average concentrations of total Na and Ca increase, where as the concentration of Kfalls. Cells recover from Ca loading and reestablish normal cytosolic Na/K ratios and Ca concentrations by 2 hr after stimulus removal. In general, average concentrations of Na and K in mitochondria follow NMDA-stimulated changes in the cytoplasm, but mitochondrial Ca elevations are quantitatively much higher and remain slightly, but significantly, elevated after a 2 hr recovery period. Immediately after NMDA exposure in the presence of FCCP, Na and K changes in both the cytoplasm and mitochondria are qualitatively similar to those induced by NMDA only, although Na increases are much larger. Importantly, however, Ca accumulation in mitochondria is substantially reduced whereas cytosolic concentrations of total Ca increase. When Ba2+ is substituted for Ca2+ in the incubation medium, NMDA stimulation induces qualitatively similar changes in Na and K concentrations. Note that under these conditions, cytosolic Ca elevations were mainly suppressed but not eliminated, probably because a low level of Ca2+ entry persisted because of residual Ca2+ in the medium; nonetheless, mitochondrial Ca was not significantly increased, nor was Ba detected in mitochondria. Note different ordinate scales in C. Concentrations of total Na, K, and Ca were measured by EPMA on freeze-dried cryosections prepared from quick-frozen hippocampal cultures; data are given as mean±SEM (millimoles per kilogram of dry weight). Asterisks indicate statistical differences (p&lt; 0.05) between control and stimulated cells; daggers indicate differences (p &lt; 0.05) relative to NMDA-stimulated cells. See Table 1 and Materials and Methods for details of statistical analys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MDA stimulation induces localized and highly variable Ca accumulation in individual mitochondria. A, Frequency distributions of individual measurements of total Ca concentrations ([Ca]mito) recorded from randomly selected mitochondria in multiple cells. Prestimulus frequency distribution is normal and narrow, consistent with the low basal [Ca]mito in all mitochondria sampled (n = 46). After NMDA stimulation, the distribution is broad and irregular, reflecting strong variability of mitochondrial Ca accumulation (n = 91). B, Electron micrograph of a high-pressure frozen, freeze-substituted cell illustrates typical dense calcium phosphate inclusions in somatic mitochondria of an NMDA-stimulated neuron; these mitochondria are otherwise structurally normal. Scale bar, 200 nm. C, Frequency distribution of individual [Ca]mito measurements in 28 mitochondria from one representative NMDA-stimulated cell (mean [Ca]mito, 746 ± 117 mmol/kg) reveals a similar heterogeneity of Ca accumulation between mitochondria within a single cell. D, Scatter plot of [Ca]mito measurements from individual mitochondria (•) in eight NMDA-stimulated cells, illustrating wide cell-to-cell variability; the cross indicates cell averaged [Ca]mito. The numbers in parentheses indicate the number of individual mitochondria analyzed. In all panels, cultures were rapidly frozen immediately after NMDA treat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cessive mitochondrial Ca accumulation leads to structural damage. A, B, Electron microscopy of NMDA-stimulated neurons fixed immediately after termination of the NMDA exposure reveals the presence of both damaged, swollen mitochondria with electron-lucent matrices (arrows) and structurally normal mitochondria (arrowheads). In A, high-pressure frozen, freeze-substituted preparation Ca-rich inclusions are seen in both normal and swollen mitochondria, but in B, conventionally fixed, plastic-embedded preparation mitochondrial inclusions are not present because they had been extracted during tissue processing. Scale bars, 500 nm. C, Representative severely swollen mitochondrion exhibits loss of matrix density, distorted cristae, and outer membrane rupture (arrow). Shown is a conventionally fixed, plastic-embedded preparation. Scale bar, 200 nm. D, In swollen mitochondria, Ca concentrations in the inclusion-free matrix (321 ± 43 mmol/kg; n = 43), but not the concentrations of Na and K, are significantly higher (t test; p &lt; 0.0001) than in structurally normal mitochondria (58 ± 9 mmol/kg; n = 31). This result is consistent with the hypothesis that mitochondrial swelling follows from Ca overloa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MDA stimulation leads to cytochrome c release from a subpopulation of mitochondria. Shown is ultrastructural localization of cytochrome c as revealed by silver-enhanced immunogold labeling. A, In a prestimulus neuron, cytochrome c is exclusively localized within mitochondria, mainly at the periphery (arrows). B, Thirty minutes after a 20 min NMDA exposure, cytochrome c was diffusely distributed in the cytoplasm but also retained in both intact (arrows) and damaged mitochondria (arrowheads). C, In a degenerating neuron at 6 hr after stimulation, cytochrome c was still retained in the few remaining mitochondria, indicating that some mitochondria are intact up to very late stages of delayed death. D, The addition of 750 nm FCCP 3 min before NMDA exposure did not abolish mitochondrial swelling (arrowheads) at 30 min after stimulation but did prevent cytochrome c release (compare B). Scale bar (for all panels), 500 n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xcitotoxic Calcium Overload in a Subpopulation of Mitochondria Triggers Delayed Death in Hippocampal Neuron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Natalia B. Pivovarova, Huy V. Nguyen, Christine A. Winters, Christine A. Brantner, Carolyn L. Smith, and S. Brian Andrew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4(24):5611-562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16, 2004</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MDA stimulation alters mitochondrial structure and function and promotes delayed cell death.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152880" y="1079640"/>
            <a:ext cx="3781440" cy="5394240"/>
          </a:xfrm>
          <a:prstGeom prst="rect">
            <a:avLst/>
          </a:prstGeom>
          <a:ln w="0">
            <a:noFill/>
          </a:ln>
        </p:spPr>
      </p:pic>
      <p:sp>
        <p:nvSpPr>
          <p:cNvPr id="49" name=""/>
          <p:cNvSpPr/>
          <p:nvPr/>
        </p:nvSpPr>
        <p:spPr>
          <a:xfrm>
            <a:off x="3152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ia B. Pivovarova et al. J. Neurosci. 2004;24:5611-562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MDA stimulation induces variable, reversible changes in mitochondrial ultrastructur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197080" y="1079640"/>
            <a:ext cx="5691240" cy="5394240"/>
          </a:xfrm>
          <a:prstGeom prst="rect">
            <a:avLst/>
          </a:prstGeom>
          <a:ln w="0">
            <a:noFill/>
          </a:ln>
        </p:spPr>
      </p:pic>
      <p:sp>
        <p:nvSpPr>
          <p:cNvPr id="54" name=""/>
          <p:cNvSpPr/>
          <p:nvPr/>
        </p:nvSpPr>
        <p:spPr>
          <a:xfrm>
            <a:off x="2197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ia B. Pivovarova et al. J. Neurosci. 2004;24:5611-562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MDA-induced changes in the ionic composition and calcium dependence of neuronal survival.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440160" y="1079640"/>
            <a:ext cx="3206880" cy="5394240"/>
          </a:xfrm>
          <a:prstGeom prst="rect">
            <a:avLst/>
          </a:prstGeom>
          <a:ln w="0">
            <a:noFill/>
          </a:ln>
        </p:spPr>
      </p:pic>
      <p:sp>
        <p:nvSpPr>
          <p:cNvPr id="59" name=""/>
          <p:cNvSpPr/>
          <p:nvPr/>
        </p:nvSpPr>
        <p:spPr>
          <a:xfrm>
            <a:off x="3440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ia B. Pivovarova et al. J. Neurosci. 2004;24:5611-562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MDA stimulation induces localized and highly variable Ca accumulation in individual mitochondria.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731960" y="1079640"/>
            <a:ext cx="6621480" cy="5394240"/>
          </a:xfrm>
          <a:prstGeom prst="rect">
            <a:avLst/>
          </a:prstGeom>
          <a:ln w="0">
            <a:noFill/>
          </a:ln>
        </p:spPr>
      </p:pic>
      <p:sp>
        <p:nvSpPr>
          <p:cNvPr id="64" name=""/>
          <p:cNvSpPr/>
          <p:nvPr/>
        </p:nvSpPr>
        <p:spPr>
          <a:xfrm>
            <a:off x="1731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ia B. Pivovarova et al. J. Neurosci. 2004;24:5611-562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cessive mitochondrial Ca accumulation leads to structural damag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286080" y="1079640"/>
            <a:ext cx="3514680" cy="5394240"/>
          </a:xfrm>
          <a:prstGeom prst="rect">
            <a:avLst/>
          </a:prstGeom>
          <a:ln w="0">
            <a:noFill/>
          </a:ln>
        </p:spPr>
      </p:pic>
      <p:sp>
        <p:nvSpPr>
          <p:cNvPr id="69" name=""/>
          <p:cNvSpPr/>
          <p:nvPr/>
        </p:nvSpPr>
        <p:spPr>
          <a:xfrm>
            <a:off x="3286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ia B. Pivovarova et al. J. Neurosci. 2004;24:5611-562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MDA stimulation leads to cytochrome c release from a subpopulation of mitochondria.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547640" y="1079640"/>
            <a:ext cx="6989760" cy="5394240"/>
          </a:xfrm>
          <a:prstGeom prst="rect">
            <a:avLst/>
          </a:prstGeom>
          <a:ln w="0">
            <a:noFill/>
          </a:ln>
        </p:spPr>
      </p:pic>
      <p:sp>
        <p:nvSpPr>
          <p:cNvPr id="74" name=""/>
          <p:cNvSpPr/>
          <p:nvPr/>
        </p:nvSpPr>
        <p:spPr>
          <a:xfrm>
            <a:off x="1547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ia B. Pivovarova et al. J. Neurosci. 2004;24:5611-5622</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4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