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VGLUT regulates synaptic vesicle size. a, b, Representative electron micrographs of active zones surrounded by a halo of synaptic vesicles from the type Ib NMJ onto muscle 6 from wild-type (BG380 Gal4/+) (a) and DVGLUT-overexpressing (BG380 Gal4/+; UAS-98872/+) larvae (b). Scale bar, 50 nm. c, Frequency histogram of measured synaptic vesicle outer diameter from wild-type (BG380 Gal4/+; gray bars) and DVGLUT overexpressing (BG380 Gal4/+; UAS-98872/+; hatched bars) larvae. d, Cumulative probability histogram of measured synaptic vesicle outer diameter from wild-type (gray squares) and DVGLUT-overexpressing (open triangles) larvae. The entire population of events in the overexpressor is shifted toward larger diameters compared with the wild-type popul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quence of DVGLUT. a, Sequence and alignment of DVGLUT (Drosophila CG9887) and human VGLUT1 with identical residues shaded. Overall amino acid identity is 41%. b, Hydropathy plots of human VGLUT1 and DVGLUT demonstrate that both proteins have very similar hydrophobicity profiles and are likely to have similar membrane topolog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ression pattern of DVGLUT. a, Embryonic in situ hybridization to DVGLUT transcript demonstrates expression in a subset of cells in the ventral nerve cord, including putative motoneuron cell bodies and interneurons. b, Confocal fluorescence microscopy of muscle 12 in athird-instar larva reveals that DVGLUT (green) colocalizes with the synaptic vesicle protein CSP (red) in type Ib and Is NMJs. Note in the merged image that DVGLUT is not expressed at the type III input (indicated with an asterisk) onto muscle 12. Scale bar, 5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VGLUT is a synaptic vesicle protein. a, DVGLUT cosediments with the synaptic vesicle protein n-synaptobrevin after glycerol gradient fractionation. Individual fractions from the gradient were analyzed by immunoblot with antisera against DVGLUT (top), n-synaptobrevin (syb; middle), and lbm (bottom). b, Quantitation of the immunoblot in a demonstrates that DVGLUT and n-synaptobrevin cosediment but lbm does not. Fractions representing the top and bottom of the gradient are indicated. A sample of the homogenate that was loaded onto the gradient was included for comparison (inpu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VGLUT regulates quantal size. a, b, Representative confocal projections of synapses on muscle 4 in wild-type (BG380 Gal4/+) (a) and DVGLUT-overexpressing (BG380 Gal4/+; UAS-98872/+) (b) larvae stained with anti-DVGLUT. Synaptic DVGLUT immunoreactivity is increased approximately threefold with overexpression. c, d, Representative spontaneous mEJPs recorded from muscle 6 of wild-type (c) and DVGLUT-overexpressing (d) larvae in nominally Ca2+-free saline containing 1 μm TTX. e, Histogram showing the mean ± SEM of spontaneous mEJP amplitude of wild-type and DVGLUT-overexpressing larvae. Results from two independent UAS-DVGLUT transgenes (UAS-98871 and UAS-98872) are shown (**p &lt; 0.002). f, Cumulative probability histogram of mEJP amplitudes from wild-type (closed squares) and DVGLUT-overexpressing (BG380 Gal4/+; UAS-98872/+; open triangles) larvae. Each data point represents the average cumulative probability ± SEM (n = 12 cells). The population of events in the overexpressor is shifted toward larger amplitude events compared with the wild-type population. Calibration: 2 mV, 200 mse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decrease in quantal content maintains normal evoked release in DVGLUT-overexpressing larvae. Representative evoked junctional potentials from wild-type (a) and DVGLUT-overexpressing (b) larvae. Analysis of a number of cells (n = 13 for each genotype) indicates that the amplitude of evoked events is not significantly different. c, Histogram showing the mean ± SEM of the quantal content for wild-type and DVGLUT-overexpressing larvae recorded in 0.47 mm calcium. Quantal content is calculated by the direct method (QC = EJP/mEJP, where the median mEJP is used; see Results). d, Histogram showing the mean ± SEM of the quantal content for wild-type and DVGLUT-overexpressing larvae recorded in 0.23 mm calcium and calculated by the method of failures [QC = ln (trials/failures)]. Two independent methods of estimating quantal content indicate that the number of synaptic vesicles released from the DVGLUT overexpressors is decreased relative to wild type (**p &lt; 0.01; *p &lt; 0.0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creased Expression of the Drosophila Vesicular Glutamate Transporter Leads to Excess Glutamate Release and a Compensatory Decrease in Quantal Conten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ichard W. Daniels, Catherine A. Collins, Maria V. Gelfand, Jaime Dant, Elizabeth S. Brooks, David E. Krantz, and Aaron DiAntoni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4(46):10466-1047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7, 2004</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VGLUT regulates synaptic vesicle size. a, b, Representative electron micrographs of active zones surrounded by a halo of synaptic vesicles from the type Ib NMJ onto muscle 6 from wild-type (BG380 Gal4/+) (a) and DVGLUT-overexpressing (BG380 Gal4/+; UAS-988...</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998720" y="1079640"/>
            <a:ext cx="6089760" cy="5394240"/>
          </a:xfrm>
          <a:prstGeom prst="rect">
            <a:avLst/>
          </a:prstGeom>
          <a:ln w="0">
            <a:noFill/>
          </a:ln>
        </p:spPr>
      </p:pic>
      <p:sp>
        <p:nvSpPr>
          <p:cNvPr id="49" name=""/>
          <p:cNvSpPr/>
          <p:nvPr/>
        </p:nvSpPr>
        <p:spPr>
          <a:xfrm>
            <a:off x="1998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chard W. Daniels et al. J. Neurosci. 2004;24:10466-1047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quence of DVGLUT. a, Sequence and alignment of DVGLUT (Drosophila CG9887) and human VGLUT1 with identical residues shaded.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460680" y="1079640"/>
            <a:ext cx="3165480" cy="5394240"/>
          </a:xfrm>
          <a:prstGeom prst="rect">
            <a:avLst/>
          </a:prstGeom>
          <a:ln w="0">
            <a:noFill/>
          </a:ln>
        </p:spPr>
      </p:pic>
      <p:sp>
        <p:nvSpPr>
          <p:cNvPr id="54" name=""/>
          <p:cNvSpPr/>
          <p:nvPr/>
        </p:nvSpPr>
        <p:spPr>
          <a:xfrm>
            <a:off x="3460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chard W. Daniels et al. J. Neurosci. 2004;24:10466-1047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ression pattern of DVGLUT. a, Embryonic in situ hybridization to DVGLUT transcript demonstrates expression in a subset of cells in the ventral nerve cord, including putative motoneuron cell bodies and interneurons. b, Confocal fluorescence microscopy of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584520" y="1079640"/>
            <a:ext cx="2916360" cy="5394240"/>
          </a:xfrm>
          <a:prstGeom prst="rect">
            <a:avLst/>
          </a:prstGeom>
          <a:ln w="0">
            <a:noFill/>
          </a:ln>
        </p:spPr>
      </p:pic>
      <p:sp>
        <p:nvSpPr>
          <p:cNvPr id="59" name=""/>
          <p:cNvSpPr/>
          <p:nvPr/>
        </p:nvSpPr>
        <p:spPr>
          <a:xfrm>
            <a:off x="3584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chard W. Daniels et al. J. Neurosci. 2004;24:10466-1047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VGLUT is a synaptic vesicle protein. a, DVGLUT cosediments with the synaptic vesicle protein n-synaptobrevin after glycerol gradient fractiona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233440" y="1079640"/>
            <a:ext cx="5618160" cy="5394240"/>
          </a:xfrm>
          <a:prstGeom prst="rect">
            <a:avLst/>
          </a:prstGeom>
          <a:ln w="0">
            <a:noFill/>
          </a:ln>
        </p:spPr>
      </p:pic>
      <p:sp>
        <p:nvSpPr>
          <p:cNvPr id="64" name=""/>
          <p:cNvSpPr/>
          <p:nvPr/>
        </p:nvSpPr>
        <p:spPr>
          <a:xfrm>
            <a:off x="2233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chard W. Daniels et al. J. Neurosci. 2004;24:10466-1047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VGLUT regulates quantal size. a, b, Representative confocal projections of synapses on muscle 4 in wild-type (BG380 Gal4/+) (a) and DVGLUT-overexpressing (BG380 Gal4/+; UAS-98872/+) (b) larvae stained with anti-DVGLUT.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386080" y="1079640"/>
            <a:ext cx="5315040" cy="5394240"/>
          </a:xfrm>
          <a:prstGeom prst="rect">
            <a:avLst/>
          </a:prstGeom>
          <a:ln w="0">
            <a:noFill/>
          </a:ln>
        </p:spPr>
      </p:pic>
      <p:sp>
        <p:nvSpPr>
          <p:cNvPr id="69" name=""/>
          <p:cNvSpPr/>
          <p:nvPr/>
        </p:nvSpPr>
        <p:spPr>
          <a:xfrm>
            <a:off x="2386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chard W. Daniels et al. J. Neurosci. 2004;24:10466-1047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decrease in quantal content maintains normal evoked release in DVGLUT-overexpressing larva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414520" y="1079640"/>
            <a:ext cx="5256360" cy="5394240"/>
          </a:xfrm>
          <a:prstGeom prst="rect">
            <a:avLst/>
          </a:prstGeom>
          <a:ln w="0">
            <a:noFill/>
          </a:ln>
        </p:spPr>
      </p:pic>
      <p:sp>
        <p:nvSpPr>
          <p:cNvPr id="74" name=""/>
          <p:cNvSpPr/>
          <p:nvPr/>
        </p:nvSpPr>
        <p:spPr>
          <a:xfrm>
            <a:off x="2414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chard W. Daniels et al. J. Neurosci. 2004;24:10466-1047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