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Histological localization of carbachol and control saline microinjection sites in the P-wave generator. A, Coronal section of rat brainstem showing an example of a carbachol microinjection site in the P-wave generator (arrow indicates dorsal part of the subcoeruleus nucleus). To mark the carbachol microinjection site, 100 nl of black ink was microinjected using the same injector in the site (arrow points to the carbachol and ink injection site). B, C, Schematic coronal sections through the brainstem showing anatomical locations of control saline (○; n = 10; group 2 rats) and carbachol (•; n = 10; group 3 rats) microinjection sites. 7n, Facial nerve or its root; Bar, Barrington's nucleus; Cb, cerebellum; CG, central gray; DTg, dorsal tegmental nucleus; LC, locus coeruleus; m5, motor root of trigeminal nucleus; mcp, mid cerebellar peduncle; me5, mesencephalic trigeminal tract; ml, medial lemniscus; mlf, medial longitudinal fasciculus; Mo5, motor trigeminal nucleus; PB, parabrachial nucleus; PnR, pontine raphe nucleus; Pr5, principal sensory trigeminal nucleus; py, pyramidal tract; RMg, raphe magnus nucleus; rs, rubrospinal tract; s5, sensory root trigeminal nucleus; scp, superior cerebellar peduncle; SO, superior olive nucleus; sp5, spinal trigeminal tract; SubC, subcoeruleus nucleus; VCA, ventral cochlear nucleus. Scale bar: A, 400 μm; B, C, 1.2 m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effects of two-way active avoidance-learning trials and selective REM sleep deprivation on wakefulness, slow-wave sleep, tS-R, and REM sleep over a 6 hr period. Baseline (n = 30; mean ± SE): 6 hr of undisturbed sleep-wake recordings after a microinjection of control saline (100 nl) in the P-wave generator; group 1 (n = 10; mean ± SE): training trials followed by microinjection of control saline (100 nl) into the P-wave generator and then 6 hr of undisturbed sleep-wake recordings; group 2 (n = 10; mean ± SE): training trials followed by microinjection of control saline (100 nl) into the P-wave generator and then 6 hr of sleep-wake recordings while animals were selectively deprived of REM sleep; group 3 (n = 10; mean ± SE): training trials followed by microinjection of carbachol (50 ng in 100 nl) into the P-wave generator and then 6 hr of sleep-wake recordings while animals were selectively deprived of REM sleep. Post hoc Scheffé F test: “S” represents the comparison between baseline and group 1 to evaluate the effects of learning trials, and asterisk represents the comparison with group 1 (control group) to evaluate the effects of REM sleep deprivation in group 2, and the combination of REM sleep deprivation and carbachol microinjection into the P-wave generator in group 3. SS: p &lt; 0.01; SSS or ***p &lt; 0.001.</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Local application of carbachol into the P-wave generator induced state-independent P-waves during SWS. Sample polygraphic signs of SWS after a session of learning training trials followed by microinjection of control saline (A) or microinjection of carbachol (B) into the P-wave generator. Note the qualitative similarity in both records showing characteristic electroencephalographic signs of SWS: high amplitude, low-frequency waves recorded from the frontal cortex (EEG), reduced muscle tone recorded from the neck (EMG), absence of eye movements (EOG), and non-theta-type EEG recorded from the hippocampus (HPC). Despite qualitative similarity, microinjection of carbachol into the P-wave generator (B) induced P-waves (PON) that are normally absent during SWS without cholinergic activation of the P-wave generato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1"/>
          <p:cNvSpPr>
            <a:spLocks noGrp="1"/>
          </p:cNvSpPr>
          <p:nvPr>
            <p:ph type="body"/>
          </p:nvPr>
        </p:nvSpPr>
        <p:spPr>
          <a:xfrm>
            <a:off x="1185840" y="4788000"/>
            <a:ext cx="5407200" cy="430200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arbachol microinjection into the P-wave generator prevents post-training REM sleep deprivation-induced learning impairments. The percentage of avoidance learning (mean ± SE) is plotted here in blocks of five trials. Note that in the training trials session (▵, control group) the rats performed poorly in the first two blocks of trials and started to avoid in the third block. By the sixth block, the animals successfully avoided in &gt;80% of the trials. After the training trials, after a control saline injection into the P-wave generator, the animals were allowed 6 hr of undisturbed sleep (▴). After sleep, animals were subjected to test trials of avoidance learning. Unlike in the training trials, during the first two blocks of test trials, animals avoided in &gt;50% of the trials. These data demonstrate the improvement in the avoidance learning (or retention) between training and test trials. All groups received the same initial training. Note that the group that subsequently received a control saline microinjection and selective REM sleep deprivation did not show any improvement in the test trials (○). These data indicate that the selective REM sleep deprivation caused a deficit of retention and improvement in the test trials. This selective REM sleep deprivation also caused a deficit in the acquisition process in the test trials. After training trials, animals microinjected with carbachol into the P-wave generator and deprived of REM sleep did not show any deficit in learning improvement (retention) or acquisition in the test trials (•). This observation indicates that the microinjection of carbachol into the P-wave generator was as effective as post-training undisturbed REM sleep for the retention and acquisition of avoidance learning in the test trials. Post hoc Scheffé F test: asterisk represents the comparison between training and test trials, and “S” represents comparison of test trials between the control group and experimental groups. S or *p &lt; 0.05; **p &lt; 0.01; SSS or ***p &lt; 0.001.</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elationship between the P-wave density change and the improvement in avoidance learning. A, The percentage of improvement for each animal (•) is shown as a function of the percentage of REM sleep P-wave density change between the last baseline recording session and the post-training recording session (n = 10 rats). The plot of linear regression best-fit (solid line; Pearson product-moment correlation) shows a statistically significant positive slope (r = 0.84; p &lt; 0.001). These data indicate that the level of improvement of learning in the test session depends positively on the percentage of P-wave density increase during post-training REM sleep. B, The percentage of improvement for each animal (filled rectangles) is shown as a function of the percentage of P-wave density change (for the entire 6 hr period) between the last baseline recording session and post-training P-wave generator carbachol-microinjected recording session (n = 10 rats). The plot of linear regression best-fit (solid line; Pearson product-moment correlation) shows a statistically significant positive slope (r = 0.93; p &lt; 0.001). These data indicate that the level of improvement of learning in the test session is proportional to the carbachol microinjection-induced state-independent P-wave densit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Activation of Phasic Pontine-Wave Generator Prevents Rapid Eye Movement Sleep Deprivation-Induced Learning Impairment in the Rat: A Mechanism for Sleep-Dependent Plasticity</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Subimal Datta, Vijayakumar Mavanji, Jagadish Ulloor, and Elissa H. Patterson</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4(6):1416-1427</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February 11, 2004</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4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Histological localization of carbachol and control saline microinjection sites in the P-wave generator.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3927600" y="1079640"/>
            <a:ext cx="2230200" cy="5394240"/>
          </a:xfrm>
          <a:prstGeom prst="rect">
            <a:avLst/>
          </a:prstGeom>
          <a:ln w="0">
            <a:noFill/>
          </a:ln>
        </p:spPr>
      </p:pic>
      <p:sp>
        <p:nvSpPr>
          <p:cNvPr id="49" name=""/>
          <p:cNvSpPr/>
          <p:nvPr/>
        </p:nvSpPr>
        <p:spPr>
          <a:xfrm>
            <a:off x="39276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ubimal Datta et al. J. Neurosci. 2004;24:1416-1427</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4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effects of two-way active avoidance-learning trials and selective REM sleep deprivation on wakefulness, slow-wave sleep, tS-R, and REM sleep over a 6 hr period.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3738600" y="1079640"/>
            <a:ext cx="2608200" cy="5394240"/>
          </a:xfrm>
          <a:prstGeom prst="rect">
            <a:avLst/>
          </a:prstGeom>
          <a:ln w="0">
            <a:noFill/>
          </a:ln>
        </p:spPr>
      </p:pic>
      <p:sp>
        <p:nvSpPr>
          <p:cNvPr id="54" name=""/>
          <p:cNvSpPr/>
          <p:nvPr/>
        </p:nvSpPr>
        <p:spPr>
          <a:xfrm>
            <a:off x="37386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ubimal Datta et al. J. Neurosci. 2004;24:1416-1427</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4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Local application of carbachol into the P-wave generator induced state-independent P-waves during SWS. Sample polygraphic signs of SWS after a session of learning training trials followed by microinjection of control saline (A) or microinjection of carbacho...</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3102120" y="1079640"/>
            <a:ext cx="3881160" cy="5394240"/>
          </a:xfrm>
          <a:prstGeom prst="rect">
            <a:avLst/>
          </a:prstGeom>
          <a:ln w="0">
            <a:noFill/>
          </a:ln>
        </p:spPr>
      </p:pic>
      <p:sp>
        <p:nvSpPr>
          <p:cNvPr id="59" name=""/>
          <p:cNvSpPr/>
          <p:nvPr/>
        </p:nvSpPr>
        <p:spPr>
          <a:xfrm>
            <a:off x="310212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ubimal Datta et al. J. Neurosci. 2004;24:1416-1427</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4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arbachol microinjection into the P-wave generator prevents post-training REM sleep deprivation-induced learning impairments.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3094200" y="1079640"/>
            <a:ext cx="3895560" cy="5394240"/>
          </a:xfrm>
          <a:prstGeom prst="rect">
            <a:avLst/>
          </a:prstGeom>
          <a:ln w="0">
            <a:noFill/>
          </a:ln>
        </p:spPr>
      </p:pic>
      <p:sp>
        <p:nvSpPr>
          <p:cNvPr id="64" name=""/>
          <p:cNvSpPr/>
          <p:nvPr/>
        </p:nvSpPr>
        <p:spPr>
          <a:xfrm>
            <a:off x="309420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ubimal Datta et al. J. Neurosci. 2004;24:1416-1427</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4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elationship between the P-wave density change and the improvement in avoidance learning.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3935520" y="1079640"/>
            <a:ext cx="2214360" cy="5394240"/>
          </a:xfrm>
          <a:prstGeom prst="rect">
            <a:avLst/>
          </a:prstGeom>
          <a:ln w="0">
            <a:noFill/>
          </a:ln>
        </p:spPr>
      </p:pic>
      <p:sp>
        <p:nvSpPr>
          <p:cNvPr id="69" name=""/>
          <p:cNvSpPr/>
          <p:nvPr/>
        </p:nvSpPr>
        <p:spPr>
          <a:xfrm>
            <a:off x="39355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ubimal Datta et al. J. Neurosci. 2004;24:1416-1427</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4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