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lutamate-induced currents in outside-out patches excised from an MNTB neuron. A, An open tip response caused by a 1 msec solution change between normal and diluted (10%) aCSF solutions. B, Currents induced by a rapid piezoelectric application of glutamate (10 mm) with a pulse of 1, 10, or 100 msec (truncated) in duration (superimposed). The current decay during glutamate application represents desensitization, whereas those after glutamate washout represent deactivation. C, Deactivation time course (line) fitted with a single-exponential function (dots superimposed; time constant, 1.73 msec). D, Desensitization time course (line) fitted with a double-exponential function (in dots superimposed; τm = 2.54 msec). The fast (τf = 1.63 msec) and slow (τs = 6.23 msec) components of desensitization are shown separately (li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velopmental speeding of AMPAR desensitization and deactivation. A, AMPAR desensitization induced by a sustained (100 msec) glutamate application to outside-out patches excised from MNTB neurons of P7, P14, and P21 rats. B, Developmental speeding in the time constant of AMPAR desensitization. Fast components (τf; □), slow components (τs; ▵), and their weighted mean (τm; •) (see Materials and Methods) are potted at P6-P7, P13-P14, and P20-P21. The τf was 1.31 ± 0.16 msec (n = 11) at P6-P7 and 0.86 ± 0.07 msec (n = 20) at P13-P14 (p = 0.01). The τs was 4.87 ± 0.41 msec (n = 11) at P6-P7 and 2.95 ± 0.32 msec (n = 20) at P13-P14 (p &lt; 0.01). From P13-P14 to P20-P21, no significant change was observed for desensitization time constants: τf = 0.78 ± 0.05 msec and τs = 2.83 ± 0.21 msec (n = 19) at P20-P21. The relative proportion of fast time constants (τf/τf + τs) was 58.8 ± 7.3% at P6-P7, 61.7 ± 3.4% at P13-P14, and 69.7 ± 3.6% at P20-P21 (no statistically significant difference between ages; ANOVA). The τm became significantly faster from P6-P7 (2.63 ± 0.11 msec) to P13-P14 (1.53 ± 0.14 msec; p &lt; 0.001) but not from P13-P14 to P20-P21 (1.32 ± 0.099 msec; p = 0.43). C, Developmental speeding in the deactivation time constant of AMPAR currents induced by a brief glutamate pulse (0.7-1 msec) at P7, P14, and P21. D, Developmental speeding in the deactivation time constant (τdeact) from P6-P7 (1.72 ± 0.16 msec; n = 11) to P13-P14 (0.81 ± 0.07 msec; n = 19; p &lt; 0.001). From P14 to P21, no significant change was observed for the deactivation time constant: τ = 0.72 ± 0.06 msec at P20-P21 (n = 18). Data points and bars indicate mean and S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446724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of desensitization and deactivation times of AMPA patch currents with the decay time of qEPSCs. A-C, Within-a-cell comparison of AMPA patch currents and qEPSCs at P6 (A), P14 (B), and P21 (C). After recording qEPSCs (left traces in A-C), an outside-out patch was excised from the same cell, and AMPAR currents were induced by fast glutamate application with long (100 msec; middle traces in A-C) and short (1 msec; right traces in A-C) pulses. D-F, Comparison between the weighted mean decay time constant of qEPSCs (τm; abscissae) and the fast (desens τf; open squares in ordinates) and the weighted (desens τm; open triangles) mean time constants of desensitization or the deactivation time constant (τdeact; filled circles) at P6-P7 (D), P13-P14 (E), and P20-P21 (F). The proportion of the fast component of the qEPSCs decay time constant was 88% (P6-P7) to 94% (P20-P22). Equal values for ordinates and abscissae are indicated by dashed lines. G-I, Summary data at P6-P7 (G), P13-P14 (H), and P20-P21 (I). Both the fast time constant (τf; ▦) and the weighted mean time constant (τm; □) are shown for the qEPSC decay time and desensitization time together with deactivation time constants (▪). G, At P6-P7, qEPSC τf was 1.09 ± 0.09 msec, qEPSC τm was 1.85 ± 0.20 msec, desens τf was 1.25 ± 0.25 msec, desens τm was 2.66 ± 0.15 msec, and τdeact was 1.65 ± 0.10 msec (n = 6). H, At P13-P14, qEPSC τf was 0.45 ± 0.02 msec, qEPSC τm was 0.68 ± 0.05 msec, desens τf was 0.94 ± 0.14 msec, desens τm was 1.74 ± 0.20 msec, and τdeact was 0.81 ± 0.11 msec (n = 9). I, At P20-P21, qEPSC τf was 0.33 ± 0.02 msec, qEPSC τm was 0.48 ± 0.03 msec, desens τf was 0.78 ± 0.05 msec, desens τm was 1.40 ± 0.09 msec, and τdeact was 0.78 ± 0.07 msec (n = 9). The desens τf was not significantly different from τdeact at all ages examined (P6-P21; p &gt;0.2). The qEPSC τm was significantly faster than desens τf and τdeact (p &lt; 0.05; asterisks). Data points and bars indicate mean and S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CTZ on AMPA patch currents at different postnatal periods. A, Effects of CTZ (100 μm) on AMPAR desensitization induced by 100 msec (left) or 800 msec (right) glutamate application at P6, P14, and P21 (the 100 and 800 msec data were derived from different patches). Control AMPAR currents induced by a 100 msec pulse before CTZ application are superimposed with those after CTZ application (left). B, Effects of CTZ on AMPAR deactivation after 1 msec glutamate application. The data in A and B were derived from different cells. C, The rate of AMPAR desensitization expressed as the mean amplitude of currents at the end of a 100 msec pulse relative to the initial amplitude (ordinate). No statistically significant difference among the values at different ages is shown. The desensitization rate at the end of a 800 msec pulse were 0.68 (P6-P7), 0.57 (P14), and 0.53 (P21), respectively. D, The magnitude of prolongation of the AMPAR deactivation time by CTZ: 1.60 ± 0.21 at P6-P7 (n = 8), 1.70 ± 0.35 at P13-P14 (n = 6), and 1.64 ± 0.26 at P20-P21 (n = 7). Data points and bars indicate mean and S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ffect of CTZ on qEPSCs at different postnatal periods. A, Slowings in the decay time of qEPSC by CTZ (100 μm) at P7, P14, and P21. Sample records were averaged each from 183-665 qEPSCs. qEPSCs before (left traces) and after (middle traces) CTZ application are normalized at the peak amplitude and superimposed (right traces). Each value indicates the weighted mean decay time constant of averaged qEPSCs. B, The magnitude of prolongation of the qEPSCs decay time constant by CTZ at P6-P7 (4.26 ± 0.19 relative to control; n = 8), P13-P15 (2.65 ± 0.42; n = 9), and P20-P22 (2.59 ± 0.19; n = 9). C, The magnitude of potentiation in the qEPSC amplitude by CTZ. The potentiation was statistically significant at P6-P7 (121 ± 6% relative to control; n = 8; p &lt; 0.01; asterisk; paired t test) but not significant at P13-P15 (111 ± 4%; n = 8) and P20-P22 (103 ± 6%; n = 9). D, The magnitude of prolongation in the qEPSC rise time (10-90%) by CTZ, which was statistically significant at all ages examined (p &lt; 0.05; paired t test). Data points and bars indicate mean and S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ffect of CTZ on nerve-evoked EPSCs at different postnatal periods. A, Slowings in the decay time of EPSCs by CTZ (100 μm) at P7, P14, and P21. Sample records were averaged each from 10 EPSCs. Evoked EPSCs before (left traces) and after (middle traces) CTZ application are normalized at the peak amplitude and superimposed (right traces). Each value indicates the weighted mean decay time constant of averaged EPSCs. B, Summary in the weighted mean decay time constants of evoked EPSCs before (□) and after (▪) CTZ application at different postnatal days. C, The weighted mean decay time constants (τm) of evoked EPSCs after CTZ application relative to control were 9.02 ± 1.54 (n = 10) at P6-P7, 4.96 ± 0.70 (n = 10) at P13-P15, and 2.92 ± 0.22 (n = 9) at P20-P22. Data points and bars indicate mean and S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luR mRNAs measured using quantitative single-cell RT-PCR at developing MNTB principal neurons. A, The relative amount of mRNAs encoding GluR1-GluR4 flip and flop splice variants in MNTB neurons at P7 (▪), P14( ▦), and P21 (□). B, The relationships between the decay time constant of qEPSCs (ordinate) and the abundance of GluR4 flop variants (abscissa) in individual MNTB cells at P7 (•), at P14 (○), and P21 (▵). There was an inverse correlation between the qEPSCs decay time constant (τm) and the abundance of GluR4 flop variants at P7 (r =-0.69). No clear correlation was observed at P14 (r = 0.28) and P21 (r = 0.42). At P7, only GluR4 flop, among other GluRs, had a significant correlation with the qEPSC decay time constant (p &lt; 0.05; Spearman's correlation analysis). Data points and bars indicate mean and S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echanisms Underlying Developmental Speeding in AMPA-EPSC Decay Time at the Calyx of Held</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ki Koike-Tani, Naoto Saitoh, and Tomoyuki Takahash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5(1):199-20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5,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lutamate-induced currents in outside-out patches excised from an MNTB neuron.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336760" y="1079640"/>
            <a:ext cx="5413320" cy="5394240"/>
          </a:xfrm>
          <a:prstGeom prst="rect">
            <a:avLst/>
          </a:prstGeom>
          <a:ln w="0">
            <a:noFill/>
          </a:ln>
        </p:spPr>
      </p:pic>
      <p:sp>
        <p:nvSpPr>
          <p:cNvPr id="49" name=""/>
          <p:cNvSpPr/>
          <p:nvPr/>
        </p:nvSpPr>
        <p:spPr>
          <a:xfrm>
            <a:off x="2336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ki Koike-Tani et al. J. Neurosci. 2005;25:199-20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velopmental speeding of AMPAR desensitization and deactivat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463920" y="1079640"/>
            <a:ext cx="3159000" cy="5394240"/>
          </a:xfrm>
          <a:prstGeom prst="rect">
            <a:avLst/>
          </a:prstGeom>
          <a:ln w="0">
            <a:noFill/>
          </a:ln>
        </p:spPr>
      </p:pic>
      <p:sp>
        <p:nvSpPr>
          <p:cNvPr id="54" name=""/>
          <p:cNvSpPr/>
          <p:nvPr/>
        </p:nvSpPr>
        <p:spPr>
          <a:xfrm>
            <a:off x="3463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ki Koike-Tani et al. J. Neurosci. 2005;25:199-20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of desensitization and deactivation times of AMPA patch currents with the decay time of qEPSC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739800" y="1116000"/>
            <a:ext cx="8604360" cy="531972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ki Koike-Tani et al. J. Neurosci. 2005;25:199-20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CTZ on AMPA patch currents at different postnatal period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543480" y="1079640"/>
            <a:ext cx="3000240" cy="5394240"/>
          </a:xfrm>
          <a:prstGeom prst="rect">
            <a:avLst/>
          </a:prstGeom>
          <a:ln w="0">
            <a:noFill/>
          </a:ln>
        </p:spPr>
      </p:pic>
      <p:sp>
        <p:nvSpPr>
          <p:cNvPr id="64" name=""/>
          <p:cNvSpPr/>
          <p:nvPr/>
        </p:nvSpPr>
        <p:spPr>
          <a:xfrm>
            <a:off x="35434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ki Koike-Tani et al. J. Neurosci. 2005;25:199-20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ffect of CTZ on qEPSCs at different postnatal period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360600" y="1079640"/>
            <a:ext cx="3362400" cy="5394240"/>
          </a:xfrm>
          <a:prstGeom prst="rect">
            <a:avLst/>
          </a:prstGeom>
          <a:ln w="0">
            <a:noFill/>
          </a:ln>
        </p:spPr>
      </p:pic>
      <p:sp>
        <p:nvSpPr>
          <p:cNvPr id="69" name=""/>
          <p:cNvSpPr/>
          <p:nvPr/>
        </p:nvSpPr>
        <p:spPr>
          <a:xfrm>
            <a:off x="3360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ki Koike-Tani et al. J. Neurosci. 2005;25:199-207</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ffect of CTZ on nerve-evoked EPSCs at different postnatal period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522600" y="1079640"/>
            <a:ext cx="3038400" cy="5394240"/>
          </a:xfrm>
          <a:prstGeom prst="rect">
            <a:avLst/>
          </a:prstGeom>
          <a:ln w="0">
            <a:noFill/>
          </a:ln>
        </p:spPr>
      </p:pic>
      <p:sp>
        <p:nvSpPr>
          <p:cNvPr id="74" name=""/>
          <p:cNvSpPr/>
          <p:nvPr/>
        </p:nvSpPr>
        <p:spPr>
          <a:xfrm>
            <a:off x="3522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ki Koike-Tani et al. J. Neurosci. 2005;25:199-207</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luR mRNAs measured using quantitative single-cell RT-PCR at developing MNTB principal neuron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317760" y="1079640"/>
            <a:ext cx="3449880" cy="5394240"/>
          </a:xfrm>
          <a:prstGeom prst="rect">
            <a:avLst/>
          </a:prstGeom>
          <a:ln w="0">
            <a:noFill/>
          </a:ln>
        </p:spPr>
      </p:pic>
      <p:sp>
        <p:nvSpPr>
          <p:cNvPr id="79" name=""/>
          <p:cNvSpPr/>
          <p:nvPr/>
        </p:nvSpPr>
        <p:spPr>
          <a:xfrm>
            <a:off x="3317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ki Koike-Tani et al. J. Neurosci. 2005;25:199-207</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