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Pyramidal neurons of the PFC exhibit punctate cell-surface expression of AMPA receptors, D1 DA receptors, and D2 DA receptors. A, Cell-surface AMPA receptors were labeled using antibody to the extracellular N terminus of GluR1. B, Cell-surface D1 receptors (D1R) were labeled with antibody to the extracellular second loop of the D1 receptor. C, Cell-surface D2 receptors (D2R) were labeled with antibody to the extracellular N terminus of the D2 receptor. All receptors were visualized with Cy3 fluorescent secondary antibody. The corresponding phase images are shown below each fluorescence image. Pyramidal neurons were identified based on morphological criteria including a pyramidal shaped cell body with dendrites emerging from both the apex and the base, a soma diameter ≥15 μm, and dendrites extending a distance greater than five times the soma diameter. Scale bar, 20 μ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D1 receptor agonist SKF 81297 increases GluR1 surface expression but not synaptic incorporation in PFC neurons. A, Representative images of total cell-surface GluR1 staining in control neurons and neurons treated with SKF 81297 (1 μm; 5 min), the D1 receptor antagonist SCH 23390 (10 μm), or SCH plus SKF (SCH+SKF). In the SCH+SKF group, SCH 23390 was added 5 min before SKF. Scale bar, 10 μm. B, Representative images illustrating synaptic GluR1 incorporation, indicated by overlap of GluR1 and SB staining, on processes of control neurons and neurons treated with SKF 81297 (1 μm; 5 min). Scale bar, 5 μm. C, Quantification of total surface GluR1 staining. SKF significantly increased surface GluR1 staining compared with the control group (n = 19-24; Dunn's test; *p &lt; 0.05). Results are presented as the mean area of GluR1 puncta, normalized to the control group. D, Quantification of synaptic GluR1 incorporation, expressed as the fraction of total SB staining area that overlaps with GluR1 staining area, based on analysis of images such as those in B. The SKF, SCH, and SCH+SKF groups were not significantly different from the control group (n = 19-24; ANOVA; p &gt; 0.05). Error bars indicate SEM.</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971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D1 agonist SKF 81297 increases the rate of GluR1 externalization, but newly externalized receptors are mainly extrasynaptic. A modification of a preblocking method (Lu et al., 2001) was used to selectively detect newly externalized receptors. A, Examples of staining for SB and newly externalized GluR1 on processes of neurons that were preblocked and then incubated for 5 min at room temperature in control medium or medium containing SKF 81297 (1 μm; 5 min). Scale bar, 5 μm. B, Left two bars, Quantification of the total amount of GluR1 externalized onto the cell surface in the experimental groups illustrated in A (n = 22-23; t test; *p &lt; 0.01). Right two bars, Quantification of the fraction of total SB staining that overlaps with new surface GluR1 staining, indicating that only a small percentage of synapses (2-3%) overlap with the newly externalized GluR1 (n = 22-23; t test; p &gt; 0.05). Con, Control. C, D, Time course experiments were performed to determine whether newly externalized GluR1 remains extrasynaptic after washout of the D1 agonist. Control cultures were preblocked and then returned to 37°C for the indicated time. Cultures in the SKF group were preblocked, incubated with SKF 81297 (1 μm; 5 min), and returned to 37°C for the indicated time. C compares the time course of new surface GluR1 expression in control and SKF-treated cultures (n = 13-22 for each time point; t test; *p &lt; 0.01). Results in C are normalized to a 0 min control group that was fixed immediately after preblocking. D shows the time course of new synaptic GluR1 expression (n = 20-30 for each time point). Control and SKF groups did not differ significantly at any time point (t test; p &gt; 0.05). Results in D are expressed as the percentage of total SB staining that overlaps with new surface GluR1 staining. Error bars indicate S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ncreased GluR1 surface expression induced by D1 receptor stimulation requires PKA activation. A, Representative images showing that the PKA activator SpcAMPS (10 μm; 5 min) increases total cell-surface GluR1 staining. Scale bar, 10 μm. B, Representative images illustrating that SpcAMPS (10 μm; 5 min) does not alter synaptic GluR1 incorporation, indicated by overlap of GluR1 and SB staining. Scale bar, 5 μm. C, Quantification of the effect of SpcAMPS on GluR1 surface expression (A) and quantification of additional experiments showing that SpcAMPS occludes the effect of the D1 agonist SKF 81297 on GluR1 externalization and that the PKA inhibitor RpcAMPS blocks the increase in GluR1 externalization produced by SKF 81297. For the control group, cells were incubated in medium for 10 min. For the SpcAMPS and RpcAMPS groups, cells were incubated 10 min in 10 μm SpcAMPS or RpcAMPS. For the SpcAMPS+SKF and RpcAMPS+SKF groups, 1 μm SKF 81297 was added during the final 5 min of the incubation. All incubations were at room temperature. Results are presented as the mean area of GluR1 puncta, normalized to the control group. The SKF, SpcAMPS, and SpcAMPS+SKF groups differed significantly from the control group (n = 20-25; Dunn's test; *p &lt; 0.05). D, Quantification of synaptic GluR1 incorporation, expressed as the fraction of total SB staining area that overlaps with GluR1 staining area, for the same experimental groups shown in C. None of the treatments significantly altered synaptic GluR1 incorporation (n = 20-25; ANOVA; p &gt; 0.05). Error bars indicate S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Glycine increases both total surface GluR1 expression and synaptic GluR1 expression in PFC neurons. A, Quantification of the effect of glycine on total cell-surface GluR1 staining. Both 10 and 100 μm glycine significantly increased surface GluR1 expression in PFC neurons compared with their respective control groups (t tests; *p &lt; 0.05), whereas 1 μm glycine did not change GluR1 surface expression (t test; p &gt; 0.05). Results are presented as the mean area of GluR1 puncta, normalized to the control group. B, Quantification of the effect of glycine on synaptic expression of GluR1. Both 10 and 100 μm glycine significantly increased synaptic GluR1 expression in PFC neurons compared with their control groups (t tests; *p &lt; 0.05), whereas 1 μm glycine did not change synaptic GluR1 expression (t test; p &gt; 0.05). Results are presented as the percentage of total SB area that overlaps with GluR1 area, normalized to the control group. Error bars indicate SE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The D1 receptor agonist SKF 81297 facilitates synaptic GluR1 insertion during NMDA receptor stimulation. A, SKF 81297 significantly increases total cell-surface GluR1 expression regardless of whether it is added before or after glycine (Gly). Cultures in the SKF 81297→glycine group were treated for 5 min with 1 μm SKF 81297, rinsed, and treated for 3 min with 1 μm glycine. Cultures in the glycine→ SKF group were treated for 3 min with 1 μm glycine, rinsed, and treated for 5 min with 1 μm SKF 81297. Results are presented as the mean area of GluR1 puncta, normalized to the control group (n = 18-25; Dunn's test; *p &lt; 0.05). B, SKF 81297 significantly increased synaptic GluR1 expression when added before glycine but not after glycine. The SKF, glycine, and glycine→ SKF 81297 groups did not differ significantly from control. Results are presented as the percentage of total SB area that overlaps with GluR1 area, normalized to the control group (n = 18-25; Dunn's test; *p &lt; 0.05). Error bars indicate SEM. C, Examples of colocalization of GluR1 with synaptobrevin on processes of control (Con) neurons and neurons treated with glycine (1 μm; 3 min), SKF 81297 (1 μm; 5 min), SKF 81297→glycine, and glycine→ SKF 81297. Scale bar, 5 μ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opamine decreases surface GluR1 expression on PFC neurons via D2 receptor activation. A, The D2 agonist quinpirole blocks the increased surface GluR1 expression induced by D1 receptor stimulation. Quantification of surface GluR1 expression in control neurons (medium; 10 min) and neurons treated with quinpirole (0.1 or 1 μm; 10 min), SKF 81297 (0.1 or 1 μm; 10 min), or quinpirole (1 μm) plus SKF (1 μm) (a, p &lt; 0.05 compared with control group; b, p &lt; 0.05 compared with SKF 81297 group; Dunn's test; n = 24-39). B, C, Dopamine and apomorphine decrease surface GluR1 expression. Quantification of cell-surface GluR1 staining in control neurons (medium; 10 min) and neurons treated with DA (0.1, 1, or 10 μm; 10 min; n = 28-43) or apomorphine (0.1, 1, or 10 μm; 10 min; n = 26-31). Both drugs significantly decreased surface GluR1 expression (*p &lt; 0.05; Dunn's test). D, Quantification of cell-surface GluR1 staining in control neurons and neurons treated with raclopride (1 μm), raclopride (1 μm) plus DA (1 μm), SCH 23390 (10 μm), SCH 23390 (10 μm) plus DA (1 μm), and raclopride (1 μm) plus SCH 23390 (10 μm) plus DA (1 μm). Cells were incubated with antagonists for 5 min, and then DA was added for another 10 min (a, p &lt; 0.05 compared with control group; b, p &lt; 0.05 compared with raclopride plus DA group; c, p &lt; 0.05 compared with SCH plus DA group; n = 20-37). Error bars indicate SEM. Quin, Quinpirole; Rac, raclopride; Con, contro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Dopamine attenuates synaptic GluR1 expression during NMDA receptor stimulation. A, DA attenuates the increase in GluR1 surface expression produced by glycine (10 μm). Cultures were treated with medium, DA (1 μm), or glycine (10 μm). Cultures in the DA→glycine group were treated with DA for 10 min, rinsed, and treated for 3 min with glycine. The order of drug exposure was reversed in the glycine→ DA group (a, p &lt; 0.05 compared with control group; b, p &lt; 0.05 compared with glycine group; Dunn's test; n = 21-34). B, DA attenuates the increase in GluR1 synaptic incorporation produced by glycine (10 μm). Data are from the same experimental groups as in A. Results are presented as the percentage of the total SB area that overlaps with GluR1 area, normalized to the control group (a, p &lt; 0.05 compared with control group; b, p &lt; 0.05 compared with glycine group; Dunn's test; n = 21-34). Error bars indicate S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Dopamine Receptor Stimulation Modulates AMPA Receptor Synaptic Insertion in Prefrontal Cortex Neuron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Xiu Sun, Yun Zhao, and Marina E. Wolf</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5(32):7342-7351</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ugust 10,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Pyramidal neurons of the PFC exhibit punctate cell-surface expression of AMPA receptors, D1 DA receptors, and D2 DA receptor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1155600" y="1079640"/>
            <a:ext cx="7775640" cy="5394240"/>
          </a:xfrm>
          <a:prstGeom prst="rect">
            <a:avLst/>
          </a:prstGeom>
          <a:ln w="0">
            <a:noFill/>
          </a:ln>
        </p:spPr>
      </p:pic>
      <p:sp>
        <p:nvSpPr>
          <p:cNvPr id="49" name=""/>
          <p:cNvSpPr/>
          <p:nvPr/>
        </p:nvSpPr>
        <p:spPr>
          <a:xfrm>
            <a:off x="1155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 Sun et al. J. Neurosci. 2005;25:7342-7351</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D1 receptor agonist SKF 81297 increases GluR1 surface expression but not synaptic incorporation in PFC neuron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1846440" y="1079640"/>
            <a:ext cx="6394320" cy="5394240"/>
          </a:xfrm>
          <a:prstGeom prst="rect">
            <a:avLst/>
          </a:prstGeom>
          <a:ln w="0">
            <a:noFill/>
          </a:ln>
        </p:spPr>
      </p:pic>
      <p:sp>
        <p:nvSpPr>
          <p:cNvPr id="54" name=""/>
          <p:cNvSpPr/>
          <p:nvPr/>
        </p:nvSpPr>
        <p:spPr>
          <a:xfrm>
            <a:off x="18464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 Sun et al. J. Neurosci. 2005;25:7342-7351</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D1 agonist SKF 81297 increases the rate of GluR1 externalization, but newly externalized receptors are mainly extrasynaptic.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265400" y="1079640"/>
            <a:ext cx="7554600" cy="5394240"/>
          </a:xfrm>
          <a:prstGeom prst="rect">
            <a:avLst/>
          </a:prstGeom>
          <a:ln w="0">
            <a:noFill/>
          </a:ln>
        </p:spPr>
      </p:pic>
      <p:sp>
        <p:nvSpPr>
          <p:cNvPr id="59" name=""/>
          <p:cNvSpPr/>
          <p:nvPr/>
        </p:nvSpPr>
        <p:spPr>
          <a:xfrm>
            <a:off x="126540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 Sun et al. J. Neurosci. 2005;25:7342-7351</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ncreased GluR1 surface expression induced by D1 receptor stimulation requires PKA activat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2949480" y="1079640"/>
            <a:ext cx="4184640" cy="5394240"/>
          </a:xfrm>
          <a:prstGeom prst="rect">
            <a:avLst/>
          </a:prstGeom>
          <a:ln w="0">
            <a:noFill/>
          </a:ln>
        </p:spPr>
      </p:pic>
      <p:sp>
        <p:nvSpPr>
          <p:cNvPr id="64" name=""/>
          <p:cNvSpPr/>
          <p:nvPr/>
        </p:nvSpPr>
        <p:spPr>
          <a:xfrm>
            <a:off x="29494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 Sun et al. J. Neurosci. 2005;25:7342-7351</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Glycine increases both total surface GluR1 expression and synaptic GluR1 expression in PFC neurons.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739800" y="1965240"/>
            <a:ext cx="8604360" cy="3622680"/>
          </a:xfrm>
          <a:prstGeom prst="rect">
            <a:avLst/>
          </a:prstGeom>
          <a:ln w="0">
            <a:noFill/>
          </a:ln>
        </p:spPr>
      </p:pic>
      <p:sp>
        <p:nvSpPr>
          <p:cNvPr id="69"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 Sun et al. J. Neurosci. 2005;25:7342-7351</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The D1 receptor agonist SKF 81297 facilitates synaptic GluR1 insertion during NMDA receptor stimulation.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3479760" y="1079640"/>
            <a:ext cx="3127320" cy="5394240"/>
          </a:xfrm>
          <a:prstGeom prst="rect">
            <a:avLst/>
          </a:prstGeom>
          <a:ln w="0">
            <a:noFill/>
          </a:ln>
        </p:spPr>
      </p:pic>
      <p:sp>
        <p:nvSpPr>
          <p:cNvPr id="74" name=""/>
          <p:cNvSpPr/>
          <p:nvPr/>
        </p:nvSpPr>
        <p:spPr>
          <a:xfrm>
            <a:off x="34797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 Sun et al. J. Neurosci. 2005;25:7342-7351</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opamine decreases surface GluR1 expression on PFC neurons via D2 receptor activation.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541600" y="1079640"/>
            <a:ext cx="5002200" cy="5394240"/>
          </a:xfrm>
          <a:prstGeom prst="rect">
            <a:avLst/>
          </a:prstGeom>
          <a:ln w="0">
            <a:noFill/>
          </a:ln>
        </p:spPr>
      </p:pic>
      <p:sp>
        <p:nvSpPr>
          <p:cNvPr id="79" name=""/>
          <p:cNvSpPr/>
          <p:nvPr/>
        </p:nvSpPr>
        <p:spPr>
          <a:xfrm>
            <a:off x="25416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 Sun et al. J. Neurosci. 2005;25:7342-7351</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Dopamine attenuates synaptic GluR1 expression during NMDA receptor stimulation.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739800" y="1407960"/>
            <a:ext cx="8604360" cy="4737240"/>
          </a:xfrm>
          <a:prstGeom prst="rect">
            <a:avLst/>
          </a:prstGeom>
          <a:ln w="0">
            <a:noFill/>
          </a:ln>
        </p:spPr>
      </p:pic>
      <p:sp>
        <p:nvSpPr>
          <p:cNvPr id="84" name=""/>
          <p:cNvSpPr/>
          <p:nvPr/>
        </p:nvSpPr>
        <p:spPr>
          <a:xfrm>
            <a:off x="7398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Xiu Sun et al. J. Neurosci. 2005;25:7342-7351</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