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46321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ight different possible organizations to the lateral motor cortex in the monkey bra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 sequence of body parts arranged vertically with the feet in a medial location and the mouth in a lateral location (Fritsch and Hitzig, 1870; Foerster, 1936; Fulton, 1938).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 subsequent refinement of the map including a horizontal component to the organization, in which the axial musculature is represented anteriorly and the distal musculature posteriorly (Woolsey et al., 1952).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other proposed organization in which a posterior hand representation is partly surrounded by an arm representation (Kwan et al., 1978; Park et al., 2001).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Division of the precentral gyrus into two strips: primary motor cortex that tended to represent individual body parts and the more complex premotor cortex (Campbell, 1905).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Partitioning of premotor cortex into a dorsal and ventral sector, each sector subdivided into a caudal and a rostral part (Matelli et al., 1985; Preuss et al., 1996).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Three regions in the lateral motor strip that project directly to the hand portion of the spinal cord: the primary motor hand area, the ventral premotor hand area, and the dorsal premotor hand area (Dum and Strick, 2002, 2005). </a:t>
            </a:r>
            <a:r>
              <a:rPr b="0" i="1" lang="en-GB" sz="1200" spc="-1" strike="noStrike">
                <a:solidFill>
                  <a:srgbClr val="000000"/>
                </a:solidFill>
                <a:latin typeface="Arial"/>
                <a:ea typeface="msgothic"/>
              </a:rPr>
              <a:t>G</a:t>
            </a:r>
            <a:r>
              <a:rPr b="0" lang="en-GB" sz="1200" spc="-1" strike="noStrike">
                <a:solidFill>
                  <a:srgbClr val="000000"/>
                </a:solidFill>
                <a:latin typeface="Arial"/>
                <a:ea typeface="msgothic"/>
              </a:rPr>
              <a:t>, Rough map of the height of the hand as evoked by electrical stimulation. Data from one monkey (Graziano et al., 2005). Upper hand locations are in a ventral location, and lower hand locations are in a dorsal location. Within the arm–leg region of the somatotopy, the mapping of the hand height breaks down. </a:t>
            </a:r>
            <a:r>
              <a:rPr b="0" i="1" lang="en-GB" sz="1200" spc="-1" strike="noStrike">
                <a:solidFill>
                  <a:srgbClr val="000000"/>
                </a:solidFill>
                <a:latin typeface="Arial"/>
                <a:ea typeface="msgothic"/>
              </a:rPr>
              <a:t>H</a:t>
            </a:r>
            <a:r>
              <a:rPr b="0" lang="en-GB" sz="1200" spc="-1" strike="noStrike">
                <a:solidFill>
                  <a:srgbClr val="000000"/>
                </a:solidFill>
                <a:latin typeface="Arial"/>
                <a:ea typeface="msgothic"/>
              </a:rPr>
              <a:t>, Data from the same monkey as in </a:t>
            </a:r>
            <a:r>
              <a:rPr b="0" i="1" lang="en-GB" sz="1200" spc="-1" strike="noStrike">
                <a:solidFill>
                  <a:srgbClr val="000000"/>
                </a:solidFill>
                <a:latin typeface="Arial"/>
                <a:ea typeface="msgothic"/>
              </a:rPr>
              <a:t>G</a:t>
            </a:r>
            <a:r>
              <a:rPr b="0" lang="en-GB" sz="1200" spc="-1" strike="noStrike">
                <a:solidFill>
                  <a:srgbClr val="000000"/>
                </a:solidFill>
                <a:latin typeface="Arial"/>
                <a:ea typeface="msgothic"/>
              </a:rPr>
              <a:t> but now showing the lateral position of hand evoked by electrical stimulation. </a:t>
            </a:r>
            <a:r>
              <a:rPr b="0" i="1" lang="en-GB" sz="1200" spc="-1" strike="noStrike">
                <a:solidFill>
                  <a:srgbClr val="000000"/>
                </a:solidFill>
                <a:latin typeface="Arial"/>
                <a:ea typeface="msgothic"/>
              </a:rPr>
              <a:t>I</a:t>
            </a:r>
            <a:r>
              <a:rPr b="0" lang="en-GB" sz="1200" spc="-1" strike="noStrike">
                <a:solidFill>
                  <a:srgbClr val="000000"/>
                </a:solidFill>
                <a:latin typeface="Arial"/>
                <a:ea typeface="msgothic"/>
              </a:rPr>
              <a:t>, Cortical patches that, when stimulated, result in different ethologically relevant movements. The details differ among monkeys, but the overall pattern is consistent. Data from one monkey (Graziano et al., 2005). A.S., Arcuate sulcus; C.S., central sulcus; F4/F5, fields 4 and 5 of motor cortex; M1, primary motor cortex; PMd, dorsal promotor area; PMv, ventral premotor area; PMDc, dorsal premotor cortex, caudal division; PMDr, dorsal premotor cortex, rostral division; SMA, supplementary motor are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ome movement definitions used in the motor cortex model.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Woolsey’s map of the somatotopic organization in monkey motor cortex (Woolsey et al., 1952), overlaid with blocked regions showing the schematized somatotopy used in the present motor cortex model. </a:t>
            </a:r>
            <a:r>
              <a:rPr b="0" i="1" lang="en-GB" sz="1200" spc="-1" strike="noStrike">
                <a:solidFill>
                  <a:srgbClr val="000000"/>
                </a:solidFill>
                <a:latin typeface="Arial"/>
                <a:ea typeface="msgothic"/>
              </a:rPr>
              <a:t>B–D</a:t>
            </a:r>
            <a:r>
              <a:rPr b="0" lang="en-GB" sz="1200" spc="-1" strike="noStrike">
                <a:solidFill>
                  <a:srgbClr val="000000"/>
                </a:solidFill>
                <a:latin typeface="Arial"/>
                <a:ea typeface="msgothic"/>
              </a:rPr>
              <a:t>, Three views of a schematized monkey showing the hand locations defined for different ethological categories of movement. Light blue, Hand-to-mouth; dark blue, reach; red, defense; green, central space/manipulation; pink with black border, climb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nal state of the self-organizing map model. In this learning set, the different movement types were presented to the network in equal propor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he initial somatotopic (Init. Somat.) arrangement of body parts before reorganization. </a:t>
            </a:r>
            <a:r>
              <a:rPr b="0" i="1" lang="en-GB" sz="1200" spc="-1" strike="noStrike">
                <a:solidFill>
                  <a:srgbClr val="000000"/>
                </a:solidFill>
                <a:latin typeface="Arial"/>
                <a:ea typeface="msgothic"/>
              </a:rPr>
              <a:t>B–K</a:t>
            </a:r>
            <a:r>
              <a:rPr b="0" lang="en-GB" sz="1200" spc="-1" strike="noStrike">
                <a:solidFill>
                  <a:srgbClr val="000000"/>
                </a:solidFill>
                <a:latin typeface="Arial"/>
                <a:ea typeface="msgothic"/>
              </a:rPr>
              <a:t>, Somatotopic arrangement of the 10 body parts after reorganization. </a:t>
            </a:r>
            <a:r>
              <a:rPr b="0" i="1" lang="en-GB" sz="1200" spc="-1" strike="noStrike">
                <a:solidFill>
                  <a:srgbClr val="000000"/>
                </a:solidFill>
                <a:latin typeface="Arial"/>
                <a:ea typeface="msgothic"/>
              </a:rPr>
              <a:t>L</a:t>
            </a:r>
            <a:r>
              <a:rPr b="0" lang="en-GB" sz="1200" spc="-1" strike="noStrike">
                <a:solidFill>
                  <a:srgbClr val="000000"/>
                </a:solidFill>
                <a:latin typeface="Arial"/>
                <a:ea typeface="msgothic"/>
              </a:rPr>
              <a:t>, Arrangement of the five ethological categories after reorganization. In </a:t>
            </a:r>
            <a:r>
              <a:rPr b="0" i="1" lang="en-GB" sz="1200" spc="-1" strike="noStrike">
                <a:solidFill>
                  <a:srgbClr val="000000"/>
                </a:solidFill>
                <a:latin typeface="Arial"/>
                <a:ea typeface="msgothic"/>
              </a:rPr>
              <a:t>L</a:t>
            </a:r>
            <a:r>
              <a:rPr b="0" lang="en-GB" sz="1200" spc="-1" strike="noStrike">
                <a:solidFill>
                  <a:srgbClr val="000000"/>
                </a:solidFill>
                <a:latin typeface="Arial"/>
                <a:ea typeface="msgothic"/>
              </a:rPr>
              <a:t> only, light blue, hand-to-mouth; dark blue, reach; red, defense; green, central space/manipulation; pink, climbing. Regions of overlap have intermediate colors. </a:t>
            </a:r>
            <a:r>
              <a:rPr b="0" i="1" lang="en-GB" sz="1200" spc="-1" strike="noStrike">
                <a:solidFill>
                  <a:srgbClr val="000000"/>
                </a:solidFill>
                <a:latin typeface="Arial"/>
                <a:ea typeface="msgothic"/>
              </a:rPr>
              <a:t>M–O</a:t>
            </a:r>
            <a:r>
              <a:rPr b="0" lang="en-GB" sz="1200" spc="-1" strike="noStrike">
                <a:solidFill>
                  <a:srgbClr val="000000"/>
                </a:solidFill>
                <a:latin typeface="Arial"/>
                <a:ea typeface="msgothic"/>
              </a:rPr>
              <a:t>, Maps of hand location after reorganization. X, Hand height, with warm colors indicating greater height; Y, lateral location of hand, with warm colors indicating more lateral locations; Z, distance of hand from body along line of sight, with warm colors indicating more distant lo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lternate version of the self-organizing map model. In this learning set, different movement types were presented to the network in unequal proportions. The central-space/manipulation movements were increased in proportion by 50%, the reaching movements were decreased by 20%, the hand-in-lower space movements were increased by 50%, and the chewing movements and the leg and foot movements were decreased by 20%. A similar result was obtained here as in Figure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x variants of the self-organizing map model. Despite the variations in initial state, the results were similar. In each case, the model was the same as shown in Figure 3, except as follow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Mean hand location for each of the five movement types was shifted in a random direction by 5 cm.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he SD of hand location for each of the five movement types was doubled. </a:t>
            </a:r>
            <a:r>
              <a:rPr b="0" i="1" lang="en-GB" sz="1200" spc="-1" strike="noStrike">
                <a:solidFill>
                  <a:srgbClr val="000000"/>
                </a:solidFill>
                <a:latin typeface="Arial"/>
                <a:ea typeface="msgothic"/>
              </a:rPr>
              <a:t>C–F</a:t>
            </a:r>
            <a:r>
              <a:rPr b="0" lang="en-GB" sz="1200" spc="-1" strike="noStrike">
                <a:solidFill>
                  <a:srgbClr val="000000"/>
                </a:solidFill>
                <a:latin typeface="Arial"/>
                <a:ea typeface="msgothic"/>
              </a:rPr>
              <a:t>, The proportions of the movement types in the input array were altered randomly by 20%. In one variant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the climbing zone moved to a more posterior region and the reaching zone moved to the dorsal anterior corner of the array. This variant was therefore similar but not identical to the others. This result shows that changing the proportions of the movement types can cause small variations in the final results, but the essential topography remains simil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sage-dependent changes in the map. The model was trained on the same movement set used in Figure 3 and then trained again on a second movement set.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Final state of map model when the second movement set was the same as the first. The representation of one ethological movement category, central-space/manipulation, is shown.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Final state of the map model when the second movement set was the same as the first except that the number of central-space/manipulation movements was increased by 50%.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Final state of the map model when the second movement set was the same as the first except that the number of central-space/manipulation movements was decreased by 5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 “lesion” on the map model.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Final state of the hand representation using parameters and learning set as in Figure 3, with black area showing the site of the lesion to be mad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ame a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but for arm representation.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State of hand representation after lesion and additional learning on the same movement set. The lesioned hand representation expande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tate of arm representation after lesion and additional learning on the same movement set. The arm representation shifted to allow room for the expanded hand re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ossible Origins of the Complex Topographic Organization of Motor Cortex: Reduction of a Multidimensional Space onto a Two-Dimensional Arra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yson N. Aflalo, and Michael S. A. Grazian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23):6288-629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7,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ight different possible organizations to the lateral motor cortex in the monkey brai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770200" y="1079640"/>
            <a:ext cx="4543560" cy="5394240"/>
          </a:xfrm>
          <a:prstGeom prst="rect">
            <a:avLst/>
          </a:prstGeom>
          <a:ln w="0">
            <a:noFill/>
          </a:ln>
        </p:spPr>
      </p:pic>
      <p:sp>
        <p:nvSpPr>
          <p:cNvPr id="49" name=""/>
          <p:cNvSpPr/>
          <p:nvPr/>
        </p:nvSpPr>
        <p:spPr>
          <a:xfrm>
            <a:off x="2770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ome movement definitions used in the motor cortex model.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901960" y="1079640"/>
            <a:ext cx="4281480" cy="5394240"/>
          </a:xfrm>
          <a:prstGeom prst="rect">
            <a:avLst/>
          </a:prstGeom>
          <a:ln w="0">
            <a:noFill/>
          </a:ln>
        </p:spPr>
      </p:pic>
      <p:sp>
        <p:nvSpPr>
          <p:cNvPr id="54" name=""/>
          <p:cNvSpPr/>
          <p:nvPr/>
        </p:nvSpPr>
        <p:spPr>
          <a:xfrm>
            <a:off x="2901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nal state of the self-organizing map mode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1635120"/>
            <a:ext cx="8604360" cy="428148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lternate version of the self-organizing map model.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511280"/>
            <a:ext cx="8604360" cy="453060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x variants of the self-organizing map model.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193920" y="1079640"/>
            <a:ext cx="3695760" cy="5394240"/>
          </a:xfrm>
          <a:prstGeom prst="rect">
            <a:avLst/>
          </a:prstGeom>
          <a:ln w="0">
            <a:noFill/>
          </a:ln>
        </p:spPr>
      </p:pic>
      <p:sp>
        <p:nvSpPr>
          <p:cNvPr id="69" name=""/>
          <p:cNvSpPr/>
          <p:nvPr/>
        </p:nvSpPr>
        <p:spPr>
          <a:xfrm>
            <a:off x="3193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sage-dependent changes in the map.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373040"/>
            <a:ext cx="8604360" cy="480708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 “lesion” on the map model.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384720" y="1079640"/>
            <a:ext cx="3315960" cy="5394240"/>
          </a:xfrm>
          <a:prstGeom prst="rect">
            <a:avLst/>
          </a:prstGeom>
          <a:ln w="0">
            <a:noFill/>
          </a:ln>
        </p:spPr>
      </p:pic>
      <p:sp>
        <p:nvSpPr>
          <p:cNvPr id="79" name=""/>
          <p:cNvSpPr/>
          <p:nvPr/>
        </p:nvSpPr>
        <p:spPr>
          <a:xfrm>
            <a:off x="33847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yson N. Aflalo, and Michael S. A. Graziano J. Neurosci. 2006;26:6288-6297</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