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pparatus and task.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Posture during the training session. Each trial began with the hands positioned in home positions (white squares) 43 cm in front and 8 cm to either side of the subject’s midline. Subjects made an out-and-back movement of their right hand to one of three target locations (1–3, filled circles). Forces were applied to the left hand determined by the motion of the right hand. Arrows illustrate the direction of force generated during a straight-line outward movement to each target. On intermediate target trials, subjects made right-hand movements to a fourth target location (I, open circle).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Posture and target location (L, open circle) on left-arm rotation trial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Posture and target location (R, open circle) on right-arm rotation tria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daptation over the training sessio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Peak distance of left hand from home position. Mean across each set of six trials; height of shaded area indicates ±1 SE across subject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Magnitude of left-hand velocity at peak right-hand velocity toward target. Mean across each set of six trials; shaded area indicates ±1 SE.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Mean magnitude of force generated by left hand on catch trials at peak right-hand velocity toward target. Shaded area indicates ±1 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ime course and direction of left-hand forces during the training sessio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Mean left-hand force perpendicular (top) and parallel (bottom) to the right-hand target direction as a function of time from right-hand movement onset. The dotted line shows mean force applied by the manipulandum on field trials. Mean forces generated by subjects are plotted for the first catch trial (light gray dashed line) and averaged across catch trials 1–10 (mid-gray dashed line), 11–30 (dark gray dashed line), and 31–60 (solid line; shaded area represents ±1 SE across subjects).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rrows indicate mean force vectors generated on catch trials 31–60 for each training target, for a typical subject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small digits indicate data points from individual trials) and averaged across all subject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with 95% confidence ellipses). Dotted lines indicate direction of mean force vectors generated by the manipulandum on field trials for each targe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eneralization of learning. Mean force vectors (black arrows) generated on generalization trials, for a typical subject (</a:t>
            </a:r>
            <a:r>
              <a:rPr b="0" i="1" lang="en-GB" sz="1200" spc="-1" strike="noStrike">
                <a:solidFill>
                  <a:srgbClr val="000000"/>
                </a:solidFill>
                <a:latin typeface="Arial"/>
                <a:ea typeface="msgothic"/>
              </a:rPr>
              <a:t>A–C</a:t>
            </a:r>
            <a:r>
              <a:rPr b="0" lang="en-GB" sz="1200" spc="-1" strike="noStrike">
                <a:solidFill>
                  <a:srgbClr val="000000"/>
                </a:solidFill>
                <a:latin typeface="Arial"/>
                <a:ea typeface="msgothic"/>
              </a:rPr>
              <a:t>; with data points from individual trials) and averaged across all subjects (</a:t>
            </a:r>
            <a:r>
              <a:rPr b="0" i="1" lang="en-GB" sz="1200" spc="-1" strike="noStrike">
                <a:solidFill>
                  <a:srgbClr val="000000"/>
                </a:solidFill>
                <a:latin typeface="Arial"/>
                <a:ea typeface="msgothic"/>
              </a:rPr>
              <a:t>D–F</a:t>
            </a:r>
            <a:r>
              <a:rPr b="0" lang="en-GB" sz="1200" spc="-1" strike="noStrike">
                <a:solidFill>
                  <a:srgbClr val="000000"/>
                </a:solidFill>
                <a:latin typeface="Arial"/>
                <a:ea typeface="msgothic"/>
              </a:rPr>
              <a:t>; with 95% confidence ellipses). Training target forces are replotted for comparison (gray arrow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Intermediate target trials. Dashed line indicates 30°.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E</a:t>
            </a:r>
            <a:r>
              <a:rPr b="0" lang="en-GB" sz="1200" spc="-1" strike="noStrike">
                <a:solidFill>
                  <a:srgbClr val="000000"/>
                </a:solidFill>
                <a:latin typeface="Arial"/>
                <a:ea typeface="msgothic"/>
              </a:rPr>
              <a:t>, Left-arm rotation trials.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F</a:t>
            </a:r>
            <a:r>
              <a:rPr b="0" lang="en-GB" sz="1200" spc="-1" strike="noStrike">
                <a:solidFill>
                  <a:srgbClr val="000000"/>
                </a:solidFill>
                <a:latin typeface="Arial"/>
                <a:ea typeface="msgothic"/>
              </a:rPr>
              <a:t>, Right arm rotation tria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ctions and Consequences in Bimanual Interaction Are Represented in Different Coordinate System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Paul M. Bays, and Daniel M. Wolpert</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6(26):7121-712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28, 200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pparatus and task.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1535040"/>
            <a:ext cx="8604360" cy="4483080"/>
          </a:xfrm>
          <a:prstGeom prst="rect">
            <a:avLst/>
          </a:prstGeom>
          <a:ln w="0">
            <a:noFill/>
          </a:ln>
        </p:spPr>
      </p:pic>
      <p:sp>
        <p:nvSpPr>
          <p:cNvPr id="4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ul M. Bays, and Daniel M. Wolpert J. Neurosci. 2006;26:7121-712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daptation over the training session.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332160" y="1079640"/>
            <a:ext cx="3422520" cy="5394240"/>
          </a:xfrm>
          <a:prstGeom prst="rect">
            <a:avLst/>
          </a:prstGeom>
          <a:ln w="0">
            <a:noFill/>
          </a:ln>
        </p:spPr>
      </p:pic>
      <p:sp>
        <p:nvSpPr>
          <p:cNvPr id="54" name=""/>
          <p:cNvSpPr/>
          <p:nvPr/>
        </p:nvSpPr>
        <p:spPr>
          <a:xfrm>
            <a:off x="3332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ul M. Bays, and Daniel M. Wolpert J. Neurosci. 2006;26:7121-712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ime course and direction of left-hand forces during the training sess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739800" y="2482920"/>
            <a:ext cx="8604360" cy="2587680"/>
          </a:xfrm>
          <a:prstGeom prst="rect">
            <a:avLst/>
          </a:prstGeom>
          <a:ln w="0">
            <a:noFill/>
          </a:ln>
        </p:spPr>
      </p:pic>
      <p:sp>
        <p:nvSpPr>
          <p:cNvPr id="59"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ul M. Bays, and Daniel M. Wolpert J. Neurosci. 2006;26:7121-712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eneralization of learning.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490760"/>
            <a:ext cx="8604360" cy="4570200"/>
          </a:xfrm>
          <a:prstGeom prst="rect">
            <a:avLst/>
          </a:prstGeom>
          <a:ln w="0">
            <a:noFill/>
          </a:ln>
        </p:spPr>
      </p:pic>
      <p:sp>
        <p:nvSpPr>
          <p:cNvPr id="6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ul M. Bays, and Daniel M. Wolpert J. Neurosci. 2006;26:7121-7126</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