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sign of the study. A , Adult neurogenesis in the hippocampal dentate gyrus consists of a process beginning with DNA replication during proliferation of uncommitted progenitor–stem cells that subsequently undergo lineage commitment. Not all newly generated cells survive, and it is the combination of survival and lineage commitment that determines the extent to which new neurons are added to the hippocampus. This study evaluated the modulation of stress on several stages of this continuum of neurogenesis. B , To discriminate the effect of stress on cellular proliferation and immediate survival, two different thymidine analogs, IdU and CldU, were sequentially delivered because they can be separately detected by immunohistochemistry. IdU was administered first to provide a measure of immediate survival, and the episode of acute stress coincided with administration of CldU to evaluate stress modulation of proliferation when assessed the next day (day 4). C , To assess the stress effect on short-term survival, a cohort of proliferating cells was identified by incorporation of another thymidine analog, BrdU, coincident with an episode of acute stress, and evaluated for short-term survival after 1 week (day 10). D , To further discriminate between proliferation and survival, a cohort of newly generated cells was identified by BrdU administration and subjected to acute stress 1 week after birth and evaluated for long-term survival after 4 weeks (day 28). Arrows indicate thymidine analog delivery (two times daily); triangles indicate time of tissue col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aradigm for acute psychosocial stress. A , A young naive male rat (intruder; marked with the black X) was introduced into a stable colony of two rats whose female companion had just been removed. B , During initial exploration, the colony rats became aggressive, and the intruder rat (black X) exhibited submissive behavior. C , D , The aggression continued, with the intruder rat being pinned down and bitt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4136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histochemical detection of halogenated thymidine analogs. Animals that had been administered IdU for 2 d followed by CldU coincident with experiencing the episode of stress were evaluated 1 d later (Fig. 1 B, experiment 1). A , B , Sections from control ( A ) or intruder ( B ) rats were stained with calbindin (red) to identify the granule cell layer of the dentate gyrus. C , D , Detection of CldU (green) identified cells that were undergoing DNA replication on the day of the psychosocial stress episode. E , F , Detection of IdU (blue) identified cells that had been generated immediately before the stress episode. Examination of the merged image permits additional detection of cells that coexpress both IdU and CldU, indicating cells that have reentered the cell cycle during the presence of these two thymidine analogs. There is no apparent difference between control rats ( A , C , E , G ) and intruder rats ( B , D , F , H ). Scale bar: (in A ) A–H , 100 μm. In addition, coexpression of IdU ( I , red) and CldU ( J , blue) with DCX ( K , green) in the subgranular zone of the dentate gyrus was assessed to evaluate the phenotypic distribution of newly generated cells with this marker of early neuronal linage commitment. L , A single focal plane from a sequential series of confocal micrographs from an intruder animal is shown merged. The separation of fluorescence emission in I–K reveals that some IdU-positive cells coexpress DCX (yellow arrows) and some do not (white arrow). Some IdU-positive cells also incorporate CldU (arrowheads), indicating that they had just reentered the cell cycle. In this example, the IdU+/CldU+ cells coexpress DCX, although dual-labeled cells and IdU−/CldU+ cells can be observed that do not coexpress DCX (data not shown). Not all DCX-positive cells in the subgranular zone are engaged in DNA replication (asterisks). Scale bar: (in I ) I–L , 2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hort-term survival of newly generated cells is reduced by stress. A , B , Histological evaluation of BrdU-positive cells in animals examined 1 week after the stress episode (Fig. 1 C, experiment 2) revealed a robust population of BrdU-positive cells in the dentate gyrus of control animals ( A ), but an obvious reduction in cell number for intruder rats ( B ). C–F , Higher magnification of the boxed region shows BrdU-positive cells at various focal planes. Some cells present at one focal plane ( C , D , arrows) are not observed at a deeper focal plane when other BrdU-positive cells come into focus ( E , F , arrowheads). The three-dimensional distribution of cells within the section thickness shows the need for stereological quantitation. Scale bars: A , B , 250 μm; C–F , 25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uronal differentiation of newly generated cells. Shown is the immunohistochemical detection of BrdU-positive cells in animals that had received BrdU 1 week before experiencing the single episode of psychosocial stress and that were examined at 4 weeks to evaluate their long-term survival (Fig. 1 D, experiment 3). A , B , Cells generated during the delivery of BrdU (green) before the stress episode could be observed in the dentate gyrus of both control and intruder animals. C–F , In both cases, the BrdU-positive cells frequently coexpressed the mature neuronal marker NeuN (red), but only very rarely was any colocalization observed with the mature astrocytic marker S100β (blue). Colocalization was determined on the basis of three-dimensional analysis of coexpression within the same cell imaged by using sequential focal planes obtained by confocal microscopy. Scale bar: (in A ) A–F , 50 μ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ute Psychosocial Stress Reduces Cell Survival in Adult Hippocampal Neurogenesis without Altering Prolifer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osanne M. Thomas, Gregory Hotsenpiller, and Daniel A. Peter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11):2734-274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4,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sign of the stud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523960" y="1079640"/>
            <a:ext cx="5038920" cy="5394240"/>
          </a:xfrm>
          <a:prstGeom prst="rect">
            <a:avLst/>
          </a:prstGeom>
          <a:ln w="0">
            <a:noFill/>
          </a:ln>
        </p:spPr>
      </p:pic>
      <p:sp>
        <p:nvSpPr>
          <p:cNvPr id="49" name=""/>
          <p:cNvSpPr/>
          <p:nvPr/>
        </p:nvSpPr>
        <p:spPr>
          <a:xfrm>
            <a:off x="252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sanne M. Thomas et al. J. Neurosci. 2007;27:2734-274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radigm for acute psychosocial stres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027080" y="1079640"/>
            <a:ext cx="8032680" cy="5394240"/>
          </a:xfrm>
          <a:prstGeom prst="rect">
            <a:avLst/>
          </a:prstGeom>
          <a:ln w="0">
            <a:noFill/>
          </a:ln>
        </p:spPr>
      </p:pic>
      <p:sp>
        <p:nvSpPr>
          <p:cNvPr id="54" name=""/>
          <p:cNvSpPr/>
          <p:nvPr/>
        </p:nvSpPr>
        <p:spPr>
          <a:xfrm>
            <a:off x="1027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sanne M. Thomas et al. J. Neurosci. 2007;27:2734-274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histochemical detection of halogenated thymidine analog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854520" y="1079640"/>
            <a:ext cx="2376360" cy="5394240"/>
          </a:xfrm>
          <a:prstGeom prst="rect">
            <a:avLst/>
          </a:prstGeom>
          <a:ln w="0">
            <a:noFill/>
          </a:ln>
        </p:spPr>
      </p:pic>
      <p:sp>
        <p:nvSpPr>
          <p:cNvPr id="59" name=""/>
          <p:cNvSpPr/>
          <p:nvPr/>
        </p:nvSpPr>
        <p:spPr>
          <a:xfrm>
            <a:off x="385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sanne M. Thomas et al. J. Neurosci. 2007;27:2734-274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hort-term survival of newly generated cells is reduced by stres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506680" y="1079640"/>
            <a:ext cx="5072040" cy="5394240"/>
          </a:xfrm>
          <a:prstGeom prst="rect">
            <a:avLst/>
          </a:prstGeom>
          <a:ln w="0">
            <a:noFill/>
          </a:ln>
        </p:spPr>
      </p:pic>
      <p:sp>
        <p:nvSpPr>
          <p:cNvPr id="64" name=""/>
          <p:cNvSpPr/>
          <p:nvPr/>
        </p:nvSpPr>
        <p:spPr>
          <a:xfrm>
            <a:off x="2506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sanne M. Thomas et al. J. Neurosci. 2007;27:2734-274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uronal differentiation of newly generated cel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249720" y="1079640"/>
            <a:ext cx="3585960" cy="5394240"/>
          </a:xfrm>
          <a:prstGeom prst="rect">
            <a:avLst/>
          </a:prstGeom>
          <a:ln w="0">
            <a:noFill/>
          </a:ln>
        </p:spPr>
      </p:pic>
      <p:sp>
        <p:nvSpPr>
          <p:cNvPr id="69" name=""/>
          <p:cNvSpPr/>
          <p:nvPr/>
        </p:nvSpPr>
        <p:spPr>
          <a:xfrm>
            <a:off x="324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sanne M. Thomas et al. J. Neurosci. 2007;27:2734-274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