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ring rates and time–frequency analysis of the LFP. A, Mean firing rates of the three neuron types (excited, inhibited, and not-driven) as a function of stimulus amplitude. B, Time–frequency power differences (in decibels) from baseline (200–50 ms before stimulus onset) in the local field potential as a function of stimulus amplitude for the three neuron typ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 analysis. A, The mean STA of all recorded neurons. The STA is constructed from spikes taken from the baseline period (shown in gray) or early stimulus period (50–200 ms, black). B, Atomic decomposition of the STA constructed from spikes in the baseline period. The first three atoms with center positions close to t = 0 (the time at which action potential was generated as determined by window discrimination), in order of decreasing energy, are described in the legend. f, Center frequency (in hertz) of each atom (corresponds to ω/2π in Eq. 2). The estimated STA (black dotted line) is constructed by adding the three ato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fferent components of the STA decomposed using MP. A, The average raw STA of the entire neural population during the baseline (dotted line) and during the early stimulus period (in different shades of gray for the four stimulus intensities). For each STA, the MP algorithm was used to decompose the signal into atoms with different center frequencies, and then the local components were reconstructed by adding atoms with center frequencies in specific frequency bands. B, The “low-frequency component” reconstructed from atoms with center frequencies between 10 and 40 Hz. The signals from individual STAs were averaged over the entire neural population. C, The sharp transient component obtained by adding the atoms with center frequency of either 0 (similar to the magenta trace in Fig. 2B) or &gt; 200 Hz. D, Low-gamma component obtained by adding atoms with center frequencies between 40 and 60 Hz. E, High-gamma component obtained by adding atoms with center frequencies between 60 and 150 Hz.</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rmalized spike-triggered time–frequency average (D statistic; Eq. 4). A, Top, Mean STA of the three neuron categories, constructed from spikes taken from the baseline period. Bottom, Normalized STTFA at baseline [i.e., D(bl)]. B, Normalized STTFA at the early stimulus period [i.e., D(esp)] as a function of gain for the different types of neur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low-gamma phase with stimulus amplitude. A, Time of the peak negativity in the low-gamma component (as described in Fig. 3D) for the three different neuron types at baseline and four different stimulus intensities. B, Histogram of times at which the peak negativity was observed in the low-gamma component. The histograms of the three neuron types were similar; hence, the data were pooled. C, Time at which the low-gamma energy in the STTFA (computed by averaging the energy between −5 and 10 ms and between 40 and 60 Hz) is highest (same panel configuration as in A). D, Histogram of the peak power times as described in C (same panel configuration as in B). Error bars indicate S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high-gamma phase with stimulus amplitude. The panel configurations are the same as those in Figure 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ffect of Stimulus Intensity on the Spike–Local Field Potential Relationship in the Secondary Somatosensory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upratim Ray, Steven S. Hsiao, Nathan E. Crone, Piotr J. Franaszczuk, and Ernst Niebu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8(29):7334-734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6, 200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ring rates and time–frequency analysis of the LFP. A, Mean firing rates of the three neuron types (excited, inhibited, and not-driven) as a function of stimulus amplitud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019320" y="1079640"/>
            <a:ext cx="4046760" cy="5394240"/>
          </a:xfrm>
          <a:prstGeom prst="rect">
            <a:avLst/>
          </a:prstGeom>
          <a:ln w="0">
            <a:noFill/>
          </a:ln>
        </p:spPr>
      </p:pic>
      <p:sp>
        <p:nvSpPr>
          <p:cNvPr id="49" name=""/>
          <p:cNvSpPr/>
          <p:nvPr/>
        </p:nvSpPr>
        <p:spPr>
          <a:xfrm>
            <a:off x="3019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pratim Ray et al. J. Neurosci. 2008;28:7334-734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 analysi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386080" y="1079640"/>
            <a:ext cx="5315040" cy="5394240"/>
          </a:xfrm>
          <a:prstGeom prst="rect">
            <a:avLst/>
          </a:prstGeom>
          <a:ln w="0">
            <a:noFill/>
          </a:ln>
        </p:spPr>
      </p:pic>
      <p:sp>
        <p:nvSpPr>
          <p:cNvPr id="54" name=""/>
          <p:cNvSpPr/>
          <p:nvPr/>
        </p:nvSpPr>
        <p:spPr>
          <a:xfrm>
            <a:off x="2386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pratim Ray et al. J. Neurosci. 2008;28:7334-734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fferent components of the STA decomposed using MP. A, The average raw STA of the entire neural population during the baseline (dotted line) and during the early stimulus period (in different shades of gray for the four stimulus intensiti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108080" y="1079640"/>
            <a:ext cx="7869240" cy="5394240"/>
          </a:xfrm>
          <a:prstGeom prst="rect">
            <a:avLst/>
          </a:prstGeom>
          <a:ln w="0">
            <a:noFill/>
          </a:ln>
        </p:spPr>
      </p:pic>
      <p:sp>
        <p:nvSpPr>
          <p:cNvPr id="59" name=""/>
          <p:cNvSpPr/>
          <p:nvPr/>
        </p:nvSpPr>
        <p:spPr>
          <a:xfrm>
            <a:off x="1108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pratim Ray et al. J. Neurosci. 2008;28:7334-734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rmalized spike-triggered time–frequency average (D statistic; Eq. 4).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154320" y="1079640"/>
            <a:ext cx="3776760" cy="5394240"/>
          </a:xfrm>
          <a:prstGeom prst="rect">
            <a:avLst/>
          </a:prstGeom>
          <a:ln w="0">
            <a:noFill/>
          </a:ln>
        </p:spPr>
      </p:pic>
      <p:sp>
        <p:nvSpPr>
          <p:cNvPr id="64" name=""/>
          <p:cNvSpPr/>
          <p:nvPr/>
        </p:nvSpPr>
        <p:spPr>
          <a:xfrm>
            <a:off x="3154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pratim Ray et al. J. Neurosci. 2008;28:7334-734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low-gamma phase with stimulus amplitud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100320" y="1079640"/>
            <a:ext cx="3886200" cy="5394240"/>
          </a:xfrm>
          <a:prstGeom prst="rect">
            <a:avLst/>
          </a:prstGeom>
          <a:ln w="0">
            <a:noFill/>
          </a:ln>
        </p:spPr>
      </p:pic>
      <p:sp>
        <p:nvSpPr>
          <p:cNvPr id="69" name=""/>
          <p:cNvSpPr/>
          <p:nvPr/>
        </p:nvSpPr>
        <p:spPr>
          <a:xfrm>
            <a:off x="3100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pratim Ray et al. J. Neurosci. 2008;28:7334-734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high-gamma phase with stimulus amplitud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100320" y="1079640"/>
            <a:ext cx="3886200" cy="5394240"/>
          </a:xfrm>
          <a:prstGeom prst="rect">
            <a:avLst/>
          </a:prstGeom>
          <a:ln w="0">
            <a:noFill/>
          </a:ln>
        </p:spPr>
      </p:pic>
      <p:sp>
        <p:nvSpPr>
          <p:cNvPr id="74" name=""/>
          <p:cNvSpPr/>
          <p:nvPr/>
        </p:nvSpPr>
        <p:spPr>
          <a:xfrm>
            <a:off x="3100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upratim Ray et al. J. Neurosci. 2008;28:7334-734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8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