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rectional modulation of bihemispheric M1 unit activity. A, Schematic of the experimental setup for recording spike and LFP activity from both the ipsilateral and contralateral M1 during the performance of a center-out reaching task with the right upper limb. B, Hand trajectories during performance of the center-out task. C, Directional modulation of the firing rate of a single neuron. Panels above respectively show 150 randomly selected waveform traces and the interspike-interval distribution. Solid line is the cosine fit for directional modulation. Error bars are the SEM. D, Fraction of units from each hemisphere that were significantly modulated. Error bars are the SEM. Circles above show the distribution of preferred directions from Monkey 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al- time decoding of ipsilateral upper limb parameters from M1 spike activity. A, Continuous illustration of shoulder (top) and elbow (bottom) angular position and spiking data from each hemisphere. Each dot represents a single spike. B, Predictions of elbow and shoulder position from ensembles of ipsilateral and contralateral spike activity. Dark traces show the movements across time. Whereas the red trace shows the prediction from contralateral M1, the green trace shows that for ipsilateral M1. R is the correlation between the predicted and the actual traces. C, Neuron-dropping curves to illustrate the relationship between ensemble size and predictive ability for both angular position and velocity for Monkey P and R. Dotted line (shoulder), Solid line (elb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emporal evolution of upper limb movement parameters. Each curve shows the temporal evolution of the predictive ability of ensemble of neurons from either the contralateral or ipsilateral M1 (mean ± SEM). Ensemble predictions of limb position were performed using a single bin of data (10 ms bin size) lagged from the onset of movement (step size = 10 ms, nonoverlapping). The peak of each curve was normalized to 1 before generation of the mean curves show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MG activity during performance of the center-out task. Representative examples of the directional modulation of the right (R) biceps and the left (L) pectoralis EMG. Each dot represents the mean activity in a 300 ms window after movement onset. Traces on the right show the mean (dark line) ± SEM (thin line) EMG activity to two targets. p &lt; 0.001; ANOV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erimental setup and task characteristics. A, Electrode placement overlain on the brain MRI of subject 1. B, Actual hand trajectories during performance of the center-out reaching task. The dimensions of the workspace were 20 × 20 cm. C, Multiple examples of the velocity profiles for movements from the center (i.e., during period marked as “Hold”) to the target. Profiles for all targets are shown in an overlapping mann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construction of hand position from ECoG data. A, Prediction of hand position from either the ipsilateral or the contralateral ECoG activity. Dark traces show the actual movements. Red trace shows the prediction of the contralateral hand position; green trace shows that for the ipsilateral hand. R is the correlation between the predicted and the actual traces. B, Color map illustrating the relationship between the anatomical locations of electrodes and its predictive ability. Superimposed on the brain image is the predictive ability of individual electrodes. CS, Central sulcus; SF, Sylvian Fissure. C, Quantification of the relationship between the time series or the frequency band and the ability to predict movement parameters. In this analysis, only the information from a single band was included in the mode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losed-loop BMI using the ipsilateral neural representation of arm movements. A, Schematic illustrating cursor control by M1-ipsi. B, Representative traces of the cursor movement from the center to each of the eight targe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rtical Representation of Ipsilateral Arm Movements in Monkey and Ma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arunesh Ganguly, Lavi Secundo, Gireeja Ranade, Amy Orsborn, Edward F. Chang, Dragan F. Dimitrov, Jonathan D. Wallis, Nicholas M. Barbaro, Robert T. Knight, and Jose M. Carmen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9(41):12948-1295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4, 200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rectional modulation of bihemispheric M1 unit activity.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995480" y="1079640"/>
            <a:ext cx="6094440" cy="5394240"/>
          </a:xfrm>
          <a:prstGeom prst="rect">
            <a:avLst/>
          </a:prstGeom>
          <a:ln w="0">
            <a:noFill/>
          </a:ln>
        </p:spPr>
      </p:pic>
      <p:sp>
        <p:nvSpPr>
          <p:cNvPr id="49" name=""/>
          <p:cNvSpPr/>
          <p:nvPr/>
        </p:nvSpPr>
        <p:spPr>
          <a:xfrm>
            <a:off x="1995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runesh Ganguly et al. J. Neurosci. 2009;29:12948-1295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al- time decoding of ipsilateral upper limb parameters from M1 spike activity.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739800" y="1346040"/>
            <a:ext cx="8604360" cy="485964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runesh Ganguly et al. J. Neurosci. 2009;29:12948-1295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emporal evolution of upper limb movement parameter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476360" y="1079640"/>
            <a:ext cx="7134120" cy="5394240"/>
          </a:xfrm>
          <a:prstGeom prst="rect">
            <a:avLst/>
          </a:prstGeom>
          <a:ln w="0">
            <a:noFill/>
          </a:ln>
        </p:spPr>
      </p:pic>
      <p:sp>
        <p:nvSpPr>
          <p:cNvPr id="59" name=""/>
          <p:cNvSpPr/>
          <p:nvPr/>
        </p:nvSpPr>
        <p:spPr>
          <a:xfrm>
            <a:off x="1476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runesh Ganguly et al. J. Neurosci. 2009;29:12948-1295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MG activity during performance of the center-out task.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792440"/>
            <a:ext cx="8604360" cy="396684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runesh Ganguly et al. J. Neurosci. 2009;29:12948-1295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erimental setup and task characteristic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312920"/>
            <a:ext cx="8604360" cy="492768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runesh Ganguly et al. J. Neurosci. 2009;29:12948-1295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construction of hand position from ECoG data.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839960" y="1079640"/>
            <a:ext cx="6405480" cy="5394240"/>
          </a:xfrm>
          <a:prstGeom prst="rect">
            <a:avLst/>
          </a:prstGeom>
          <a:ln w="0">
            <a:noFill/>
          </a:ln>
        </p:spPr>
      </p:pic>
      <p:sp>
        <p:nvSpPr>
          <p:cNvPr id="74" name=""/>
          <p:cNvSpPr/>
          <p:nvPr/>
        </p:nvSpPr>
        <p:spPr>
          <a:xfrm>
            <a:off x="1839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runesh Ganguly et al. J. Neurosci. 2009;29:12948-12956</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losed-loop BMI using the ipsilateral neural representation of arm movement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739800" y="1649520"/>
            <a:ext cx="8604360" cy="4254480"/>
          </a:xfrm>
          <a:prstGeom prst="rect">
            <a:avLst/>
          </a:prstGeom>
          <a:ln w="0">
            <a:noFill/>
          </a:ln>
        </p:spPr>
      </p:pic>
      <p:sp>
        <p:nvSpPr>
          <p:cNvPr id="7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arunesh Ganguly et al. J. Neurosci. 2009;29:12948-12956</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9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