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enter-out with rotation task and hand kinematics. The subject's 3D hand position and hand orientation in the frontal plane were mapped directly to the position and orientation of the orange cursor in the virtual reality simulator. A, The subject started each movement from a center target with vertical orientation. B, In this example, the subject reached for a target at the forward, upper, and right corner of the workspace with clockwise rotation of the hand. C, The monkey captured the target. D, E, Average 3D hand trajectory and hand orientation in the frontal plane for eight peripheral targets with counterclockwise and clockwise rotation, respectively. Position of the black dots represents the instantaneous 3D hand position. Orientation of the small red vertical lines indicates hand orientation in the frontal plane at four time points: start of movement, one-third into movement, two-thirds into movement, and end of movement (length of the small vertical line is arbitrary). At the time points corresponding to start and end of movement, blue “+” signs were plotted to indicate the horizontal and vertical directions to facilitate the visualization of hand rotation. Hand kinematics was also plotted as a function of time in supplemental Figure 8 (available at www.jneurosci.org as supplemental material). Note that hand translation and rotation occurred simultaneously, as further demonstrated by supplemental Figures 1 and 2 (available at www.jneurosci.org as supplemental materia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pike rasters of two representative motor cortical neurons tuned to both translation and rotation from two separate monkeys (A, B). All rasters are aligned to movement onset time (time 0, red line). Thin black vertical lines indicate occurrences of spikes from 0.5 s before movement onset to 1 s after movement onset. Rasters are divided into four groups by the dotted lines. Those four groups correspond to four targets, i.e., four different combinations of translation and rotation. The top and bottom rows correspond to movements with CW and CCW rotations, respectively. The left and right columns correspond to movements along the preferred translational direction (+PD) and movements opposite to the preferred translational direction (−PD), respectively. Difference in spike rate between the left and right columns indicates translational tuning, while difference in spike rate between the top and bottom rows indicates rotational tun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euronal encoding of both translation and rotation in a gain field manner. A, For each rotation direction, firing rate of a representative M1 neuron was plotted as a function of translation direction, with 0° indicating the PD. Firing rates corresponding to different rotation directions are marked with different symbols, and error bars indicate SEs. For CCW rotation, the neuron achieved maximum firing rate when the hand was translating along its PD, agreeing with the cosine tuning model. For CW rotation, there was no difference in firing rate across different translation directions. This suggests that this M1 neuron encodes both translation and rotation in a multiplicative, or gain field, manner. B, Generalized tuning curves were made by normalizing the firing rate data of individual neurons and averaging across all 131 neurons modulated by nonlinear interaction between translation and rotation. Round dots, squares, and triangles correspond to rotation conditions with the strongest, medium, and the weakest neuronal responses, respectively. Data points represented by the same symbols make up a cosine tuning curve for hand translation. Data from 0° to 180° were mirrored to −180° to 0° for visualization purpose. Similar to single neuron responses, the cosine tuning curves were modulated by a gain field encoding hand ro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Motor Cortical Representation of Hand Translation and Rotation during Reaching</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Wei Wang, Sherwin S. Chan, Dustin A. Heldman, and Daniel W. Mora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0(3):958-96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20, 2010</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enter-out with rotation task and hand kinematic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1657440" y="1079640"/>
            <a:ext cx="6770520" cy="5394240"/>
          </a:xfrm>
          <a:prstGeom prst="rect">
            <a:avLst/>
          </a:prstGeom>
          <a:ln w="0">
            <a:noFill/>
          </a:ln>
        </p:spPr>
      </p:pic>
      <p:sp>
        <p:nvSpPr>
          <p:cNvPr id="49" name=""/>
          <p:cNvSpPr/>
          <p:nvPr/>
        </p:nvSpPr>
        <p:spPr>
          <a:xfrm>
            <a:off x="1657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Wei Wang et al. J. Neurosci. 2010;30:958-962</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pike rasters of two representative motor cortical neurons tuned to both translation and rotation from two separate monkeys (A, B).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933640" y="1079640"/>
            <a:ext cx="4219560" cy="5394240"/>
          </a:xfrm>
          <a:prstGeom prst="rect">
            <a:avLst/>
          </a:prstGeom>
          <a:ln w="0">
            <a:noFill/>
          </a:ln>
        </p:spPr>
      </p:pic>
      <p:sp>
        <p:nvSpPr>
          <p:cNvPr id="54" name=""/>
          <p:cNvSpPr/>
          <p:nvPr/>
        </p:nvSpPr>
        <p:spPr>
          <a:xfrm>
            <a:off x="2933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Wei Wang et al. J. Neurosci. 2010;30:958-962</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euronal encoding of both translation and rotation in a gain field manner.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622680" y="1079640"/>
            <a:ext cx="2841480" cy="5394240"/>
          </a:xfrm>
          <a:prstGeom prst="rect">
            <a:avLst/>
          </a:prstGeom>
          <a:ln w="0">
            <a:noFill/>
          </a:ln>
        </p:spPr>
      </p:pic>
      <p:sp>
        <p:nvSpPr>
          <p:cNvPr id="59" name=""/>
          <p:cNvSpPr/>
          <p:nvPr/>
        </p:nvSpPr>
        <p:spPr>
          <a:xfrm>
            <a:off x="3622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Wei Wang et al. J. Neurosci. 2010;30:958-962</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