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lygraphic recordings of wake–sleep stages and the selective REM deprivation protocol. Representative polygraphic traces of the cortical electroencephalogram (C-EEG), neck muscle electromyogram (N-EMG), and hippocampal EEG (H-EEG) recorded simultaneously from a freely moving adult rat. The figure shows the polygraphic appearance of wakefulness (A), slow-wave sleep (B), and REM sleep (C). D shows an example of a REM sleep episode that was prematurely terminated (within 3 s) using our selective REM sleep deprivation protocol. In D, the solid vertical line indicates the end of a tS-R (a transitional state between SWS and REM sleep) and the beginning of a REM sleep episode. The dashed vertical line marks the end of the prematurely terminated REM sleep episode. Note a brief period of W at the end of this REM episode that ultimately changed to SWS, demonstrating that our selective REM sleep deprivation method did not increase the amount of time spent in W by increasing motor activity, and also did not decrease the amount of time spent in SWS. The bar indicates a 5 s time sca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selective REM sleep deprivation and RpCAMPS microinjections into the PPT on wake–sleep states. A, Experimental design: Group 1 rats were allowed to have a 3 h period (9:00 A.M. to 12:00 P.M.) of undisturbed sleep–wake (S–W) cycle with REM sleep, and while they are being recorded received microinjection of vehicle control (100 nl/site) bilaterally into the PPT at 12:00 P.M., followed by a 2 h period (12:00 P.M. to 2:00 P.M.) of undisturbed S–W with REM sleep. Experimental protocol for group 2 was identical to group 1, except REM sleep episodes in group 2 rats were selectively terminated from the ongoing S–W cycle during the first 3 h period (9:00 A.M. to 12:00 P.M.). Experimental protocol for groups 3–5 were identical to group 2, except group 3 received 0.55 nmol of RpCAMPS (D1-Rp-CAMPS), group 4 received 1.1 nmol of RpCAMPS (D2-Rp-CAMPS), and group 5 received 2.2 nmol of RpCAMPS (D3-Rp-CAMPS) microinjections (100 nl/site). B–D, Histograms showing the total percentages of time spent (mean ± SE) in W (B), SWS (C), and REM sleep (D) during the 3 h period of preinjection and 2 h period of postinjection S–W data. UR-VC-UR, unrestricted REM sleep-vehicle control-unrestricted REM sleep; RD-VC-UR, REM sleep deprivation-vehicle control-unrestricted REM sleep; RD-D1-UR, REM sleep deprivation-dose 1 Rp-CAMPS-unrestricted REM sleep; RD-D2-UR, REM sleep deprivation-dose 2 Rp-CAMPS-unrestricted REM sleep; RD-D3-UR, REM sleep deprivation-dose 3 Rp-CAMPS-unrestricted REM sleep. Post hoc tests (Bonferroni posttest): **p &lt; 0.01 and ***p &lt; 0.001, compared with group 1 (UR-VC-UR); ΔΔΔp &lt; 0.001, compared with group 2 (RD-VC-U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71103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recovery REM sleep and expression of PKA catalytic subunit protein (PKA-CU) in the PPT. A, Representative Western blots of PKA-CU and actin in the PPT from UR-VC-UR, RD-VC-UR, RD-D1-UR, RD-D2-UR, and RD-D3-UR groups of animals (note that the lanes are random; the technician performing Western blotting and densitometric analysis was blind to experimental group). B, Data from densitometric analysis of Western blots of PPT PKA-CU expressed as a percentage of control (Gr. 1, UR-VC-UR). Each bar represents the level of the PPT PKA-CU expression (mean ± SE) of animals (n = 8/group) in group 1 (UR-VC-UR), group 2 (RD-VC-UR), group 3 (RD-D1-UR), group 4 (RD-D2-UR), and group 5 (RD-D3-UR). Note that 2 h after selective REM sleep deprivation and microinjections of vehicle control, PPT levels of PKA-CU expression increased (group 2). Also note that, with the microinjections of three different concentrations (0.55, 1.1, and 2.2 nmol/100 nl) of Rp-CAMPS into the PPT in three different groups of animals (groups 3, 4, and 5), PPT levels of PKA-CU expression decreased in a dose-dependent manner. Post hoc tests (Bonferroni's multiple-comparison test): ***p &lt; 0.001, compared with group 1 (UR-VC-UR); ΔΔΔp &lt; 0.001, compared with group 2 (RD-VC-UR). C–E, The level of PKA-CU expression in the PPT for each animal (n = 40 rats) is shown as a function of the percentage of time spent in REM sleep (C), wakefulness (D), and SWS (E) during the 2 h period (12:00 P.M. to 2:00 P.M.) of recovery sleep–wake (S–W) cycle. Because some of the data points have identical values, not all 40 data points are visible in C–E. C, Plot of linear regression best fit (solid line; Pearson product-moment correlation) shows a statistically significant positive slope (Rsqr = 0.937; p &lt; 0.001). These data indicate that the level of PKA-CU expression in the PPT depends positively on the percentage of recovery REM sleep in the period of recovery S–W cycle. D, Plot of linear regression best fit did not reveal any significant relationship between the levels of PKA-CU expression in the PPT and total percentages of time spent in wakefulness (Rsqr = 0.143; p = 0.360). These data indicate that the level of PKA-CU expression in the PPT did not vary as a function of wakefulness in the period of recovery S–W cycle. E, Plot of linear regression best fit revealed a significant negative relationship between the levels of PKA-CU expression in the PPT and total percentages of time spent in SWS (Rsqr = 0.936; p &lt; 0.001). These data indicate that the level of PKA-CU expression in the PPT depends negatively on the percentage of SWS in the period of recovery S–W cycle. UR-VC-UR, unrestricted REM sleep-vehicle control-unrestricted REM sleep; RD-VC-UR, REM sleep deprivation-vehicle control-unrestricted REM sleep; RD-D1-UR, REM sleep deprivation-dose 1 Rp-CAMPS-unrestricted REM sleep; RD-D2-UR, REM sleep deprivation-dose 2 Rp-CAMPS-unrestricted REM sleep; and RD-D3-UR, REM sleep deprivation-dose 3 Rp-CAMPS-unrestricted REM sleep. Post hoc tests (Bonferroni posttest): **p &lt; 0.01 and ***p &lt; 0.001, compared with group 1 (UR-VC-UR); ΔΔΔp &lt; 0.001, compared with group 2 (RD-VC-U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8000"/>
            <a:ext cx="5407200" cy="77724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recovery REM sleep and activation of PKA in the PPT. A, Representative agarose gel, visualized with UV light, showing the activity profile of the PKA in the PPT from UR-VC-UR, RD-VC-UR, RD-D1-UR, RD-D2-UR, RD-D3-UR, and RD-VC-RD groups of animals (note that the lanes are random; the technician performing Western blotting and densitometric analysis was blind to experimental group). The bottom band represents phosphorylated fluorescent-labeled Kemptide (P), and the top band represents the remaining unphosphorylated peptide (S). In the gel, phosphorylated product migrated toward the anode (+), and unphosphorylated peptide migrated toward the cathode (−). −Ve Control, no protein or enzyme added; +Ve control, Purified catalytic subunit of PKA (20 ng); in each experimental sample 2 μg of protein added. B, Data from densitometric analysis of PPT PKA activity are expressed as a percentage of control (Gr. 1, UR-VC-UR). Each bar represents PPT PKA activity level (mean ± SE) of the animals (n = 8/group) in group 1 (UR-VC-UR), group 2 (RD-VC-UR), group 3 (RD-D1-UR), group 4 (RD-D2-UR), and group 5 (RD-D3-UR). Note that 2 h after the selective REM sleep deprivation and microinjections of vehicle control, PPT PKA activity levels increased (group 2). Also note that after microinjections of three different concentrations (0.55, 1.1, and 2.2 nmol/100 nl) of Rp-CAMPS into the PPT in three different groups of animals (groups 3, 4, and 5), PPT PKA activity levels decreased in a dose-dependent manner. Post hoc tests (Bonferroni's multiple-comparison test): ***p &lt; 0.001, compared with group 1 (UR-VC-UR); ΔΔΔp &lt; 0.001, compared with group 2 (RD-VC-UR). C–E, The level of PKA activity in the PPT for each animal (n = 40 rats) is shown as a function of the percentage of time spent in REM sleep (C), wakefulness (D), and SWS (E) during the 2 h period (12:00 P.M. to 2:00 P.M.) of recovery sleep–wake (S–W) cycle. Because some of the data points have identical values, not all 40 data points are visible in C–E. C, Plot of linear regression best fit (solid line; Pearsons product-moment correlation) shows a statistically significant positive slope (Rsqr = 0.944; p &lt; 0.001). These data indicate that the level of PKA activity in the PPT depends positively on the percentage of recovery REM sleep in the period of recovery S–W cycle. D, Plot of linear regression best fit did not reveal any significant relationship between the levels of PKA activity in the PPT and total percentages of time spent in wakefulness (Rsqr = 0.125; p = 0.373). These data indicate that the level of PKA activity in the PPT did not vary as a function of wakefulness in the period of recovery S–W cycle. E, Plot of linear regression best fit revealed a significant negative relationship between levels of PKA activity in the PPT and total percentages of time spent in SWS (Rsqr = 0.903; p &lt; 0.001). These data indicate that the level of PKA activity in the PPT depends negatively on the percentage of SWS in the period of recovery S–W cycle. UR-VC-UR, unrestricted REM sleep-vehicle control-unrestricted REM sleep; RD-VC-UR, REM sleep deprivation-vehicle control-unrestricted REM sleep; RD-D1-UR, REM sleep deprivation-dose 1 Rp-CAMPS-unrestricted REM sleep; RD-D2-UR, REM sleep deprivation-dose 2 Rp-CAMPS-unrestricted REM sleep; RD-D3-UR, REM sleep deprivation-dose 3 Rp-CAMPS-unrestricted REM sleep; RD-VC-RD, REM sleep deprivation-vehicle control-REM sleep depriv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otein Kinase A in the Pedunculopontine Tegmental Nucleus of Rat Contributes to Regulation of Rapid Eye Movement Sleep</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ubimal Datta, and Frank Desarnau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37):12263-1227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5, 201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lygraphic recordings of wake–sleep stages and the selective REM deprivation protocol.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70160" y="1079640"/>
            <a:ext cx="3743280" cy="5394240"/>
          </a:xfrm>
          <a:prstGeom prst="rect">
            <a:avLst/>
          </a:prstGeom>
          <a:ln w="0">
            <a:noFill/>
          </a:ln>
        </p:spPr>
      </p:pic>
      <p:sp>
        <p:nvSpPr>
          <p:cNvPr id="49" name=""/>
          <p:cNvSpPr/>
          <p:nvPr/>
        </p:nvSpPr>
        <p:spPr>
          <a:xfrm>
            <a:off x="3170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and Frank Desarnaud J. Neurosci. 2010;30:12263-1227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selective REM sleep deprivation and RpCAMPS microinjections into the PPT on wake–sleep stat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244600" y="1079640"/>
            <a:ext cx="5596200" cy="5394240"/>
          </a:xfrm>
          <a:prstGeom prst="rect">
            <a:avLst/>
          </a:prstGeom>
          <a:ln w="0">
            <a:noFill/>
          </a:ln>
        </p:spPr>
      </p:pic>
      <p:sp>
        <p:nvSpPr>
          <p:cNvPr id="54" name=""/>
          <p:cNvSpPr/>
          <p:nvPr/>
        </p:nvSpPr>
        <p:spPr>
          <a:xfrm>
            <a:off x="2244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and Frank Desarnaud J. Neurosci. 2010;30:12263-1227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recovery REM sleep and expression of PKA catalytic subunit protein (PKA-CU) in the PPT. A, Representative Western blots of PKA-CU and actin in the PPT from UR-VC-UR, RD-VC-UR, RD-D1-UR, RD-D2-UR, and RD-D3-UR groups of animals (note tha...</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406600" y="1079640"/>
            <a:ext cx="5272200" cy="5394240"/>
          </a:xfrm>
          <a:prstGeom prst="rect">
            <a:avLst/>
          </a:prstGeom>
          <a:ln w="0">
            <a:noFill/>
          </a:ln>
        </p:spPr>
      </p:pic>
      <p:sp>
        <p:nvSpPr>
          <p:cNvPr id="59" name=""/>
          <p:cNvSpPr/>
          <p:nvPr/>
        </p:nvSpPr>
        <p:spPr>
          <a:xfrm>
            <a:off x="2406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and Frank Desarnaud J. Neurosci. 2010;30:12263-1227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recovery REM sleep and activation of PKA in the PPT. A, Representative agarose gel, visualized with UV light, showing the activity profile of the PKA in the PPT from UR-VC-UR, RD-VC-UR, RD-D1-UR, RD-D2-UR, RD-D3-UR, and RD-VC-RD group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246400" y="1079640"/>
            <a:ext cx="5591160" cy="5394240"/>
          </a:xfrm>
          <a:prstGeom prst="rect">
            <a:avLst/>
          </a:prstGeom>
          <a:ln w="0">
            <a:noFill/>
          </a:ln>
        </p:spPr>
      </p:pic>
      <p:sp>
        <p:nvSpPr>
          <p:cNvPr id="64" name=""/>
          <p:cNvSpPr/>
          <p:nvPr/>
        </p:nvSpPr>
        <p:spPr>
          <a:xfrm>
            <a:off x="2246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and Frank Desarnaud J. Neurosci. 2010;30:12263-1227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