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Whole-brain homotopic RSFC pattern. A multiple linear regression models the mean of VMHC at each voxel. One-sample tests on the individual VMHC values were performed. Correction for multiple comparisons was performed within one hemisphere (only one correlation for each pair of homotopic voxels) based on Gaussian random field theory (minimum Z &gt; 2.3; cluster level, p &lt; 0.05, corrected). The final statistical maps are visualized as six hemispheric surfaces (cortical regions) and six symmetric axial slices (subcortical regions) for both 6 mm FWHM (A) and 0 mm FWHM (B) spatial smoothing preprocessing strateg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atter plots of global homotopic RSFC. The global homotopic RSFC was obtained for each subject by averaging VMHC values across all gray matter voxels within a predefined gray matter mask (40% threshold) in MNI152 standard space. Linear, quadratic, and cubic curve fittings were applied to these data. Three fit curves are plotted. The quadratic fitting was chosen as the best-fit model using AIC-based model selection, and its peak age is also plot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velopmental trajectories of voxelwise homotopic RSFC. Multiple linear regressions model the linear (Lin), quadratic (Qua), and cubic (Cub) age effects on VMHC at each voxel. AIC selected the best model from these three models. One-sample tests on the regression coefficients of age, age2, and age3 variables were performed for both positive (+) and negative (−) contrasts. Multiple comparisons correction was performed within one hemisphere (only one correlation for each pair of homotopic voxels) based on Gaussian random field theory (minimum Z &gt; 2.3; cluster level, p &lt; 0.05, corrected). All six statistical Z-maps (3 models × 2 contrasts) were binarized and combined into one summary map to depict different development trajectories of VMHC. The final maps were visualized as six hemispheric surfaces (cortical regions) and six hemispheric axial slices (subcortical regions). The right plots showed the developmental trajectory of a significant cluster for each of six types of trajectories: middle frontal gyrus (MFG: Lin+), anterior cingulate cortex (ACC: Lin−), insula (INS: Qua+), lingual gyrus (LG: Qua−), superior frontal gyrus (SFG: Cub+), and putamen (PUT: Cu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ajectories of homotopic RSFC in large brain lobar/hierarchical subdivisions. Quadratic regression analyses selected by AIC on age and the mean VMHC of five brain structural subdivisions (A: frontal, temporal, parietal, and occipital lobes and subcortical region) or six hierarchical subdivisions (B: primary, unimodal, heteromodal, paralimbic, limbic, and subcortical) were conducted. These large brain units are visualized on the standard brain medial and lateral surfaces. The fit curves and their peak ages are plotted with the same color indicated on the surfaces. All the curve fits are shown significant after Bonferroni's corr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x effects of homotopic RSFC. Multiple linear regressions model the age, sex, and their interaction effects on VMHC at each voxel. One-sample tests on regression coefficients of both sex (A) and age × sex interaction (B) were performed for both positive and negative contrasts. Multiple comparisons correction was performed within one hemisphere (only one correlation for each pair of homotopic voxels) based on Gaussian random field theory (minimum Z &gt; 2.3; cluster level, p &lt; 0.05, corrected). The final statistical maps are visualized as six hemispheric surfaces (cortical regions) and six hemispheric axial slices (subcortical regions). The two scatter plots showed the details of the interactions between age and sex (male, red; female, blu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st–retest reliability of homotopic RSFC. This figure depicts the voxelwise intraclass correlation (ICC) maps showing the intrasession or short-term (A) and intersession or long-term (B) test–retest reliability for homotopic RSFC. The final intraclass correlation maps are visualized as six hemispheric surfaces (cortical regions) and six symmetric axial slices (subcortical reg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Growing Together and Growing Apart: Regional and Sex Differences in the Lifespan Developmental Trajectories of Functional Homotop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i-Nian Zuo, Clare Kelly, Adriana Di Martino, Maarten Mennes, Daniel S. Margulies, Saroja Bangaru, Rebecca Grzadzinski, Alan C. Evans, Yu-Feng Zang, F. Xavier Castellanos, and Michael P. Milham</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45):15034-1504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0, 201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Whole-brain homotopic RSFC patter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258920"/>
            <a:ext cx="8604360" cy="50338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atter plots of global homotopic RSFC. The global homotopic RSFC was obtained for each subject by averaging VMHC values across all gray matter voxels within a predefined gray matter mask (40% threshold) in MNI152 standard spac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243160" y="1079640"/>
            <a:ext cx="5600520" cy="5394240"/>
          </a:xfrm>
          <a:prstGeom prst="rect">
            <a:avLst/>
          </a:prstGeom>
          <a:ln w="0">
            <a:noFill/>
          </a:ln>
        </p:spPr>
      </p:pic>
      <p:sp>
        <p:nvSpPr>
          <p:cNvPr id="54" name=""/>
          <p:cNvSpPr/>
          <p:nvPr/>
        </p:nvSpPr>
        <p:spPr>
          <a:xfrm>
            <a:off x="2243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velopmental trajectories of voxelwise homotopic RSFC. Multiple linear regressions model the linear (Lin), quadratic (Qua), and cubic (Cub) age effects on VMHC at each voxe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811080" y="1079640"/>
            <a:ext cx="8463240" cy="5394240"/>
          </a:xfrm>
          <a:prstGeom prst="rect">
            <a:avLst/>
          </a:prstGeom>
          <a:ln w="0">
            <a:noFill/>
          </a:ln>
        </p:spPr>
      </p:pic>
      <p:sp>
        <p:nvSpPr>
          <p:cNvPr id="59" name=""/>
          <p:cNvSpPr/>
          <p:nvPr/>
        </p:nvSpPr>
        <p:spPr>
          <a:xfrm>
            <a:off x="811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ajectories of homotopic RSFC in large brain lobar/hierarchical subdivisi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649520"/>
            <a:ext cx="8604360" cy="425448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x effects of homotopic RSFC. Multiple linear regressions model the age, sex, and their interaction effects on VMHC at each voxel.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890720"/>
            <a:ext cx="8604360" cy="377028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st–retest reliability of homotopic RSFC. This figure depicts the voxelwise intraclass correlation (ICC) maps showing the intrasession or short-term (A) and intersession or long-term (B) test–retest reliability for homotopic RSFC. The final intraclass corr...</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298520"/>
            <a:ext cx="8604360" cy="495468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Nian Zuo et al. J. Neurosci. 2010;30:15034-1504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