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representation of altered spine morphology and mechanisms underlying this effect in ATRXΔE2 mice. CaMKII activation through the NMDA receptor (NMDA-R) regulates Rac1-GEF, Tiam1, and kalirin-7, dependent on Rac1/PAK activation. PP1 inhibits CaMKII activity by dephosphorylation. The ATRX mutation promotes losses in the spinophilin/PP1 complex, thereby promoting CaMKII cascades abnormally. Activation of CaMKII regulates GEF-dependent Rac1 activation. Finally, GTP-bound Rac1 activates PAKs, altering spine formation. AMPA-R, AMPA recep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pairment of memory and cognitive function-related behaviors in ATRXΔE2 mice. A, Alternations (left) and number of total arm entries (right) in a Y-maze test. Alternations by ATRXΔE2 mice were significantly decreased compared with behavior seen in wild-type mice, without changes in total arm entries. Each bar represents the mean ± SEM. **p &lt; 0.01 versus wild-type mice; n = 10 in each group. B, Novel object recognition task. Shown is the discrimination index of object exploration during the sample phase (left), and while exploring familiar and new objects in the test phase after 1 h (center) and 24 h (right). Each bar represents the mean ± SEM. **p &lt; 0.01 versus the familiar objects, respectively; n = 10 in each group. C, Barnes maze test measurement of total latency (s) to reach the target hole. Each bar represents the mean ± SEM. *p &lt; 0.05 versus wild-type mice, #p &lt; 0.05, ##p &lt; 0.01 versus day 1 of the same group; n = 8–9 in each group. D, Contextual fear-conditioning test measurement of freezing time (%). Each bar represents the mean ± SEM. *p &lt; 0.05, **p &lt; 0.01 versus wild-type mice; n = 10 in each group. WT, Wild-type mice; ATRXΔE2, ATRXΔE2 m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TRX is expressed in mature neurons and astroglia. A, Hematoxylin and eosin staining of sagittal sections. ATRXΔE2 mice exhibit normal gross morphology except for reduced brain size. B, ATRX staining is observed as punctate nuclear staining. Strong punctate staining colocalizes with heterochromatic regions stained with PI nuclear counterstain. C, The position of IL and PrL regions in the mPFC (left). MAP-2 immunostaining shows no gross differences in length of primary dendrites in layer II/III pyramidal neurons of ATRXΔE2 compared with wild-type mice. D, E, ATRX-expressing cells overlap with NeuN- (D) and GFAP- (E) positive cells. Enlarged images indicate boxed area. Scale bars: A, top, 2 mm; A, bottom, 0.5 mm; B, D, E, 25 μm; C, low magnification, 80 μm; C, high magnification, 15 μm. WT, Wild-type mice; ATRXΔE2, ATRXΔE2 mice; NeuN+, NeuN-positive cells; GFAP+, GFAP-positive cells; NeuN+/ATRX+, NeuN and ATRX double-positive cells; GFAP+/ATRX+, GFAP and ATRX double-positive cel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bnormal spines in the mPFC of ATRXΔE2 mice. A, B, Low-magnification images (A) and morphology of apical dendrites (B) in wild-type and ATRXΔE2 mice. At the bottom, enlarged images indicate boxed areas of tissues from wild-type and ATRXΔE2 mice. C–E, Quantitative analysis of apical spine morphology in wild-type (white circles and white bars) and ATRXΔE2 (black circles and black bars) mice. C, D, Cumulative distribution of spine neck length (C) and spine head diameter (D). E, Spine protrusions per 20 μm dendritic length. ATRXΔE2 mice exhibit significantly more immature- and fewer mature-appearing spines, without changes in total spine density. Each bar represents the mean ± SEM. ***p &lt; 0.001 versus wild-type mice. Scale bars: A, 30 μm; B, 4 μm. WT, Wild-type mice; ATRXΔE2, ATRXΔE2 mi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bnormal basal dendritic spines in the mPFC, but not in the hippocampal CA1 neurons of ATRXΔE2 mice. A, E, Morphology of basal dendrites in wild-type and ATRXΔE2 mice. B–D, F–H, Quantitative analysis of morphology of basal dendritic spines in wild-type (white circles and white bars) and ATRXΔE2 (black circles and black bars) mice. B, C, F, G, Cumulative distribution of spine neck length in mPFC (B) in hippocampal CA1 (F), and spine head diameter in mPFC (C) in hippocampal CA1 (G). D, H, Spine protrusions per 20 μm dendritic length in mPFC (D) in hippocampal CA1 (H). Each bar represents the mean ± SEM. ***p &lt; 0.001 versus the wild-type mice. Scale bars, 2 μm. WT, Wild-type mice; ATRXΔE2, ATRXΔE2 m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MKII autophosphorylation is significantly increased in ATRXΔE2 mice. A, C, Representative immunoblots probed with various antibodies are shown in total lysate (A) and in Triton X-100-soluble or -insoluble fractions (C) from mPFC. B, Quantitative analyses by densitometry are shown. D, E, Increased Ca2+-independent activity of CaMKII in the mPFC of ATRXΔE2 mice. Data are expressed as a percentage of the value of wild-type mice. Each bar represents the mean ± SEM. *p &lt; 0.05, **p &lt; 0.01 versus the wild-type mice; n = 6 in each group. WT, Wild-type mice; ATRXΔE2, ATRXΔE2 m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sphorylation of Rac1-GEF/PAK pathway is significantly increased in ATRXΔE2 mice. A, Left, Representative immunoblots probed with various antibodies are shown. Extracts made from mPFC were immunoprecipitated (IP) using anti-Tiam1 and anti-kalirin antibodies, and immunoprecipitates were analyzed by Western blotting (WB) with anti-p-Ser/Thr antibody. Right, Quantitative densitometry analyses are shown. B, C, Left, Representative immunoblots probed with various antibodies are shown in total lysate from mPFC. Right, Quantitative densitometry analyses are shown. Data are expressed as percentage of value of wild-type mice. Each bar represents the mean ± SEM. *p &lt; 0.05, **p &lt; 0.01 versus the wild-type mice; n = 6 in each group. WT, Wild-type mice; ATRXΔE2, ATRXΔE2 m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and activity of protein phosphatase 1 are decreased in ATRXΔE2 mice. A, Representative immunoblots probed with various antibodies are shown in total lysate from mPFC. B, Quantitative densitometry analyses are shown. C, Decreased PP1/PP2A activity in the mPFC of ATRXΔE2 mice. Data are expressed as percentage of value of wild-type mice. Each bar represents the mean ± SEM. *p &lt; 0.05, **p &lt; 0.01 versus the wild-type mice, n = 6 in each group. WT, Wild-type mice; ATRXΔE2, ATRXΔE2 m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B, Increased phosphorylation of Rac1-GEFs with okadaic acid is inhibited by KN-93 in cultured cortical neurons. A, Representative immunoblots probed with various antibodies are shown in total lysate from mPFC. B, Quantitative densitometry analyses are shown. Data are expressed as percentage of value of wild-type mice. Each bar represents the mean ± SEM. *p &lt; 0.05, **p &lt; 0.01 in control versus okadaic acid; #p &lt; 0.05, ##p &lt; 0.01 in okadaic acid versus okadaic acid plus KN-93; n = 5 in each group. C–F, KN-93 infusion into ATRXΔE2 mouse mPFC partly reversed the abnormal spine morphological changes observed in ATRXΔE2 mice. C, Morphology of apical dendrites in wild-type mice, ATRXΔE2 mice, and KN-93-treated ATRXΔE2 mice. D–F, Quantitative analysis of apical spine morphology in wild-type mice (white circles and white bars), ATRXΔE2 mice (black circles and black bars), and KN-93 treated ATRXΔE2 mice (gray circles and gray bars). D, E, Cumulative distribution of spine neck length (D) and spine head diameter (E). F, Spine protrusions per 20 μm dendritic length. Each bar represents the mean ± SEM. ***p &lt; 0.001 in WT versus ATRXΔE2. #p &lt; 0.05 in ATRXΔE2 versus KN-93 treated ATRXΔE2. Scale bar, 2 μm. WT, Wild-type mice; ATRXΔE2, ATRXΔE2 m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berrant Calcium/Calmodulin-Dependent Protein Kinase II (CaMKII) Activity Is Associated with Abnormal Dendritic Spine Morphology in the ATRX Mutant Mouse Brai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orifumi Shioda, Hideyuki Beppu, Takaichi Fukuda, En Li, Isao Kitajima, and Kohji Fukunag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1(1):346-35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5, 201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representation of altered spine morphology and mechanisms underlying this effect in ATRXΔE2 mice.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2463840" y="1079640"/>
            <a:ext cx="5157720" cy="5394240"/>
          </a:xfrm>
          <a:prstGeom prst="rect">
            <a:avLst/>
          </a:prstGeom>
          <a:ln w="0">
            <a:noFill/>
          </a:ln>
        </p:spPr>
      </p:pic>
      <p:sp>
        <p:nvSpPr>
          <p:cNvPr id="89" name=""/>
          <p:cNvSpPr/>
          <p:nvPr/>
        </p:nvSpPr>
        <p:spPr>
          <a:xfrm>
            <a:off x="2463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pairment of memory and cognitive function-related behaviors in ATRXΔE2 mic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968560" y="1079640"/>
            <a:ext cx="4148280" cy="5394240"/>
          </a:xfrm>
          <a:prstGeom prst="rect">
            <a:avLst/>
          </a:prstGeom>
          <a:ln w="0">
            <a:noFill/>
          </a:ln>
        </p:spPr>
      </p:pic>
      <p:sp>
        <p:nvSpPr>
          <p:cNvPr id="49" name=""/>
          <p:cNvSpPr/>
          <p:nvPr/>
        </p:nvSpPr>
        <p:spPr>
          <a:xfrm>
            <a:off x="2968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TRX is expressed in mature neurons and astroglia.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793960" y="1079640"/>
            <a:ext cx="4497480" cy="5394240"/>
          </a:xfrm>
          <a:prstGeom prst="rect">
            <a:avLst/>
          </a:prstGeom>
          <a:ln w="0">
            <a:noFill/>
          </a:ln>
        </p:spPr>
      </p:pic>
      <p:sp>
        <p:nvSpPr>
          <p:cNvPr id="54" name=""/>
          <p:cNvSpPr/>
          <p:nvPr/>
        </p:nvSpPr>
        <p:spPr>
          <a:xfrm>
            <a:off x="279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bnormal spines in the mPFC of ATRXΔE2 mic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492360" y="1079640"/>
            <a:ext cx="3098880" cy="5394240"/>
          </a:xfrm>
          <a:prstGeom prst="rect">
            <a:avLst/>
          </a:prstGeom>
          <a:ln w="0">
            <a:noFill/>
          </a:ln>
        </p:spPr>
      </p:pic>
      <p:sp>
        <p:nvSpPr>
          <p:cNvPr id="59" name=""/>
          <p:cNvSpPr/>
          <p:nvPr/>
        </p:nvSpPr>
        <p:spPr>
          <a:xfrm>
            <a:off x="3492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bnormal basal dendritic spines in the mPFC, but not in the hippocampal CA1 neurons of ATRXΔE2 mic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979720" y="1079640"/>
            <a:ext cx="4125960" cy="5394240"/>
          </a:xfrm>
          <a:prstGeom prst="rect">
            <a:avLst/>
          </a:prstGeom>
          <a:ln w="0">
            <a:noFill/>
          </a:ln>
        </p:spPr>
      </p:pic>
      <p:sp>
        <p:nvSpPr>
          <p:cNvPr id="64" name=""/>
          <p:cNvSpPr/>
          <p:nvPr/>
        </p:nvSpPr>
        <p:spPr>
          <a:xfrm>
            <a:off x="2979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MKII autophosphorylation is significantly increased in ATRXΔE2 mic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436920" y="1079640"/>
            <a:ext cx="3210120" cy="5394240"/>
          </a:xfrm>
          <a:prstGeom prst="rect">
            <a:avLst/>
          </a:prstGeom>
          <a:ln w="0">
            <a:noFill/>
          </a:ln>
        </p:spPr>
      </p:pic>
      <p:sp>
        <p:nvSpPr>
          <p:cNvPr id="69" name=""/>
          <p:cNvSpPr/>
          <p:nvPr/>
        </p:nvSpPr>
        <p:spPr>
          <a:xfrm>
            <a:off x="3436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sphorylation of Rac1-GEF/PAK pathway is significantly increased in ATRXΔE2 mic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052640" y="1079640"/>
            <a:ext cx="7978680" cy="5394240"/>
          </a:xfrm>
          <a:prstGeom prst="rect">
            <a:avLst/>
          </a:prstGeom>
          <a:ln w="0">
            <a:noFill/>
          </a:ln>
        </p:spPr>
      </p:pic>
      <p:sp>
        <p:nvSpPr>
          <p:cNvPr id="74" name=""/>
          <p:cNvSpPr/>
          <p:nvPr/>
        </p:nvSpPr>
        <p:spPr>
          <a:xfrm>
            <a:off x="1052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and activity of protein phosphatase 1 are decreased in ATRXΔE2 mic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924280" y="1079640"/>
            <a:ext cx="4238640" cy="5394240"/>
          </a:xfrm>
          <a:prstGeom prst="rect">
            <a:avLst/>
          </a:prstGeom>
          <a:ln w="0">
            <a:noFill/>
          </a:ln>
        </p:spPr>
      </p:pic>
      <p:sp>
        <p:nvSpPr>
          <p:cNvPr id="79" name=""/>
          <p:cNvSpPr/>
          <p:nvPr/>
        </p:nvSpPr>
        <p:spPr>
          <a:xfrm>
            <a:off x="2924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B, Increased phosphorylation of Rac1-GEFs with okadaic acid is inhibited by KN-93 in cultured cortical neuron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1209600"/>
            <a:ext cx="8604360" cy="513396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rifumi Shioda et al. J. Neurosci. 2011;31:346-358</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