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creased spontaneous activity and sensory-evoked response of L2/3 neurons in the S1 under chronic pain conditions. a, Schematic diagrams of pressure stimulation of the hindpaw (left) and a brain showing the imaged area of the S1 as a square area (middle), and the intrinsic optical response in the S1 elicited by stimulation of the hindpaw in control mice (right). Scale bar, 0.5 mm. b, Typical traces of spontaneous Ca2+ transients (red dots) were obtained from different L2/3 neurons. c, Cumulative probability graph of spontaneous Ca2+ transient frequency. d, Typical traces of Ca2+ transients in L2/3 neurons evoked by hindpaw stimulation (indicated by black bars). e, Representative distribution of Ca2+ responses to each hindpaw stimulation (10 successive stimulations). Each box represents either no response (blue), or small (from 0.1 to 0.15) (yellow) or large amplitude of ΔF/F0 (&gt;0.15) (red) in the Ca2+ imaging. f–h, Cumulative probability histograms of responding cell ratio (f), response probability per cell (g), and amplitude of Ca2+ transients (h). The responding cell ratio and response probability were determined as the number of responsive cells divided by total imaged cells at each plane, and as the number of responsive trials divided by the total number of trials, respectively. In each analysis, a significant difference between the control and CFA-injected group was detected (Kolmogorov–Smirnov test, p &lt; 0.05).</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tracortical remodeling between the L2/3 and L4 in the S1 contributes to the hypersensitivity of L2/3 excitatory neurons to sensory stimulation under chronic pain conditions. a, Visualization of L2/3 excitatory neurons (red dotted circles in the fura-2 image). Cells expressing Venus (inhibitory neurons, green) and cells stained with SR101 (astrocytes, red) were excluded from the analysis. Scale bar, 12 μm. b, Typical traces of sensory-evoked Ca2+ transients of L2/3 excitatory neurons in a control (upper traces) and CFA-injected (lower traces) mouse. c–e, Cumulative probability histograms of the responding cell ratio (c), response probability per cell (d), and amplitude of Ca2+ transients (e). In each analysis, a significant difference between control and CFA-injected mice was observed (Kolmogorov–Smirnov test, p &lt; 0.05). f, Schematic drawing of in vivo Ca2+ imaging of L2/3 excitatory neurons in response to L4 electrical stimulation. g–i, The relationship between stimulus intensity and responding cell ratio (g), amplitude of Ca2+ transients (h), and response probability per cell (i). Excitability of L2/3 excitatory neurons of S1 evoked by electrical stimulation of the L4 region increased in the CFA-injected mice. j, Averaged traces of EPSCs evoked by paired-pulse stimulations of 60 μA in control (top) and CFA-injected (bottom) mice. k, Stimulus intensity–response curves from control (7 cells, filled squares) and CFA-injected (8 cells, filled circles) mice. *p &lt; 0.05, significantly different from the control group by ANOVA followed by Bonferroni test. Error bars represent ±S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S1 neuronal activity modulated mechanical allodynia. a, Microinjection of AMPA receptor antagonist CNQX into the L2/3 region attenuated mechanical allodynia in CFA-injected mice (closed circles, 5 mice), but did not result in any observable changes in control mice (open circles, 3 mice). b, Microinjection of SR95531 (3 μm) into the S1 significantly reduced the paw-withdrawal thresholds in control mice (6 mice). *p &lt; 0.05, significantly different from the value just before drug application by ANOVA, followed by Bonferroni test. Error bars represent ±S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S1 neuronal activity modulated ACC activity. a, Schematic drawing of the experimental configuration. DiI-coated recording electrode was placed in the ACC (red) and a glass pipette filled with a drug including FITC (green) in the L2/3 region of the S1, respectively (left). Coronal sectional images of the S1 and ACC show an area of drug diffusion (green, FITC) (right top) and the location of the recording electrode (red, DiI) (right bottom). In the slice containing the ACC, fluorescence from FITC was not detected. b, Averaged traces of fEPSPs evoked by hindpaw stimulations with (bottom) and without (top) CNQX applied to the S1 in control (left) and CFA-injected (right) mice. The slope (dotted line) was then analyzed. c, Mean slopes of the fEPSPs with vehicle and CNQX in the S1 in control and CFA-injected mice. d, Averaged traces of the fEPSPs evoked by hindpaw stimulation with (middle) and without (top) the GABAA receptor antagonist SR95531. TTX broadly applied to the brain surface completely abolished the response (bottom). Microinjection of SR95531 (3 μm) to the S1 enhanced the electrical response to hindpaw stimulation in the ACC of control mice. e, Mean slopes of the fEPSPs with vehicle (4 animals) and SR95531 (4 animals) in the S1 in control mice. Data were subjected to ANOVA followed by Bonferroni test. f, Microinjection of CNQX into the ACC attenuated mechanical allodynia in CFA-injected mice (closed circles, 4 animals), but injection of vehicle did not alter the thresholds (open square, 4 animals). *p &lt; 0.05, significantly different from the control group by ANOVA followed by Bonferroni test. Error bars represent ±S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Inter-regional Contribution of Enhanced Activity of the Primary Somatosensory Cortex to the Anterior Cingulate Cortex Accelerates Chronic Pain Behavior</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Kei Eto, Hiroaki Wake, Miho Watanabe, Hitoshi Ishibashi, Mami Noda, Yuchio Yanagawa, and Junichi Nabekur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1(21):7631-763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25, 201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creased spontaneous activity and sensory-evoked response of L2/3 neurons in the S1 under chronic pain conditions. a, Schematic diagrams of pressure stimulation of the hindpaw (left) and a brain showing the imaged area of the S1 as a square area (middl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030480" y="1079640"/>
            <a:ext cx="4025880" cy="5394240"/>
          </a:xfrm>
          <a:prstGeom prst="rect">
            <a:avLst/>
          </a:prstGeom>
          <a:ln w="0">
            <a:noFill/>
          </a:ln>
        </p:spPr>
      </p:pic>
      <p:sp>
        <p:nvSpPr>
          <p:cNvPr id="49" name=""/>
          <p:cNvSpPr/>
          <p:nvPr/>
        </p:nvSpPr>
        <p:spPr>
          <a:xfrm>
            <a:off x="3030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i Eto et al. J. Neurosci. 2011;31:7631-763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tracortical remodeling between the L2/3 and L4 in the S1 contributes to the hypersensitivity of L2/3 excitatory neurons to sensory stimulation under chronic pain conditions. a, Visualization of L2/3 excitatory neurons (red dotted circles in the fura-2 ima...</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870280" y="1079640"/>
            <a:ext cx="4344840" cy="5394240"/>
          </a:xfrm>
          <a:prstGeom prst="rect">
            <a:avLst/>
          </a:prstGeom>
          <a:ln w="0">
            <a:noFill/>
          </a:ln>
        </p:spPr>
      </p:pic>
      <p:sp>
        <p:nvSpPr>
          <p:cNvPr id="54" name=""/>
          <p:cNvSpPr/>
          <p:nvPr/>
        </p:nvSpPr>
        <p:spPr>
          <a:xfrm>
            <a:off x="2870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i Eto et al. J. Neurosci. 2011;31:7631-763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S1 neuronal activity modulated mechanical allodynia. a, Microinjection of AMPA receptor antagonist CNQX into the L2/3 region attenuated mechanical allodynia in CFA-injected mice (closed circles, 5 mice), but did not result in any observable changes in c...</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739800" y="1643040"/>
            <a:ext cx="8604360" cy="426888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i Eto et al. J. Neurosci. 2011;31:7631-763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S1 neuronal activity modulated ACC activity. a, Schematic drawing of the experimental configura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960640" y="1079640"/>
            <a:ext cx="4164120" cy="5394240"/>
          </a:xfrm>
          <a:prstGeom prst="rect">
            <a:avLst/>
          </a:prstGeom>
          <a:ln w="0">
            <a:noFill/>
          </a:ln>
        </p:spPr>
      </p:pic>
      <p:sp>
        <p:nvSpPr>
          <p:cNvPr id="64" name=""/>
          <p:cNvSpPr/>
          <p:nvPr/>
        </p:nvSpPr>
        <p:spPr>
          <a:xfrm>
            <a:off x="2960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Kei Eto et al. J. Neurosci. 2011;31:7631-763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