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atomical overlap of axons, dendrites, and spine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Left, Two-photon image stack of an L2 pyramidal neuron. Dashed lines designate pia and L1/L2 border. Scale bar, 50 μm. Right, Magnified views of spines in L1 (top, blue) and L2/3 (bottom, green) from the boxed regions on left. Scale bars, 1 μm.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Confocal images showing mCherry-labeled axons arriving from MD, cmPFC, BLA, and VH. To the right of each image is the average normalized fluorescent intensity profile as a function of distance from the pial surface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6). Scale bar, 50 μ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2 pyramidal neurons receive diverse excitatory input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verage light-evoked EPSCs for the different inputs, recorded in voltage-clamp at +40 mV in control conditions (solid lines), after wash-in of 10 μm CPP (long-dash lines) and subsequent addition of 10 μm NBQX (short-dash lines). Arrows indicate the time of light pulse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Quantification of the data i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expressed as a fraction of control EPSC for each condition.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MPA/NMDA ratios from the data i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apping functional connections at the subcellular level.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Two-photon image stack of an L2 pyramidal neuron. Scale bar, 30 μm.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Top, Magnified view of the orange boxed region i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with no ChR2 stimulation. Middle, The same segment overlaid with ΔG/R signal (green) following ChR2 stimulation. Bottom, Positions of interleaved line scans through active spines (red and green) and a nearby neighbor (blue). Scale bar, 1 μm.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Left, Individual line scans through spines (top) and dendrites (bottom) indicated in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where morphology is color coded and Ca signals are white. Right, Quantified Ca signals, showing successes (color) and failures (black) of synaptic transmission at the three spines. Scale bar: top, middle = 0.25 ΔG/G</a:t>
            </a:r>
            <a:r>
              <a:rPr b="0" lang="en-GB" sz="1200" spc="-1" strike="noStrike" baseline="-33000">
                <a:solidFill>
                  <a:srgbClr val="000000"/>
                </a:solidFill>
                <a:latin typeface="Arial"/>
                <a:ea typeface="msgothic"/>
              </a:rPr>
              <a:t>sat</a:t>
            </a:r>
            <a:r>
              <a:rPr b="0" lang="en-GB" sz="1200" spc="-1" strike="noStrike">
                <a:solidFill>
                  <a:srgbClr val="000000"/>
                </a:solidFill>
                <a:latin typeface="Arial"/>
                <a:ea typeface="msgothic"/>
              </a:rPr>
              <a:t>, 75 ms; bottom = 0.05 ΔG/G</a:t>
            </a:r>
            <a:r>
              <a:rPr b="0" lang="en-GB" sz="1200" spc="-1" strike="noStrike" baseline="-33000">
                <a:solidFill>
                  <a:srgbClr val="000000"/>
                </a:solidFill>
                <a:latin typeface="Arial"/>
                <a:ea typeface="msgothic"/>
              </a:rPr>
              <a:t>sat</a:t>
            </a:r>
            <a:r>
              <a:rPr b="0" lang="en-GB" sz="1200" spc="-1" strike="noStrike">
                <a:solidFill>
                  <a:srgbClr val="000000"/>
                </a:solidFill>
                <a:latin typeface="Arial"/>
                <a:ea typeface="msgothic"/>
              </a:rPr>
              <a:t>, 75 ms. Arrows indicate stimulus times.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Reconstruction of the recorded neuron, with sampled dendrites in black and active spines indicated by colored dots. Scale bar, 30 μm. Stim, Stimul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Unbiased detection of connections onto spine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Left, Two-photon image of dendrite (d) and spine (s), showing two-photon uncaging spot (red dot) and line-scan path (red dashed line). Scale bar, 1 μm. Top right, Example line scan showing morphology (red) and ΔG/R signal (green) in the spine and dendrite. White arrow indicates the uncaging time. Bottom right, Mean (thick lines) and individual (thin lines) ΔG/G</a:t>
            </a:r>
            <a:r>
              <a:rPr b="0" lang="en-GB" sz="1200" spc="-1" strike="noStrike" baseline="-33000">
                <a:solidFill>
                  <a:srgbClr val="000000"/>
                </a:solidFill>
                <a:latin typeface="Arial"/>
                <a:ea typeface="msgothic"/>
              </a:rPr>
              <a:t>sat</a:t>
            </a:r>
            <a:r>
              <a:rPr b="0" lang="en-GB" sz="1200" spc="-1" strike="noStrike">
                <a:solidFill>
                  <a:srgbClr val="000000"/>
                </a:solidFill>
                <a:latin typeface="Arial"/>
                <a:ea typeface="msgothic"/>
              </a:rPr>
              <a:t> transients in the spine (red) and dendrite (black). Arrow indicates the uncaging time.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Amplitudes (left) and SNR (right) of uncaging-evoked synaptic Ca signals as a function of radial distance from the soma. Solid and dashed lines represent linear fits and 5–95% confidence intervals, respectively. Orange dashed line indicates the detection threshold. Correlation coefficients (</a:t>
            </a:r>
            <a:r>
              <a:rPr b="0" i="1" lang="en-GB" sz="1200" spc="-1" strike="noStrike">
                <a:solidFill>
                  <a:srgbClr val="000000"/>
                </a:solidFill>
                <a:latin typeface="Arial"/>
                <a:ea typeface="msgothic"/>
              </a:rPr>
              <a:t>r</a:t>
            </a:r>
            <a:r>
              <a:rPr b="0" lang="en-GB" sz="1200" spc="-1" strike="noStrike">
                <a:solidFill>
                  <a:srgbClr val="000000"/>
                </a:solidFill>
                <a:latin typeface="Arial"/>
                <a:ea typeface="msgothic"/>
              </a:rPr>
              <a:t> values) are labeled in the upper right-hand corner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Left, Summary of light-evoked synaptic Ca signal amplitudes for each input from mapping experiments. Right, Summary of probability of release (Pr) for each input from these light-evoked synaptic Ca signal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fferent inputs target select dendritic location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Reconstructed L2 pyramidal neurons contacted by MD, cmPFC, BLA, and VH inputs, showing sampled dendrites (black) and active spines (colored dot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Probability distributions of synapse position as a function of vertical (y) displacement from the soma for each input.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Cumulative probability distributions of synapse position as a function of y displacement from the soma for each input. Orange line shows the position of the L1/L2 border.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Summary of y displacement for each input. Asterisks indicate significant differences. Color of asterisks and lines indicates which inputs are compared. </a:t>
            </a:r>
            <a:r>
              <a:rPr b="0" i="1" lang="en-GB" sz="1200" spc="-1" strike="noStrike">
                <a:solidFill>
                  <a:srgbClr val="000000"/>
                </a:solidFill>
                <a:latin typeface="Arial"/>
                <a:ea typeface="msgothic"/>
              </a:rPr>
              <a:t>E</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F</a:t>
            </a:r>
            <a:r>
              <a:rPr b="0" lang="en-GB" sz="1200" spc="-1" strike="noStrike">
                <a:solidFill>
                  <a:srgbClr val="000000"/>
                </a:solidFill>
                <a:latin typeface="Arial"/>
                <a:ea typeface="msgothic"/>
              </a:rPr>
              <a:t>, Similar to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but in the horizontal (x) dimens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atomy does not predict functional connectivity.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xon density maps (left) are multiplied by spine density maps (middle) and normalized to generate maps of predicted synapse location (right). Boxed regions are one-dimensional profiles of y and x displacement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Probability distributions of predicted (lines) and measured (bars) synapse location as a function of vertical (y) displacement from the soma for each input.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Measured cumulative probability distributions plotted against predicted cumulative probability distributions for each input in the y dimension. Dashed gray line indicates unity. Orange dots indicate L1/L2 border (closed) and soma (open).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Correlation coefficients between measured and predicted distributions for each input in the y dimension. </a:t>
            </a:r>
            <a:r>
              <a:rPr b="0" i="1" lang="en-GB" sz="1200" spc="-1" strike="noStrike">
                <a:solidFill>
                  <a:srgbClr val="000000"/>
                </a:solidFill>
                <a:latin typeface="Arial"/>
                <a:ea typeface="msgothic"/>
              </a:rPr>
              <a:t>E</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F</a:t>
            </a:r>
            <a:r>
              <a:rPr b="0" lang="en-GB" sz="1200" spc="-1" strike="noStrike">
                <a:solidFill>
                  <a:srgbClr val="000000"/>
                </a:solidFill>
                <a:latin typeface="Arial"/>
                <a:ea typeface="msgothic"/>
              </a:rPr>
              <a:t>, Similar to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but in the horizontal (x) dimens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fferent inputs target biased populations of spine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Head volumes of all reconstructed spines as a function of vertical (y; left) and horizontal (x; right) displacement from the soma. Solid black lines represent linear fits to the data, and dashed black lines indicate the 5 and 95% confidence intervals. Correlation coefficients (</a:t>
            </a:r>
            <a:r>
              <a:rPr b="0" i="1" lang="en-GB" sz="1200" spc="-1" strike="noStrike">
                <a:solidFill>
                  <a:srgbClr val="000000"/>
                </a:solidFill>
                <a:latin typeface="Arial"/>
                <a:ea typeface="msgothic"/>
              </a:rPr>
              <a:t>r</a:t>
            </a:r>
            <a:r>
              <a:rPr b="0" lang="en-GB" sz="1200" spc="-1" strike="noStrike">
                <a:solidFill>
                  <a:srgbClr val="000000"/>
                </a:solidFill>
                <a:latin typeface="Arial"/>
                <a:ea typeface="msgothic"/>
              </a:rPr>
              <a:t> values) are labeled in the upper right-hand corner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Two-photon image stacks of representative dendrites and spines contacted by each input, where green indicates evoked Ca signals (ΔG/R). Scale bars, 1 μm.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Cumulative probability distributions for each input, showing the head volumes of detected spines (colored lines) and the entire nonactive population (gray dashed line).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Summary of head volumes of spines contacted by different inputs. Gray line shows median of entire nonactive population. Asterisks denote significant differences between the head volumes contacted by a given input and the entire nonactive popul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ine location and morphology impact synaptic efficacy.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Top, Two-photon image stack of a dendritic segment, showing heterogeneous spine morphologies, where colored dots indicate two-photon uncaging targets. Scale bar, 1 μm. Bottom, uEPSPs evoked with a brief pulse of 725 nm light. Black lines are the average of 10 trials, and gray regions indicate the SEM. Colored arrows indicate uncaging times at indicated spines. Scale bar: 0.2 mV, 25 m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Top, Two-photon image stack of an L2 pyramidal neuron, showing two regions (green, blue) targeted for two-photon uncaging. Scale bar, 50 μm. Bottom, Average uEPSPs generated at the two regions. Colored arrows indicate uncaging times at different locations. Scale bar: 0.4 mV, 25 m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uEPSP amplitude as a function of spine head volume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nd radial distance from the soma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Solid and dashed lines represent linear fits and 5–95% confidence intervals, respectively. Correlation coefficients (</a:t>
            </a:r>
            <a:r>
              <a:rPr b="0" i="1" lang="en-GB" sz="1200" spc="-1" strike="noStrike">
                <a:solidFill>
                  <a:srgbClr val="000000"/>
                </a:solidFill>
                <a:latin typeface="Arial"/>
                <a:ea typeface="msgothic"/>
              </a:rPr>
              <a:t>r</a:t>
            </a:r>
            <a:r>
              <a:rPr b="0" lang="en-GB" sz="1200" spc="-1" strike="noStrike">
                <a:solidFill>
                  <a:srgbClr val="000000"/>
                </a:solidFill>
                <a:latin typeface="Arial"/>
                <a:ea typeface="msgothic"/>
              </a:rPr>
              <a:t> values) are labeled in the upper right-hand corners. </a:t>
            </a:r>
            <a:r>
              <a:rPr b="0" i="1" lang="en-GB" sz="1200" spc="-1" strike="noStrike">
                <a:solidFill>
                  <a:srgbClr val="000000"/>
                </a:solidFill>
                <a:latin typeface="Arial"/>
                <a:ea typeface="msgothic"/>
              </a:rPr>
              <a:t>E</a:t>
            </a:r>
            <a:r>
              <a:rPr b="0" lang="en-GB" sz="1200" spc="-1" strike="noStrike">
                <a:solidFill>
                  <a:srgbClr val="000000"/>
                </a:solidFill>
                <a:latin typeface="Arial"/>
                <a:ea typeface="msgothic"/>
              </a:rPr>
              <a:t>, Predicted unitary EPSP amplitude for each input, calculated by combining results from the mapping and uncaging experiments. The </a:t>
            </a:r>
            <a:r>
              <a:rPr b="0" i="1" lang="en-GB" sz="1200" spc="-1" strike="noStrike">
                <a:solidFill>
                  <a:srgbClr val="000000"/>
                </a:solidFill>
                <a:latin typeface="Arial"/>
                <a:ea typeface="msgothic"/>
              </a:rPr>
              <a:t>x</a:t>
            </a:r>
            <a:r>
              <a:rPr b="0" lang="en-GB" sz="1200" spc="-1" strike="noStrike">
                <a:solidFill>
                  <a:srgbClr val="000000"/>
                </a:solidFill>
                <a:latin typeface="Arial"/>
                <a:ea typeface="msgothic"/>
              </a:rPr>
              <a:t>-axis indicates the variables included in the prediction calculation (head volume, location, or both). Orange dotted and faint lines represent the median and SE of the average response expected if no selective targeting occurs on spines or dendrites. Asterisks denote significant differences between the full and reduced predic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Subcellular Synaptic Connectivity of Layer 2 Pyramidal Neurons in the Medial Prefrontal Cortex</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ustin P. Little, and Adam G. Cart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2(37):12808-12819</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eptember 12, 201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atomical overlap of axons, dendrites, and spin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2058840"/>
            <a:ext cx="8604360" cy="3435480"/>
          </a:xfrm>
          <a:prstGeom prst="rect">
            <a:avLst/>
          </a:prstGeom>
          <a:ln w="0">
            <a:noFill/>
          </a:ln>
        </p:spPr>
      </p:pic>
      <p:sp>
        <p:nvSpPr>
          <p:cNvPr id="4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stin P. Little, and Adam G. Carter J. Neurosci. 2012;32:12808-12819</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2 pyramidal neurons receive diverse excitatory input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782800" y="1079640"/>
            <a:ext cx="4518000" cy="5394240"/>
          </a:xfrm>
          <a:prstGeom prst="rect">
            <a:avLst/>
          </a:prstGeom>
          <a:ln w="0">
            <a:noFill/>
          </a:ln>
        </p:spPr>
      </p:pic>
      <p:sp>
        <p:nvSpPr>
          <p:cNvPr id="54" name=""/>
          <p:cNvSpPr/>
          <p:nvPr/>
        </p:nvSpPr>
        <p:spPr>
          <a:xfrm>
            <a:off x="2782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stin P. Little, and Adam G. Carter J. Neurosci. 2012;32:12808-12819</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apping functional connections at the subcellular level.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300480" y="1079640"/>
            <a:ext cx="3486240" cy="5394240"/>
          </a:xfrm>
          <a:prstGeom prst="rect">
            <a:avLst/>
          </a:prstGeom>
          <a:ln w="0">
            <a:noFill/>
          </a:ln>
        </p:spPr>
      </p:pic>
      <p:sp>
        <p:nvSpPr>
          <p:cNvPr id="59" name=""/>
          <p:cNvSpPr/>
          <p:nvPr/>
        </p:nvSpPr>
        <p:spPr>
          <a:xfrm>
            <a:off x="33004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stin P. Little, and Adam G. Carter J. Neurosci. 2012;32:12808-12819</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Unbiased detection of connections onto spine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297240" y="1079640"/>
            <a:ext cx="3489480" cy="5394240"/>
          </a:xfrm>
          <a:prstGeom prst="rect">
            <a:avLst/>
          </a:prstGeom>
          <a:ln w="0">
            <a:noFill/>
          </a:ln>
        </p:spPr>
      </p:pic>
      <p:sp>
        <p:nvSpPr>
          <p:cNvPr id="64" name=""/>
          <p:cNvSpPr/>
          <p:nvPr/>
        </p:nvSpPr>
        <p:spPr>
          <a:xfrm>
            <a:off x="3297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stin P. Little, and Adam G. Carter J. Neurosci. 2012;32:12808-12819</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fferent inputs target select dendritic location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1957320" y="1079640"/>
            <a:ext cx="6170760" cy="5394240"/>
          </a:xfrm>
          <a:prstGeom prst="rect">
            <a:avLst/>
          </a:prstGeom>
          <a:ln w="0">
            <a:noFill/>
          </a:ln>
        </p:spPr>
      </p:pic>
      <p:sp>
        <p:nvSpPr>
          <p:cNvPr id="69" name=""/>
          <p:cNvSpPr/>
          <p:nvPr/>
        </p:nvSpPr>
        <p:spPr>
          <a:xfrm>
            <a:off x="19573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stin P. Little, and Adam G. Carter J. Neurosci. 2012;32:12808-12819</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atomy does not predict functional connectivity.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677960" y="1079640"/>
            <a:ext cx="6730920" cy="5394240"/>
          </a:xfrm>
          <a:prstGeom prst="rect">
            <a:avLst/>
          </a:prstGeom>
          <a:ln w="0">
            <a:noFill/>
          </a:ln>
        </p:spPr>
      </p:pic>
      <p:sp>
        <p:nvSpPr>
          <p:cNvPr id="74" name=""/>
          <p:cNvSpPr/>
          <p:nvPr/>
        </p:nvSpPr>
        <p:spPr>
          <a:xfrm>
            <a:off x="16779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stin P. Little, and Adam G. Carter J. Neurosci. 2012;32:12808-12819</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fferent inputs target biased populations of spine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416400" y="1079640"/>
            <a:ext cx="3254400" cy="5394240"/>
          </a:xfrm>
          <a:prstGeom prst="rect">
            <a:avLst/>
          </a:prstGeom>
          <a:ln w="0">
            <a:noFill/>
          </a:ln>
        </p:spPr>
      </p:pic>
      <p:sp>
        <p:nvSpPr>
          <p:cNvPr id="79" name=""/>
          <p:cNvSpPr/>
          <p:nvPr/>
        </p:nvSpPr>
        <p:spPr>
          <a:xfrm>
            <a:off x="34164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stin P. Little, and Adam G. Carter J. Neurosci. 2012;32:12808-12819</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ine location and morphology impact synaptic efficacy.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3432240" y="1079640"/>
            <a:ext cx="3219480" cy="5394240"/>
          </a:xfrm>
          <a:prstGeom prst="rect">
            <a:avLst/>
          </a:prstGeom>
          <a:ln w="0">
            <a:noFill/>
          </a:ln>
        </p:spPr>
      </p:pic>
      <p:sp>
        <p:nvSpPr>
          <p:cNvPr id="84" name=""/>
          <p:cNvSpPr/>
          <p:nvPr/>
        </p:nvSpPr>
        <p:spPr>
          <a:xfrm>
            <a:off x="3432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stin P. Little, and Adam G. Carter J. Neurosci. 2012;32:12808-12819</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