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The offspring of mice given injections of recombinant IL-6 exhibit abnormal behaviors. a, Offspring of mice given injections of IL-6 but not IFNγ have a PPI deficit at a prepulse intensity of 85 dB (F(2,79) = 4.369; p &lt; 0.05). *p &lt; 0.05 versus control. b, PE offspring of control mice show normal LI compared with NPE animals, as do PE offspring of IFNγ-injected mothers. Offspring of IL-6-injected mothers, in contrast, do not demonstrate significant LI (F(3,103) = 10.22; p &lt; 0.0001). *p &lt; 0.05 versus NPE; **p &lt; 0.001 versus N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offspring of mice given injections of recombinant IL-6 exhibit abnormal behaviors. a, Offspring of mice given injections of IL-6 but not IFNγ have a PPI deficit at a prepulse intensity of 85 dB (F(2,79) = 4.369; p &lt; 0.05). *p &lt; 0.05 versus control. b, P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8000" y="6912000"/>
            <a:ext cx="1879560" cy="341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39800" y="2263680"/>
            <a:ext cx="8604360" cy="3025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ephen E. P. Smith et al. J. Neurosci. 2007;27:10695-107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7 by Society for Neuro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