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1587240" y="1006200"/>
            <a:ext cx="4593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1185480" y="4787640"/>
            <a:ext cx="5405400" cy="38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41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Abnormal behavior in MIA offspring is prevented by maternal treatment with anti-IL-6 antibody. a, Offspring of mice treated with poly(I:C) lack LI. Coinjection of anti-IL-6 with poly(I:C) restores significant LI, whereas coinjection of anti-IFNγ does not (F(4,132) = 7.566; p &lt; 0.0001). **p &lt; 0.001 versus NPE; *p &lt; 0.01 versus NPE. b, Compared with controls, the offspring of mice treated with poly(I:C) show a PPI deficit at a prepulse level of 85 dB. Coinjection with anti-IL-6 prevents this deficit. The PPI of offspring of mice given coinjections of poly(I:C) and anti-IFNγ or anti-IL-1β are not significantly different from control or poly(I:C) (F(4,270) = 4.195; p &lt; 0.005). *p &lt; 0.001 versus control; #p &lt; 0.05 versus poly(I:C). c, d, In the open-field test, offspring of mice treated with poly(I:C) make fewer entries than controls into the center (c) and travel less total distance (d). Offspring of mice given coinjections of anti-IL-6 enter the center as often as control mice [F(3,123) = 3.703; p &lt; 0.05; *p &lt; 0.05 vs control; #p &lt; 0.05 vs poly(I:C)] and move a similar total distance [F(3,123) = 6.666; p &lt; 0.0005; *p &lt; 0.01 vs control; #p &lt; 0.001 vs poly(I:C)]. Offspring of mice given coinjections of poly(I:C) and anti-IFNγ are not significantly different from controls or poly(I:C). e, Tracks recorded during the open-field session demonstrate increased thigmotaxis in offspring of poly(I:C)-treated mice compared with offspring of mice given coinjections of an IL-6 antibody. f, In the social interaction test, control mice show a strong preference for the social chamber [defined as (percentage of time in social chamber) − (percentage of time in opposite chamber)], whereas the offspring of poly(I:C)-treated mice show no such preference. Again, the deficit is corrected by maternal administration of IL-6 antibody (F(3,50) = 4.244; p &lt; 0.01). *p &lt; 0.05 versus control; #p &lt; 0.05 versus poly(I:C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4932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5920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394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4932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5920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7280" indent="-21600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420840"/>
            <a:ext cx="936288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bnormal behavior in MIA offspring is prevented by maternal treatment with anti-IL-6 antibody. a, Offspring of mice treated with poly(I:C) lack LI. Coinjection of anti-IL-6 with poly(I:C) restores significant LI, whereas coinjection of anti-IFNγ does not (F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08000" y="6912000"/>
            <a:ext cx="1879560" cy="3412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435400" y="1079640"/>
            <a:ext cx="5213160" cy="53942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435400" y="6583320"/>
            <a:ext cx="43192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tephen E. P. Smith et al. J. Neurosci. 2007;27:10695-107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8000" y="728964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©2007 by Society for Neuroscie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